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D1745-274A-485A-8E85-1444068A944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pic: B2b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sson: 2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tle: Enzymes and diges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ims: Explain how enzymes are involved in diges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rter: Write down everything you can remember from key stage 3 about digestion, eg. what it is; where it takes place.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pic: B2b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sson: 2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tle: Enzymes and diges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ims: Explain how enzymes are involved in diges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rter: Write down everything you can remember from key stage 3 about digestion, eg. what it is; where it takes place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are villi specialised to carry out their job of absorbing digested food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are villi specialised to carry out their job of absorbing digested food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llions provide large surface ar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ch villus has many microvilli to further increase surface ar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ch blood supply for absorbed nutrients to pass into and be taken around bod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anch of lymphatic system takes absorbed fatty acids and glycerol away to be used or stor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lli wall one cell thick for rapid passing through of nutri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llions provide large surface 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ch villus has many microvilli to further increase surface 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ch blood supply for absorbed nutrients to pass into and be taken around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anch of lymphatic system takes absorbed fatty acids and glycerol away to be used or sto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lli wall one cell thick for rapid passing through of nutri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gestive system summa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livary glands produce ________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ver produces ______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omach produces ________ + ________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ll bladder stores ________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ncreas  and small intestine both produce ________, ________, and ________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gestive system summ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livary glands produce 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ver produces 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omach produces ________ + 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ll bladder stores 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ncreas  and small intestine both produce ________, ________, and 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 do people have their stomachs staple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omach ba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 do people have their stomachs stapl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omach b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digestio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eaking down large, insoluble molecules into smaller, soluble molecules that can be absorbed through the wall of the small intest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breaks down the large molecule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gestive enzymes made by specialised cells inside gla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diges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eaking down large, insoluble molecules into smaller, soluble molecules that can be absorbed through the wall of the small intest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breaks down the large molecul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gestive enzymes made by specialised cells inside gla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 enzymes involved.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arbohydrates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 Simple sug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roteins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      Amino ac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ipids (fats)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  Fatty acids + glycero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 enzymes involved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arbohydrates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 Simple sug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roteins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      Amino ac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ipids (fats)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  Fatty acids + glyce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gestion animation (First 5 mins 15 sec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sten carefully and make notes in your book. You will be quizzed after the animation so listen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gestion animation (First 5 mins 15 sec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sten carefully and make notes in your book. You will be quizzed after the animation so liste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Mini test on digestive enzymes.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here are the following digested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arbohydrates        mouth and small intest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roteins         stomach and small intest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ats        small intest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. What are the following broken down into by digestive enzyme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arbohydrates  simple sug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roteins  amino ac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ats  fatty acids + glycero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3. Where are most enzymes produced?     Pancre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Mini test on digestive enzymes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here are the following digeste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arbohydrates        mouth and small intest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roteins         stomach and small intest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ats        small intest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. What are the following broken down into by digestive enzym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arbohydrates  simple sug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roteins  amino ac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ats  fatty acids + glyce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3. Where are most enzymes produced?     Pancr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 do you think there is acid in the stomach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ills bacteria in food – protects 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natures proteins – makes digestion easi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tivates stomach enzymes – these only work in acidic condi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 wondered why PEPSIN (stomach enzyme) doesn’t digest our own stomach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psin is inactive when first made and is only activated by HCL to start digesting proteins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 do you think there is acid in the stomach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ills bacteria in food – protects 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natures proteins – makes digestion eas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tivates stomach enzymes – these only work in acidic cond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 wondered why PEPSIN (stomach enzyme) doesn’t digest our own stomach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psin is inactive when first made and is only activated by HCL to start digesting proteins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oes bile do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le is produced in the liver and stored in the gall bladd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nzymes in the small intestine need an alkaline pH to work best, so bile passes into the small intestine and neutralises acid from the stomach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le also emulsifies fat droplets to increase their surface ar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oes bile d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le is produced in the liver and stored in the gall bladd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nzymes in the small intestine need an alkaline pH to work best, so bile passes into the small intestine and neutralises acid from the stomach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le also emulsifies fat droplets to increase their surface 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are villi in the small intestine adapted to absorb foo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are villi in the small intestine adapted to absorb foo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ACB71-32AE-40D1-A753-CD0E77F5B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88458-115C-473C-9973-097EBA254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FD2C1-A917-48EB-A62A-6CAEFEB39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5EE95-195E-41A7-928A-A640FA280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C6F9D-C780-4D33-A626-857A15B63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17287-DC34-4DE9-B200-649174D03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47241-E2CE-4A26-AB9D-B5B9935E9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17074-B2C2-4840-B57B-13700470F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6C79C-9AF0-4974-9418-BDF1A9CFA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7EAF1-5656-4B04-82D0-D89533158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2EA96-B050-4FB9-801F-420718EAC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32079-C0E9-45A0-886D-EFF0F9270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20DC0-0882-44A8-920C-DE68ACFF2C38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news.bbc.co.uk/1/hi/health/1372832.stm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uk.youtube.com/watch?v=AFbPHlhI13g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1680" y="4996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Topic: B2b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Lesson: 2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Title: Enzymes and diges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71320" y="2714400"/>
            <a:ext cx="7786440" cy="350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ims: Explain how enzymes are involved in diges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alibri"/>
              </a:rPr>
              <a:t>Starter: Write down everything you can remember from key stage 3 about digestion, eg. what it is; where it takes place.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599840"/>
            <a:ext cx="82296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How are villi specialised to carry out their job of absorbing digested food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2" descr="http://www.wikieducator.org/images/4/4d/Villus_labeled_and_coloured.JPG"/>
          <p:cNvPicPr/>
          <p:nvPr/>
        </p:nvPicPr>
        <p:blipFill>
          <a:blip r:embed="rId1"/>
          <a:stretch/>
        </p:blipFill>
        <p:spPr>
          <a:xfrm>
            <a:off x="785880" y="285840"/>
            <a:ext cx="784044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nsw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Millions provide </a:t>
            </a:r>
            <a:r>
              <a:rPr b="0" lang="en-GB" sz="3000" spc="-1" strike="noStrike">
                <a:solidFill>
                  <a:srgbClr val="ff0000"/>
                </a:solidFill>
                <a:latin typeface="Calibri"/>
              </a:rPr>
              <a:t>large surface are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Each villus has many </a:t>
            </a:r>
            <a:r>
              <a:rPr b="0" lang="en-GB" sz="3000" spc="-1" strike="noStrike">
                <a:solidFill>
                  <a:srgbClr val="ff0000"/>
                </a:solidFill>
                <a:latin typeface="Calibri"/>
              </a:rPr>
              <a:t>microvilli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 to further increase surface are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0000"/>
                </a:solidFill>
                <a:latin typeface="Calibri"/>
              </a:rPr>
              <a:t>Rich blood supply 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for absorbed nutrients to pass into and be taken around bod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0000"/>
                </a:solidFill>
                <a:latin typeface="Calibri"/>
              </a:rPr>
              <a:t>Branch of lymphatic system 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takes absorbed fatty acids and glycerol away to be used or store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Villi wall </a:t>
            </a:r>
            <a:r>
              <a:rPr b="0" lang="en-GB" sz="3000" spc="-1" strike="noStrike">
                <a:solidFill>
                  <a:srgbClr val="ff0000"/>
                </a:solidFill>
                <a:latin typeface="Calibri"/>
              </a:rPr>
              <a:t>one cell thick 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for rapid passing through of nutrient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Digestive system 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6840" y="1600200"/>
            <a:ext cx="3614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Salivary glands produce 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Liver produces 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Stomach produces ________ + 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Gall bladder stores 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Pancreas  and small intestine both produce ________, ________, and 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2" descr="http://www.llu.edu/llumc/transplant/images/liver-abdomen.jpg"/>
          <p:cNvPicPr/>
          <p:nvPr/>
        </p:nvPicPr>
        <p:blipFill>
          <a:blip r:embed="rId1"/>
          <a:stretch/>
        </p:blipFill>
        <p:spPr>
          <a:xfrm>
            <a:off x="4143240" y="1357200"/>
            <a:ext cx="500076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Why do people have their stomachs stapled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stomach b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alibri"/>
              </a:rPr>
              <a:t>What is digestio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Breaking down </a:t>
            </a:r>
            <a:r>
              <a:rPr b="0" i="1" lang="en-GB" sz="3200" spc="-1" strike="noStrike">
                <a:solidFill>
                  <a:srgbClr val="000000"/>
                </a:solidFill>
                <a:latin typeface="Calibri"/>
              </a:rPr>
              <a:t>large, insoluble molecules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nto </a:t>
            </a:r>
            <a:r>
              <a:rPr b="0" i="1" lang="en-GB" sz="3200" spc="-1" strike="noStrike">
                <a:solidFill>
                  <a:srgbClr val="000000"/>
                </a:solidFill>
                <a:latin typeface="Calibri"/>
              </a:rPr>
              <a:t>smaller, soluble molecules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at can be absorbed through the wall of the small intesti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alibri"/>
              </a:rPr>
              <a:t>What breaks down the large molecul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Digestive enzymes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made by specialised cells inside gla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e enzymes involved.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285480" y="1600200"/>
            <a:ext cx="864396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Carbohydrates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  Simple suga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Proteins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       Amino aci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Lipids (fats)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   Fatty acids + glycero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4" name="Straight Arrow Connector 4"/>
          <p:cNvCxnSpPr/>
          <p:nvPr/>
        </p:nvCxnSpPr>
        <p:spPr>
          <a:xfrm>
            <a:off x="3429000" y="1928880"/>
            <a:ext cx="235800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5" name="Straight Arrow Connector 6"/>
          <p:cNvCxnSpPr/>
          <p:nvPr/>
        </p:nvCxnSpPr>
        <p:spPr>
          <a:xfrm>
            <a:off x="3071880" y="3714840"/>
            <a:ext cx="235800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6" name="Straight Arrow Connector 7"/>
          <p:cNvCxnSpPr/>
          <p:nvPr/>
        </p:nvCxnSpPr>
        <p:spPr>
          <a:xfrm>
            <a:off x="2857680" y="5428800"/>
            <a:ext cx="207180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Digestion animation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(First 5 mins 15 sec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ff0000"/>
                </a:solidFill>
                <a:latin typeface="Calibri"/>
              </a:rPr>
              <a:t>Listen carefully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d make notes in your book. You will be quizzed after the animation so listen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ini test on digestive enzymes.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Where are the following digested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Carbohydrates        mouth and small intestin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Proteins         stomach and small intestin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Fats        small intestin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2. What are the following broken down into by digestive enzymes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Carbohydrates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 simple suga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Proteins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 amino acid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Fats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 fatty acids + glycero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3. Where are most enzymes produced?     Pancrea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4000680" y="2071800"/>
            <a:ext cx="4214520" cy="428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4"/>
          <p:cNvSpPr/>
          <p:nvPr/>
        </p:nvSpPr>
        <p:spPr>
          <a:xfrm>
            <a:off x="3000240" y="2571840"/>
            <a:ext cx="44294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5"/>
          <p:cNvSpPr/>
          <p:nvPr/>
        </p:nvSpPr>
        <p:spPr>
          <a:xfrm>
            <a:off x="2286000" y="3000240"/>
            <a:ext cx="2428920" cy="3574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"/>
          <p:cNvSpPr/>
          <p:nvPr/>
        </p:nvSpPr>
        <p:spPr>
          <a:xfrm>
            <a:off x="3857760" y="4286160"/>
            <a:ext cx="20714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7"/>
          <p:cNvSpPr/>
          <p:nvPr/>
        </p:nvSpPr>
        <p:spPr>
          <a:xfrm>
            <a:off x="2786040" y="4714920"/>
            <a:ext cx="207180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8"/>
          <p:cNvSpPr/>
          <p:nvPr/>
        </p:nvSpPr>
        <p:spPr>
          <a:xfrm>
            <a:off x="2214720" y="5214960"/>
            <a:ext cx="32144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9"/>
          <p:cNvSpPr/>
          <p:nvPr/>
        </p:nvSpPr>
        <p:spPr>
          <a:xfrm>
            <a:off x="6715080" y="5643720"/>
            <a:ext cx="207180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Why do you think there is acid in the stomach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0000"/>
                </a:solidFill>
                <a:latin typeface="Calibri"/>
              </a:rPr>
              <a:t>Kills bacteria in food 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– protects u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0000"/>
                </a:solidFill>
                <a:latin typeface="Calibri"/>
              </a:rPr>
              <a:t>Denatures proteins 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– makes digestion easie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0000"/>
                </a:solidFill>
                <a:latin typeface="Calibri"/>
              </a:rPr>
              <a:t>Activates stomach enzymes 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– these only work in acidic condition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Ever wondered why PEPSIN (stomach enzyme) doesn’t digest our own stomach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0000"/>
                </a:solidFill>
                <a:latin typeface="Calibri"/>
              </a:rPr>
              <a:t>Pepsin is inactive when first made and is only activated by HCL to start digesting proteins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.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What does bile do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Bile is produced in the </a:t>
            </a:r>
            <a:r>
              <a:rPr b="0" lang="en-GB" sz="3200" spc="-1" strike="noStrike">
                <a:solidFill>
                  <a:srgbClr val="ff0000"/>
                </a:solidFill>
                <a:latin typeface="Calibri"/>
              </a:rPr>
              <a:t>liver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and stored in the g</a:t>
            </a:r>
            <a:r>
              <a:rPr b="0" lang="en-GB" sz="3200" spc="-1" strike="noStrike">
                <a:solidFill>
                  <a:srgbClr val="ff0000"/>
                </a:solidFill>
                <a:latin typeface="Calibri"/>
              </a:rPr>
              <a:t>all bladd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enzymes in the small intestine need an alkaline pH to work best, so bile passes into the small intestine and </a:t>
            </a:r>
            <a:r>
              <a:rPr b="0" lang="en-GB" sz="3200" spc="-1" strike="noStrike">
                <a:solidFill>
                  <a:srgbClr val="ff0000"/>
                </a:solidFill>
                <a:latin typeface="Calibri"/>
              </a:rPr>
              <a:t>neutralises acid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from the stomach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Bile also </a:t>
            </a:r>
            <a:r>
              <a:rPr b="0" lang="en-GB" sz="3200" spc="-1" strike="noStrike">
                <a:solidFill>
                  <a:srgbClr val="ff0000"/>
                </a:solidFill>
                <a:latin typeface="Calibri"/>
              </a:rPr>
              <a:t>emulsifies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fat droplets to increase their surface are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How are villi in the small intestine adapted to absorb food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4" descr="http://biology.touchspin.com/images/villi.jpg"/>
          <p:cNvPicPr/>
          <p:nvPr/>
        </p:nvPicPr>
        <p:blipFill>
          <a:blip r:embed="rId1"/>
          <a:stretch/>
        </p:blipFill>
        <p:spPr>
          <a:xfrm>
            <a:off x="1071720" y="1714680"/>
            <a:ext cx="7286400" cy="47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2" descr="http://www.bbc.co.uk/schools/ks3bitesize/science/images/villi.gif"/>
          <p:cNvPicPr/>
          <p:nvPr/>
        </p:nvPicPr>
        <p:blipFill>
          <a:blip r:embed="rId1"/>
          <a:stretch/>
        </p:blipFill>
        <p:spPr>
          <a:xfrm>
            <a:off x="1071720" y="214200"/>
            <a:ext cx="7715160" cy="617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9T15:21:45Z</dcterms:created>
  <dc:creator>ICT Technical Services</dc:creator>
  <dc:description/>
  <dc:language>en-US</dc:language>
  <cp:lastModifiedBy>RomaK</cp:lastModifiedBy>
  <dcterms:modified xsi:type="dcterms:W3CDTF">2015-09-04T10:47:04Z</dcterms:modified>
  <cp:revision>14</cp:revision>
  <dc:subject/>
  <dc:title>Topic: B2b Lesson: 2 Title: Enzymes and digestion</dc:title>
</cp:coreProperties>
</file>