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88CB-221C-4B91-90E5-6B05F5DEEF9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lions provide larg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us has many microvilli to further increase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ch blood supply for absorbed nutrients to pass into and be taken around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nch of lymphatic system takes absorbed fatty acids and glycerol away to be used or sto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i wall one cell thick for rapid passing through of nutri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 b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diges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ing down large, insoluble molecules into smaller, soluble molecules that can be absorbed through the wall of the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breaks down the large molecul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enzymes made by specialised cells inside gl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imation (First 5 mins 15 sec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carefully and make notes in your book. You will be quizzed after the animation so list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arbohydrates  simple 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oteins  amino 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ats  fatty acids + glyce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lls bacteria in food – protects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atures proteins – makes digestion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ivates stomach enzymes – these only work in acidic cond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psin is inactive when first made and is only activated by HCL to start digesting protein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is produced in the liver and stored in the gall blad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neutralises acid from the stoma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le also emulsifies fat droplets to increase their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5EB-D7F0-43F2-81E2-DCD193A9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685C-7061-4F38-8348-432C0570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4A457-F70F-4B1D-99F6-66CD20E7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565-1B72-4565-B836-4C4E7584F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9A1A-10F9-470F-B076-F316D747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F74D-C22B-4BC4-89AE-A3983A62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810E-B667-47F5-A507-6A988BC8A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BD8A-A248-42BF-966D-7F24A21B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0BB9-70D5-44F7-8030-42F9EEC1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0C8-B3CE-4BC7-932A-446DDB00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7C4-CAC3-4BAC-8526-5F071E34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34E2-554D-4E01-B0B7-2DDB9A69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A37D-E226-4B66-BA94-F38D4553421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news.bbc.co.uk/1/hi/health/1372832.s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k.youtube.com/watch?v=AFbPHlhI13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16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opic: B2b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Lesson: 2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itle: Enzymes and diges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71320" y="2714400"/>
            <a:ext cx="778644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ims: Explain how enzymes are involved in dig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Starter: Write down everything you can remember from key stage 3 about digestion, eg. what it is; where it takes plac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How are villi specialised to carry out their job of absorbing digested food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http://www.wikieducator.org/images/4/4d/Villus_labeled_and_coloured.JPG"/>
          <p:cNvPicPr/>
          <p:nvPr/>
        </p:nvPicPr>
        <p:blipFill>
          <a:blip r:embed="rId1"/>
          <a:stretch/>
        </p:blipFill>
        <p:spPr>
          <a:xfrm>
            <a:off x="785880" y="285840"/>
            <a:ext cx="78404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Millions provide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larg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ach villus has many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microvilli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to further increase surface are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Rich blood supply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absorbed nutrients to pass into and be taken around bod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ranch of lymphatic system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akes absorbed fatty acids and glycerol away to be used or stor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Villi wall </a:t>
            </a: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one cell thick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or rapid passing through of nutrien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igestive system 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6840" y="1600200"/>
            <a:ext cx="3614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alivary glands produce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ver produces 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omach produces ________ +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Gall bladder stores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ancreas  and small intestine both produce ________, ________, and 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www.llu.edu/llumc/transplant/images/liver-abdomen.jpg"/>
          <p:cNvPicPr/>
          <p:nvPr/>
        </p:nvPicPr>
        <p:blipFill>
          <a:blip r:embed="rId1"/>
          <a:stretch/>
        </p:blipFill>
        <p:spPr>
          <a:xfrm>
            <a:off x="4143240" y="1357200"/>
            <a:ext cx="500076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people have their stomachs stapl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stomach b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is diges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reaking down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large, in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to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smaller, soluble molecul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at can be absorbed through the wall of the small intest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What breaks down the large molecul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Digestive enzym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ade by specialised cells inside gla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zymes involved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5480" y="1600200"/>
            <a:ext cx="864396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Simple sug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    Amino aci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ipids (fats)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   Fatty acids + glycer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4" name="Straight Arrow Connector 4"/>
          <p:cNvCxnSpPr/>
          <p:nvPr/>
        </p:nvCxnSpPr>
        <p:spPr>
          <a:xfrm>
            <a:off x="3429000" y="192888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6"/>
          <p:cNvCxnSpPr/>
          <p:nvPr/>
        </p:nvCxnSpPr>
        <p:spPr>
          <a:xfrm>
            <a:off x="3071880" y="3714840"/>
            <a:ext cx="2358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6" name="Straight Arrow Connector 7"/>
          <p:cNvCxnSpPr/>
          <p:nvPr/>
        </p:nvCxnSpPr>
        <p:spPr>
          <a:xfrm>
            <a:off x="2857680" y="5428800"/>
            <a:ext cx="20718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Digestion animation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(First 5 mins 15 se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sten carefully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d make notes in your book. You will be quizzed after the animation so liste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ini test on digestive enzymes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here are the following digest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       mout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        stomach and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       small intestin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2. What are the following broken down into by digestive enzy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simple sug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ein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amino aci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Fats </a:t>
            </a:r>
            <a:r>
              <a:rPr b="0" lang="en-GB" sz="3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fatty acids + glyce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3. Where are most enzymes produced?     Pancre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4000680" y="2071800"/>
            <a:ext cx="4214520" cy="428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3000240" y="2571840"/>
            <a:ext cx="4429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2286000" y="3000240"/>
            <a:ext cx="2428920" cy="357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3857760" y="4286160"/>
            <a:ext cx="2071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2786040" y="47149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8"/>
          <p:cNvSpPr/>
          <p:nvPr/>
        </p:nvSpPr>
        <p:spPr>
          <a:xfrm>
            <a:off x="2214720" y="5214960"/>
            <a:ext cx="321444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715080" y="5643720"/>
            <a:ext cx="2071800" cy="357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hy do you think there is acid in the stomach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Kills bacteria in food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protects u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Denatures protein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makes digestion easi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ctivates stomach enzymes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– these only work in acidic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Ever wondered why PEPSIN (stomach enzyme) doesn’t digest our own stomac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Pepsin is inactive when first made and is only activated by HCL to start digesting proteins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does bile d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is produced in the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stored in the g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all bladd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nzymes in the small intestine need an alkaline pH to work best, so bile passes into the small intestine and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neutralises acid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rom the stomach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le also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emulsifies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fat droplets to increase their surface are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How are villi in the small intestine adapted to absorb foo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http://biology.touchspin.com/images/villi.jpg"/>
          <p:cNvPicPr/>
          <p:nvPr/>
        </p:nvPicPr>
        <p:blipFill>
          <a:blip r:embed="rId1"/>
          <a:stretch/>
        </p:blipFill>
        <p:spPr>
          <a:xfrm>
            <a:off x="1071720" y="1714680"/>
            <a:ext cx="72864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http://www.bbc.co.uk/schools/ks3bitesize/science/images/villi.gif"/>
          <p:cNvPicPr/>
          <p:nvPr/>
        </p:nvPicPr>
        <p:blipFill>
          <a:blip r:embed="rId1"/>
          <a:stretch/>
        </p:blipFill>
        <p:spPr>
          <a:xfrm>
            <a:off x="1071720" y="214200"/>
            <a:ext cx="7715160" cy="617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5:21:45Z</dcterms:created>
  <dc:creator>ICT Technical Services</dc:creator>
  <dc:description/>
  <dc:language>en-US</dc:language>
  <cp:lastModifiedBy>RomaK</cp:lastModifiedBy>
  <dcterms:modified xsi:type="dcterms:W3CDTF">2015-09-04T10:47:04Z</dcterms:modified>
  <cp:revision>14</cp:revision>
  <dc:subject/>
  <dc:title>Topic: B2b Lesson: 2 Title: Enzymes and digestion</dc:title>
</cp:coreProperties>
</file>