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5FF1-385E-4C44-8F71-54BB2AB5E8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describe different model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d to investigate factors which control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n enzym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describe different model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d to investigate factors which control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n enzym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oC - den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40o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5oC - 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oC - den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40o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5oC - 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eat the protein  above its optimal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eat the protein  above its optimal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emperature lowered – enzyme can’t regain its correct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emperature lowered – enzyme can’t regain its correct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 Ionic bonds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charged residues at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 Ionic bonds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charged residues at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= Amount of substrate changed (or amount product for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= Amount of substrate changed (or amount product for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E253-28EE-40CE-BB66-1869E28C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16B6-4141-4211-8818-12C1567D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637D-83AF-4A1A-AB66-70E8F0FC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1E1-70AB-4E95-B824-6234796B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79A-BFFF-4AB1-AAF5-F50CCBA8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7EC-C1F6-4ED3-8F19-5A7D3DE1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AA0-4487-4833-AA27-38DE7357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22B-C6CF-4B7A-9DD5-0794A3AB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F9C-0D23-4A5E-A890-868A2990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26D-96B0-4365-A96E-10FFB312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D302-C56D-4FA8-872A-0F0B231C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D861-3246-42D8-BBA1-1A41B98A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47C0-32C9-414E-96A8-A6602D46F7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408760" y="836640"/>
            <a:ext cx="42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48760" y="1978200"/>
            <a:ext cx="855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objec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o describe different model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zyme action and to investigate factors which control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te of an enzym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" y="33804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4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281400" y="501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99640" y="23954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2771640" y="184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2771640" y="2420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771640" y="2781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700360" y="3068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899640" y="23954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 flipV="1">
            <a:off x="2771640" y="184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2771640" y="2420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2771640" y="2781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700360" y="3068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998520" y="1574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997800" y="21319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7800" y="270828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997800" y="342756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6751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8707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53276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58568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2090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5194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651888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3"/>
          <p:cNvSpPr/>
          <p:nvPr/>
        </p:nvSpPr>
        <p:spPr>
          <a:xfrm>
            <a:off x="2844720" y="1700280"/>
            <a:ext cx="3672000" cy="3024000"/>
          </a:xfrm>
          <a:custGeom>
            <a:avLst/>
            <a:gdLst/>
            <a:ahLst/>
            <a:rect l="l" t="t" r="r" b="b"/>
            <a:pathLst>
              <a:path w="2313" h="1905">
                <a:moveTo>
                  <a:pt x="0" y="1905"/>
                </a:moveTo>
                <a:cubicBezTo>
                  <a:pt x="488" y="952"/>
                  <a:pt x="976" y="0"/>
                  <a:pt x="1361" y="0"/>
                </a:cubicBezTo>
                <a:cubicBezTo>
                  <a:pt x="1746" y="0"/>
                  <a:pt x="2154" y="1588"/>
                  <a:pt x="2313" y="190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6751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8707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53276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8568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2090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5194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51888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3"/>
          <p:cNvSpPr/>
          <p:nvPr/>
        </p:nvSpPr>
        <p:spPr>
          <a:xfrm>
            <a:off x="2844720" y="1700280"/>
            <a:ext cx="3672000" cy="3024000"/>
          </a:xfrm>
          <a:custGeom>
            <a:avLst/>
            <a:gdLst/>
            <a:ahLst/>
            <a:rect l="l" t="t" r="r" b="b"/>
            <a:pathLst>
              <a:path w="2313" h="1905">
                <a:moveTo>
                  <a:pt x="0" y="1905"/>
                </a:moveTo>
                <a:cubicBezTo>
                  <a:pt x="488" y="952"/>
                  <a:pt x="976" y="0"/>
                  <a:pt x="1361" y="0"/>
                </a:cubicBezTo>
                <a:cubicBezTo>
                  <a:pt x="1746" y="0"/>
                  <a:pt x="2154" y="1588"/>
                  <a:pt x="2313" y="190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5292720" y="1628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6217200" y="143208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- de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 flipH="1" flipV="1">
            <a:off x="2195280" y="1412640"/>
            <a:ext cx="1871640" cy="71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42160" y="692280"/>
            <a:ext cx="20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- 4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 flipV="1">
            <a:off x="1476360" y="4365360"/>
            <a:ext cx="15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331560" y="5445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- in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82160" y="1052640"/>
            <a:ext cx="82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eat the protein  above it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ptimal tempera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ribozyme"/>
          <p:cNvPicPr/>
          <p:nvPr/>
        </p:nvPicPr>
        <p:blipFill>
          <a:blip r:embed="rId1"/>
          <a:stretch/>
        </p:blipFill>
        <p:spPr>
          <a:xfrm>
            <a:off x="684360" y="2787480"/>
            <a:ext cx="3097080" cy="2225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polypeptide"/>
          <p:cNvPicPr/>
          <p:nvPr/>
        </p:nvPicPr>
        <p:blipFill>
          <a:blip r:embed="rId2"/>
          <a:stretch/>
        </p:blipFill>
        <p:spPr>
          <a:xfrm>
            <a:off x="5940360" y="307512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48" name="Line 6"/>
          <p:cNvSpPr/>
          <p:nvPr/>
        </p:nvSpPr>
        <p:spPr>
          <a:xfrm>
            <a:off x="3995640" y="394020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ribozyme"/>
          <p:cNvPicPr/>
          <p:nvPr/>
        </p:nvPicPr>
        <p:blipFill>
          <a:blip r:embed="rId1"/>
          <a:stretch/>
        </p:blipFill>
        <p:spPr>
          <a:xfrm>
            <a:off x="684360" y="1413000"/>
            <a:ext cx="3097080" cy="2225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polypeptide"/>
          <p:cNvPicPr/>
          <p:nvPr/>
        </p:nvPicPr>
        <p:blipFill>
          <a:blip r:embed="rId2"/>
          <a:stretch/>
        </p:blipFill>
        <p:spPr>
          <a:xfrm>
            <a:off x="5940360" y="170028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52" name="Line 5"/>
          <p:cNvSpPr/>
          <p:nvPr/>
        </p:nvSpPr>
        <p:spPr>
          <a:xfrm>
            <a:off x="3995640" y="2565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462400" y="3933720"/>
            <a:ext cx="41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naturing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ribozyme"/>
          <p:cNvPicPr/>
          <p:nvPr/>
        </p:nvPicPr>
        <p:blipFill>
          <a:blip r:embed="rId1"/>
          <a:stretch/>
        </p:blipFill>
        <p:spPr>
          <a:xfrm>
            <a:off x="684360" y="1413000"/>
            <a:ext cx="3097080" cy="2225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polypeptide"/>
          <p:cNvPicPr/>
          <p:nvPr/>
        </p:nvPicPr>
        <p:blipFill>
          <a:blip r:embed="rId2"/>
          <a:stretch/>
        </p:blipFill>
        <p:spPr>
          <a:xfrm>
            <a:off x="5940360" y="170028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57" name="Line 5"/>
          <p:cNvSpPr/>
          <p:nvPr/>
        </p:nvSpPr>
        <p:spPr>
          <a:xfrm>
            <a:off x="3995640" y="2565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473560" y="3429000"/>
            <a:ext cx="41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naturing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600280" y="4221000"/>
            <a:ext cx="39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03200" y="5156280"/>
            <a:ext cx="83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n if temperature lowered 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nzyme can’t regain its correct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ock_key1"/>
          <p:cNvPicPr/>
          <p:nvPr/>
        </p:nvPicPr>
        <p:blipFill>
          <a:blip r:embed="rId1"/>
          <a:stretch/>
        </p:blipFill>
        <p:spPr>
          <a:xfrm>
            <a:off x="1243080" y="1881360"/>
            <a:ext cx="6657840" cy="309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654640" y="2602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Lock and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 flipV="1">
            <a:off x="529272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592344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 flipV="1">
            <a:off x="529272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92344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6426360" y="257796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2"/>
          <p:cNvSpPr/>
          <p:nvPr/>
        </p:nvSpPr>
        <p:spPr>
          <a:xfrm>
            <a:off x="971640" y="4724280"/>
            <a:ext cx="36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 flipV="1">
            <a:off x="9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 rot="16200000">
            <a:off x="-43164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8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24964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34964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6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05000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125892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6"/>
          <p:cNvSpPr/>
          <p:nvPr/>
        </p:nvSpPr>
        <p:spPr>
          <a:xfrm>
            <a:off x="298764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7"/>
          <p:cNvSpPr/>
          <p:nvPr/>
        </p:nvSpPr>
        <p:spPr>
          <a:xfrm flipV="1">
            <a:off x="3492360" y="191592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412308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4213440" y="249228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Disrupt Ionic bonds -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4286520" y="3116160"/>
            <a:ext cx="46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ffect charged residues at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40320" y="422280"/>
            <a:ext cx="56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840320" y="422280"/>
            <a:ext cx="56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495960" y="501336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 flipV="1">
            <a:off x="2771640" y="2276280"/>
            <a:ext cx="3168720" cy="24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495960" y="501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V="1">
            <a:off x="2771640" y="2781000"/>
            <a:ext cx="115272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392436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3495960" y="501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2771640" y="2781000"/>
            <a:ext cx="115272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92436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 flipV="1">
            <a:off x="3924360" y="206028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4287960" y="1700280"/>
            <a:ext cx="37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654640" y="2602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Lock and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69240" y="1647720"/>
            <a:ext cx="77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roper3"/>
          <p:cNvPicPr/>
          <p:nvPr/>
        </p:nvPicPr>
        <p:blipFill>
          <a:blip r:embed="rId1"/>
          <a:stretch/>
        </p:blipFill>
        <p:spPr>
          <a:xfrm>
            <a:off x="1116000" y="1341360"/>
            <a:ext cx="6913440" cy="4454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828520" y="260280"/>
            <a:ext cx="33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Induced 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lock_key1"/>
          <p:cNvPicPr/>
          <p:nvPr/>
        </p:nvPicPr>
        <p:blipFill>
          <a:blip r:embed="rId1"/>
          <a:stretch/>
        </p:blipFill>
        <p:spPr>
          <a:xfrm>
            <a:off x="2195640" y="765000"/>
            <a:ext cx="4552920" cy="2116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96000" y="33624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067000" y="33624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637080" y="357336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lock_key1"/>
          <p:cNvPicPr/>
          <p:nvPr/>
        </p:nvPicPr>
        <p:blipFill>
          <a:blip r:embed="rId1"/>
          <a:stretch/>
        </p:blipFill>
        <p:spPr>
          <a:xfrm>
            <a:off x="2195640" y="765000"/>
            <a:ext cx="4552920" cy="2116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96000" y="33624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067000" y="33624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3637080" y="357336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341440" y="40514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 +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3564000" y="429264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234400" y="407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437080" y="292428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zyme +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53800" y="299556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4211640" y="32115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592600" y="38354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 +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295880" y="411804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505680" y="38354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38920" y="134136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209920" y="134136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3780000" y="155268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2484360" y="203040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 +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>
            <a:off x="3706920" y="227160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5377320" y="2055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lock_key1"/>
          <p:cNvPicPr/>
          <p:nvPr/>
        </p:nvPicPr>
        <p:blipFill>
          <a:blip r:embed="rId1"/>
          <a:stretch/>
        </p:blipFill>
        <p:spPr>
          <a:xfrm>
            <a:off x="3276720" y="4581360"/>
            <a:ext cx="289692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86956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487960" y="131112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86956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87960" y="131112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02280" y="2571840"/>
            <a:ext cx="80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Amount of substrate changed (or amount product form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2:02:41Z</dcterms:created>
  <dc:creator>LFT User</dc:creator>
  <dc:description/>
  <dc:language>en-US</dc:language>
  <cp:lastModifiedBy>RomaK</cp:lastModifiedBy>
  <dcterms:modified xsi:type="dcterms:W3CDTF">2015-09-04T10:47:10Z</dcterms:modified>
  <cp:revision>11</cp:revision>
  <dc:subject/>
  <dc:title>enzymes models of action</dc:title>
</cp:coreProperties>
</file>