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3421-3B49-4730-9659-B422EBBEB2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examine what enzymes ar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hey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examine what enzymes ar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hey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nvolves a small number of key residues that actually bi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t of the protein structure is needed to maintain these residues in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nvolves a small number of key residues that actually bi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t of the protein structure is needed to maintain these residues in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some example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some example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imum amount of energy needed to start the reaction, leading to the formation of a high energy 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imum amount of energy needed to start the reaction, leading to the formation of a high energy 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reduc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of the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reduc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of the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finition for the follow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the structure of the protein is linked to its ability to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nzy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How does heating a mixture increase the chance that a chemical re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occur? Why can’t this approach be used in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rite a paragraph in your own words describing how enzymes act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lysts by lowering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7-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finition for the follow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the structure of the protein is linked to its ability to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nzy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How does heating a mixture increase the chance that a chemical re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occur? Why can’t this approach be used in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rite a paragraph in your own words describing how enzymes act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lysts by lowering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7-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too slow to main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increase temperatures/pressure in cells (fat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too slow to main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increase temperatures/pressure in cells (fat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77E7-45FF-44EA-90CE-E4568B4A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4008-3E17-44E2-ABEE-B28C962E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0ECB-1B1B-4678-B80C-07455B0A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CBC2-8B0C-4929-B0B0-D35C6602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C69C-ED1D-4624-A99E-6F4F5544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A76C-1F57-44D7-9313-587B89E2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0869-181A-40A4-9389-8A6ADA7E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1082-6D80-4AC5-946C-D918E510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6190-8D5C-4CAD-9438-C4E39155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20F-389A-4358-A31F-56303152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5B68-DD87-4F8B-88D9-8C6AEC51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E93F-27A4-4F7A-AE90-54C121D7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71D4-0AD6-414A-9E4C-483A02CE1C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264840" y="836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12720" y="1978200"/>
            <a:ext cx="802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arning objec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o examine what enzymes a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cribe how they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0800" y="33804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377720" y="620640"/>
            <a:ext cx="62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 Are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301040" y="1892160"/>
            <a:ext cx="639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nzyme binds to the substrates by it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ctiv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olypeptide"/>
          <p:cNvPicPr/>
          <p:nvPr/>
        </p:nvPicPr>
        <p:blipFill>
          <a:blip r:embed="rId1"/>
          <a:stretch/>
        </p:blipFill>
        <p:spPr>
          <a:xfrm>
            <a:off x="468360" y="3716280"/>
            <a:ext cx="3600360" cy="3044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ribozyme"/>
          <p:cNvPicPr/>
          <p:nvPr/>
        </p:nvPicPr>
        <p:blipFill>
          <a:blip r:embed="rId2"/>
          <a:stretch/>
        </p:blipFill>
        <p:spPr>
          <a:xfrm>
            <a:off x="4932360" y="3645000"/>
            <a:ext cx="38448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1900_fs"/>
          <p:cNvPicPr/>
          <p:nvPr/>
        </p:nvPicPr>
        <p:blipFill>
          <a:blip r:embed="rId1"/>
          <a:stretch/>
        </p:blipFill>
        <p:spPr>
          <a:xfrm>
            <a:off x="250920" y="620640"/>
            <a:ext cx="4464000" cy="3468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chymotrypsin_mechanism_3"/>
          <p:cNvPicPr/>
          <p:nvPr/>
        </p:nvPicPr>
        <p:blipFill>
          <a:blip r:embed="rId2"/>
          <a:stretch/>
        </p:blipFill>
        <p:spPr>
          <a:xfrm>
            <a:off x="5435640" y="692280"/>
            <a:ext cx="2724120" cy="3905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2958480" y="0"/>
            <a:ext cx="308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ctive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603720" y="4797360"/>
            <a:ext cx="823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ive site involves a small number of key residues that actually bin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st of the protein structure is needed to maintain these residues in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146600" y="549360"/>
            <a:ext cx="670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How do enzyme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3"/>
          <p:cNvSpPr/>
          <p:nvPr/>
        </p:nvSpPr>
        <p:spPr>
          <a:xfrm>
            <a:off x="277200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7" descr="image461"/>
          <p:cNvPicPr/>
          <p:nvPr/>
        </p:nvPicPr>
        <p:blipFill>
          <a:blip r:embed="rId1"/>
          <a:stretch/>
        </p:blipFill>
        <p:spPr>
          <a:xfrm>
            <a:off x="611280" y="1528920"/>
            <a:ext cx="3647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77200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image461"/>
          <p:cNvPicPr/>
          <p:nvPr/>
        </p:nvPicPr>
        <p:blipFill>
          <a:blip r:embed="rId1"/>
          <a:stretch/>
        </p:blipFill>
        <p:spPr>
          <a:xfrm>
            <a:off x="611280" y="1528920"/>
            <a:ext cx="3647880" cy="3657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5071320" y="1920960"/>
            <a:ext cx="261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ucrose + 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482360" y="4221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Glucose +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77200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image461"/>
          <p:cNvPicPr/>
          <p:nvPr/>
        </p:nvPicPr>
        <p:blipFill>
          <a:blip r:embed="rId1"/>
          <a:stretch/>
        </p:blipFill>
        <p:spPr>
          <a:xfrm>
            <a:off x="611280" y="1528920"/>
            <a:ext cx="3647880" cy="36576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5071320" y="1920960"/>
            <a:ext cx="261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ucrose + 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482360" y="4221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Glucose +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4500720" y="1700280"/>
            <a:ext cx="3887640" cy="1152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V="1">
            <a:off x="6804000" y="112536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7095240" y="69228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4284720" y="4076640"/>
            <a:ext cx="4032360" cy="9349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6443640" y="508464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6805440" y="57992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91960" y="476280"/>
            <a:ext cx="839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For a reaction to occur the suc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and water would have to collid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nough energy to break and form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91960" y="476280"/>
            <a:ext cx="8390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For a reaction to occur the suc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and water would have to collid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nough energy to break and form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is is the activ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reeform 5"/>
          <p:cNvSpPr/>
          <p:nvPr/>
        </p:nvSpPr>
        <p:spPr>
          <a:xfrm>
            <a:off x="1187280" y="198900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2411280" y="2133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3564000" y="2421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08760" y="765000"/>
            <a:ext cx="261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ucrose + 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10"/>
          <p:cNvGraphicFramePr/>
          <p:nvPr/>
        </p:nvGraphicFramePr>
        <p:xfrm>
          <a:off x="5219640" y="1773360"/>
          <a:ext cx="135108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773360"/>
                    <a:ext cx="13510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1"/>
          <p:cNvGraphicFramePr/>
          <p:nvPr/>
        </p:nvGraphicFramePr>
        <p:xfrm>
          <a:off x="6948360" y="1879560"/>
          <a:ext cx="144000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1879560"/>
                    <a:ext cx="14400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12"/>
          <p:cNvSpPr/>
          <p:nvPr/>
        </p:nvSpPr>
        <p:spPr>
          <a:xfrm>
            <a:off x="4987080" y="765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Glucose +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3635280" y="105264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560640" y="2133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1909080" y="2060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1261080" y="335772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6229440" y="3357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5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50" name="Group 6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51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14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54" name="Freeform 9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2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3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16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61160" y="216216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 flipV="1">
            <a:off x="3132000" y="155700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194720" y="12891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3132000" y="2565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143600" y="234936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 do we need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3132000" y="2852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070880" y="3278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me some exampl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60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61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64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3564000" y="335772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75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76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79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3564000" y="335772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95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96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99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3564000" y="335772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20"/>
          <p:cNvSpPr/>
          <p:nvPr/>
        </p:nvSpPr>
        <p:spPr>
          <a:xfrm>
            <a:off x="4500720" y="1773360"/>
            <a:ext cx="53784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1"/>
          <p:cNvSpPr/>
          <p:nvPr/>
        </p:nvSpPr>
        <p:spPr>
          <a:xfrm>
            <a:off x="4643280" y="170028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5075640" y="1268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218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219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222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3"/>
          <p:cNvSpPr/>
          <p:nvPr/>
        </p:nvSpPr>
        <p:spPr>
          <a:xfrm>
            <a:off x="3348000" y="3357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20"/>
          <p:cNvSpPr/>
          <p:nvPr/>
        </p:nvSpPr>
        <p:spPr>
          <a:xfrm>
            <a:off x="4500720" y="1773360"/>
            <a:ext cx="53784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1"/>
          <p:cNvSpPr/>
          <p:nvPr/>
        </p:nvSpPr>
        <p:spPr>
          <a:xfrm>
            <a:off x="4643280" y="170028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5075640" y="1268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3"/>
          <p:cNvSpPr/>
          <p:nvPr/>
        </p:nvSpPr>
        <p:spPr>
          <a:xfrm flipV="1">
            <a:off x="3851280" y="256500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2367360" y="198900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971640" y="1197000"/>
            <a:ext cx="712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minimum amount of energy needed to start the reaction, leading to the formation of a high energy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= The Activ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244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245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248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3348000" y="3357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20"/>
          <p:cNvSpPr/>
          <p:nvPr/>
        </p:nvSpPr>
        <p:spPr>
          <a:xfrm>
            <a:off x="4500720" y="1773360"/>
            <a:ext cx="53784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1"/>
          <p:cNvSpPr/>
          <p:nvPr/>
        </p:nvSpPr>
        <p:spPr>
          <a:xfrm>
            <a:off x="4643280" y="170028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5075640" y="1268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3"/>
          <p:cNvSpPr/>
          <p:nvPr/>
        </p:nvSpPr>
        <p:spPr>
          <a:xfrm flipV="1">
            <a:off x="3851280" y="256500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2367360" y="198900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rc 25"/>
          <p:cNvSpPr/>
          <p:nvPr/>
        </p:nvSpPr>
        <p:spPr>
          <a:xfrm>
            <a:off x="4067280" y="3357720"/>
            <a:ext cx="1368360" cy="1079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6"/>
          <p:cNvSpPr/>
          <p:nvPr/>
        </p:nvSpPr>
        <p:spPr>
          <a:xfrm flipV="1">
            <a:off x="4932360" y="2923920"/>
            <a:ext cx="107964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6138360" y="2440080"/>
            <a:ext cx="23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nzymes reduc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eight of the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2987640" y="1413000"/>
            <a:ext cx="3240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667680" y="35388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564120" y="2762280"/>
            <a:ext cx="8590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a definition for the following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Explain how the structure of the protein is linked to its ability to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an enzy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How does heating a mixture increase the chance that a chemical re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ll occur? Why can’t this approach be used in cel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Write a paragraph in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our own word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cribing how enzymes act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talysts by lowering activation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208320" y="155736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d page 57-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86880" y="2637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908000" y="3068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533320" y="31734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>
            <a:off x="1908000" y="3068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533320" y="31734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882000" y="44560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1908000" y="3068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533320" y="31734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82000" y="44560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 flipV="1">
            <a:off x="2268360" y="436572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828520" y="41688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ctions too slow to maintain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2268360" y="4797360"/>
            <a:ext cx="35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706120" y="4797360"/>
            <a:ext cx="54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’t increase temperatures/pressure in cells (fa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377720" y="620640"/>
            <a:ext cx="62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 Are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1301040" y="1892160"/>
            <a:ext cx="639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nzyme binds to the substrates by it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ctiv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9:09:45Z</dcterms:created>
  <dc:creator>LFT User</dc:creator>
  <dc:description/>
  <dc:language>en-US</dc:language>
  <cp:lastModifiedBy>RomaK</cp:lastModifiedBy>
  <dcterms:modified xsi:type="dcterms:W3CDTF">2015-09-04T10:47:20Z</dcterms:modified>
  <cp:revision>15</cp:revision>
  <dc:subject/>
  <dc:title>Enzymes what are they</dc:title>
</cp:coreProperties>
</file>