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DDF5-0C41-4DCD-8811-F5704683E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91E-462E-4E18-BFEE-9902D44E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919-8608-49F8-8A49-1B67BCE2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BC6-77C1-4E73-B318-0D17EA00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471-BCB2-4449-9C92-DB3567B2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B0A-5AE4-494D-96DE-568C7185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118-EB76-4B05-842B-92361DDB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DF1-B194-4E11-8601-83875F6E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A80-6860-4B47-BD2C-3B8A7E0E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E2C-7C7C-48A2-8529-8D9A69B6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593-1E20-41EB-B618-41B562C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83A-F743-4E4D-94E8-933627CC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7AB-ACDF-4038-BEB2-F9D5101B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C062-C63B-4D7A-A4BB-A290FA4EA3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64840" y="836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2720" y="1978200"/>
            <a:ext cx="802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examine what enzymes a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the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olypeptide"/>
          <p:cNvPicPr/>
          <p:nvPr/>
        </p:nvPicPr>
        <p:blipFill>
          <a:blip r:embed="rId1"/>
          <a:stretch/>
        </p:blipFill>
        <p:spPr>
          <a:xfrm>
            <a:off x="468360" y="3716280"/>
            <a:ext cx="3600360" cy="3044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ibozyme"/>
          <p:cNvPicPr/>
          <p:nvPr/>
        </p:nvPicPr>
        <p:blipFill>
          <a:blip r:embed="rId2"/>
          <a:stretch/>
        </p:blipFill>
        <p:spPr>
          <a:xfrm>
            <a:off x="4932360" y="3645000"/>
            <a:ext cx="3844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900_fs"/>
          <p:cNvPicPr/>
          <p:nvPr/>
        </p:nvPicPr>
        <p:blipFill>
          <a:blip r:embed="rId1"/>
          <a:stretch/>
        </p:blipFill>
        <p:spPr>
          <a:xfrm>
            <a:off x="250920" y="620640"/>
            <a:ext cx="4464000" cy="346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hymotrypsin_mechanism_3"/>
          <p:cNvPicPr/>
          <p:nvPr/>
        </p:nvPicPr>
        <p:blipFill>
          <a:blip r:embed="rId2"/>
          <a:stretch/>
        </p:blipFill>
        <p:spPr>
          <a:xfrm>
            <a:off x="5435640" y="692280"/>
            <a:ext cx="2724120" cy="39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958480" y="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ctiv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03720" y="479736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6600" y="54936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3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7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500720" y="1700280"/>
            <a:ext cx="388764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6804000" y="1125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95240" y="6922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284720" y="4076640"/>
            <a:ext cx="4032360" cy="934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443640" y="508464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805440" y="57992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91960" y="476280"/>
            <a:ext cx="839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91960" y="476280"/>
            <a:ext cx="839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is is the activ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5"/>
          <p:cNvSpPr/>
          <p:nvPr/>
        </p:nvSpPr>
        <p:spPr>
          <a:xfrm>
            <a:off x="1187280" y="198900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411280" y="2133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564000" y="2421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8760" y="76500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5219640" y="1773360"/>
          <a:ext cx="1351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1351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1"/>
          <p:cNvGraphicFramePr/>
          <p:nvPr/>
        </p:nvGraphicFramePr>
        <p:xfrm>
          <a:off x="6948360" y="1879560"/>
          <a:ext cx="144000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879560"/>
                    <a:ext cx="1440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12"/>
          <p:cNvSpPr/>
          <p:nvPr/>
        </p:nvSpPr>
        <p:spPr>
          <a:xfrm>
            <a:off x="4987080" y="765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3635280" y="1052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56064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909080" y="206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261080" y="3357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229440" y="3357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5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50" name="Group 6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5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4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54" name="Freeform 9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3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16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1160" y="21621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3132000" y="1557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94720" y="1289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132000" y="256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3600" y="2349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3132000" y="285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070880" y="3278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60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6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7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7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7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9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9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9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18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19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22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971640" y="1197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= The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44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45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48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>
            <a:off x="4067280" y="3357720"/>
            <a:ext cx="1368360" cy="107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V="1">
            <a:off x="4932360" y="292392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138360" y="244008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zymes reduc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eight of the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2987640" y="141300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667680" y="3538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64120" y="2762280"/>
            <a:ext cx="85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Write a paragraph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our own word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ing how enzymes act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208320" y="15573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6880" y="2637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2268360" y="4365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28520" y="4168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268360" y="479736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706120" y="479736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9:09:45Z</dcterms:created>
  <dc:creator>LFT User</dc:creator>
  <dc:description/>
  <dc:language>en-US</dc:language>
  <cp:lastModifiedBy>RomaK</cp:lastModifiedBy>
  <dcterms:modified xsi:type="dcterms:W3CDTF">2015-09-04T10:47:20Z</dcterms:modified>
  <cp:revision>15</cp:revision>
  <dc:subject/>
  <dc:title>Enzymes what are they</dc:title>
</cp:coreProperties>
</file>