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3D19-A5D7-4D19-A2D9-2D2EA42F0E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263-8901-4CC0-B86E-78920CE5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886-9502-4B8B-9AEA-D6BABD9D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019-F29C-4723-A247-B3B38888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46B3-D2DB-43A6-B520-6A2BA297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595-DBA8-42B3-A07D-1954B7C7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DAB-87D0-4201-BF5F-7ECCA2BF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798-4945-48A7-8470-5600B20D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508-1E82-4354-8540-F2697F5B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663-C7C9-4454-BE7D-E99B4FBA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850-424C-4F33-95AB-0AB0D529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3ED-A386-49AB-802C-CF1EE741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969-8DAC-482B-9A3F-36172E01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CC71-A5F3-40F1-A1C6-C5119204C4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64840" y="836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2720" y="1978200"/>
            <a:ext cx="802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examine what enzymes a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the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olypeptide"/>
          <p:cNvPicPr/>
          <p:nvPr/>
        </p:nvPicPr>
        <p:blipFill>
          <a:blip r:embed="rId1"/>
          <a:stretch/>
        </p:blipFill>
        <p:spPr>
          <a:xfrm>
            <a:off x="468360" y="3716280"/>
            <a:ext cx="3600360" cy="3044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ribozyme"/>
          <p:cNvPicPr/>
          <p:nvPr/>
        </p:nvPicPr>
        <p:blipFill>
          <a:blip r:embed="rId2"/>
          <a:stretch/>
        </p:blipFill>
        <p:spPr>
          <a:xfrm>
            <a:off x="4932360" y="3645000"/>
            <a:ext cx="3844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900_fs"/>
          <p:cNvPicPr/>
          <p:nvPr/>
        </p:nvPicPr>
        <p:blipFill>
          <a:blip r:embed="rId1"/>
          <a:stretch/>
        </p:blipFill>
        <p:spPr>
          <a:xfrm>
            <a:off x="250920" y="620640"/>
            <a:ext cx="4464000" cy="346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hymotrypsin_mechanism_3"/>
          <p:cNvPicPr/>
          <p:nvPr/>
        </p:nvPicPr>
        <p:blipFill>
          <a:blip r:embed="rId2"/>
          <a:stretch/>
        </p:blipFill>
        <p:spPr>
          <a:xfrm>
            <a:off x="5435640" y="692280"/>
            <a:ext cx="2724120" cy="39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2958480" y="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ctiv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03720" y="479736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6600" y="54936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3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7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500720" y="1700280"/>
            <a:ext cx="3887640" cy="11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6804000" y="112536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95240" y="6922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284720" y="4076640"/>
            <a:ext cx="4032360" cy="9349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6443640" y="508464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805440" y="57992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91960" y="476280"/>
            <a:ext cx="839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91960" y="476280"/>
            <a:ext cx="839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is is the activ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5"/>
          <p:cNvSpPr/>
          <p:nvPr/>
        </p:nvSpPr>
        <p:spPr>
          <a:xfrm>
            <a:off x="1187280" y="198900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2411280" y="2133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564000" y="2421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8760" y="76500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5219640" y="1773360"/>
          <a:ext cx="1351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1351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1"/>
          <p:cNvGraphicFramePr/>
          <p:nvPr/>
        </p:nvGraphicFramePr>
        <p:xfrm>
          <a:off x="6948360" y="1879560"/>
          <a:ext cx="144000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1879560"/>
                    <a:ext cx="1440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12"/>
          <p:cNvSpPr/>
          <p:nvPr/>
        </p:nvSpPr>
        <p:spPr>
          <a:xfrm>
            <a:off x="4987080" y="765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3635280" y="105264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56064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1909080" y="2060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1261080" y="33577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229440" y="3357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5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50" name="Group 6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5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4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54" name="Freeform 9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2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3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16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1160" y="216216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V="1">
            <a:off x="3132000" y="1557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94720" y="12891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132000" y="256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3600" y="2349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3132000" y="285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070880" y="3278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60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6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64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7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7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7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9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9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9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18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19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22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971640" y="119700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= The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44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45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48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>
            <a:off x="4067280" y="3357720"/>
            <a:ext cx="1368360" cy="1079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 flipV="1">
            <a:off x="4932360" y="292392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138360" y="2440080"/>
            <a:ext cx="23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zymes reduc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eight of the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2987640" y="1413000"/>
            <a:ext cx="3240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667680" y="35388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564120" y="2762280"/>
            <a:ext cx="85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Write a paragraph 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our own word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bing how enzymes act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208320" y="155736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86880" y="2637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2268360" y="436572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28520" y="4168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2268360" y="479736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706120" y="479736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9:09:45Z</dcterms:created>
  <dc:creator>LFT User</dc:creator>
  <dc:description/>
  <dc:language>en-US</dc:language>
  <cp:lastModifiedBy>RomaK</cp:lastModifiedBy>
  <dcterms:modified xsi:type="dcterms:W3CDTF">2015-09-04T10:47:20Z</dcterms:modified>
  <cp:revision>15</cp:revision>
  <dc:subject/>
  <dc:title>Enzymes what are they</dc:title>
</cp:coreProperties>
</file>