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72336-DFC2-42D7-9C01-F86467B17B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R 12 - AS Biolog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th Novem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 Po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202 86-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ntrols their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es of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rate/enzyme concent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erature, p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 inhibi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ctical to demonstrate “Catalase” activity in different tissue s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enzymes as Globular Proteins which act as catal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ir catalytic action in terms of lowering activation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actors affecting reaction rates and inhib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Up to 1012 f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sess an active site such as a cleft in the molecule onto which other substrate molecules can bind to form an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t ‘create’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chemical reaction a substrate is converted into a produ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053-B805-48BA-9AE5-F0C79C9CC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277A-D3CE-4CB3-BE33-E6794AE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D46-A49D-4C29-BE73-6DF8DE528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64AC-20AE-4350-BDFC-9DC614EA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979B-CE60-4DDB-B642-A3ACDD5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94A6-2B3C-4AB7-A150-8B81AA57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919F-398D-42AF-B263-7B06A370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6BC6-B947-4EFD-8CA8-38FD3257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651E-82D5-4D5A-9EF1-9CFE211D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F4EE-0E4A-4A89-9A98-7BC44B77E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759-DDC6-48BD-B34C-F6266B5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AFD5-CDF0-48ED-8D3F-864241F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AE17-9CAD-4757-A55C-0D91E7FBD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YEAR 12 - AS Biology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29</a:t>
            </a:r>
            <a:r>
              <a:rPr b="0" lang="en-GB" sz="3200" spc="-1" strike="noStrike" baseline="30000">
                <a:solidFill>
                  <a:srgbClr val="000000"/>
                </a:solidFill>
                <a:latin typeface="Bauhaus 93"/>
              </a:rPr>
              <a:t>th</a:t>
            </a:r>
            <a:r>
              <a:rPr b="0" lang="en-GB" sz="3200" spc="-1" strike="noStrike">
                <a:solidFill>
                  <a:srgbClr val="000000"/>
                </a:solidFill>
                <a:latin typeface="Bauhaus 93"/>
              </a:rPr>
              <a:t> November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1773000"/>
            <a:ext cx="6400800" cy="386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Enzy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Rounded MT Bold"/>
              </a:rPr>
              <a:t>Mr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lecule Geome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bstrate molecule fits into the enzyme like a lock &amp;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shape distorts or it changes other factors to make the reaction h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ctivation Ener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 ‘natural’ reaction the product has a lower energy than the substrate so equilibrium will take it in the direction of the produ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ever there is an energy ‘barrier’ to be over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zymes lower the activation energy required to bring about a rea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catalase reduces the activation energy for the reduction of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86-f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enzyme4"/>
          <p:cNvPicPr/>
          <p:nvPr/>
        </p:nvPicPr>
        <p:blipFill>
          <a:blip r:embed="rId1"/>
          <a:stretch/>
        </p:blipFill>
        <p:spPr>
          <a:xfrm>
            <a:off x="1403280" y="1198440"/>
            <a:ext cx="645480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action rate fa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strate concen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itially rate increases with substrate con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enzyme8"/>
          <p:cNvPicPr/>
          <p:nvPr/>
        </p:nvPicPr>
        <p:blipFill>
          <a:blip r:embed="rId1"/>
          <a:stretch/>
        </p:blipFill>
        <p:spPr>
          <a:xfrm>
            <a:off x="5003640" y="2533680"/>
            <a:ext cx="3384720" cy="27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sson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zyme unit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they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Activation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hat controls their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ates of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ubstrate/enzyme concen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emperature, p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zyme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  <a:ea typeface="Arial"/>
              </a:rPr>
              <a:t>inhibi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to demonstrate “Catalase” activity in different tissue s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evious related topics cover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nzyme controlled rea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pase, protease, pectinase, amylase et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ck &amp; Key” molecular stru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By the end of the unit you should be able to: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enzymes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Globular Protei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which act as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taly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plain their catalytic action in terms of lower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ctivation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examples of enzyme-catalysed re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factors affect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action rat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hib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scribe how to investigate these effects experimen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9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80" y="115920"/>
            <a:ext cx="896472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zymes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defined as a BIOLOGICAL catalyst i.e. something that speeds up a reaction. 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p to 10</a:t>
            </a:r>
            <a:r>
              <a:rPr b="0" lang="en-GB" sz="1800" spc="-1" strike="noStrike" u="sng" baseline="30000">
                <a:solidFill>
                  <a:srgbClr val="000000"/>
                </a:solidFill>
                <a:uFillTx/>
                <a:latin typeface="Arial"/>
              </a:rPr>
              <a:t>12</a:t>
            </a: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f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sually end in ‘…ase’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overed in 1900 in yeasts. Some 40,000 in human ce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 almost every metabolic reaction in living organis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re globular proteins coiled into a very precise 3-dimentional shape with hydrophilic side chains making them solu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sess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active s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uch as a cleft in the molecule onto which other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substr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molecules can bind to form an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enzyme-substrate comp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ce the substrate has been either synthesised or split, enzymes can be re-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not ‘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rea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’ re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dely used in industrial clea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ten require co-factors (co-enzymes) to function – metal ions, or vitamin deriv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q10"/>
          <p:cNvPicPr/>
          <p:nvPr/>
        </p:nvPicPr>
        <p:blipFill>
          <a:blip r:embed="rId1"/>
          <a:stretch/>
        </p:blipFill>
        <p:spPr>
          <a:xfrm>
            <a:off x="1403280" y="1341360"/>
            <a:ext cx="59770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mylase + starch subst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enzyme3"/>
          <p:cNvPicPr/>
          <p:nvPr/>
        </p:nvPicPr>
        <p:blipFill>
          <a:blip r:embed="rId1"/>
          <a:stretch/>
        </p:blipFill>
        <p:spPr>
          <a:xfrm>
            <a:off x="1547640" y="1428840"/>
            <a:ext cx="5904000" cy="41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ow do enzymes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ion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y chemical reaction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substrat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nverted into a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produ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an enzyme catalysed reaction the substrate first binds to the active site of the enzyme to form the enzyme-substrate 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enzyme1"/>
          <p:cNvPicPr/>
          <p:nvPr/>
        </p:nvPicPr>
        <p:blipFill>
          <a:blip r:embed="rId1"/>
          <a:stretch/>
        </p:blipFill>
        <p:spPr>
          <a:xfrm>
            <a:off x="1332000" y="2752560"/>
            <a:ext cx="8031240" cy="22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7T18:15:51Z</dcterms:created>
  <dc:creator>Potter</dc:creator>
  <dc:description/>
  <dc:language>en-US</dc:language>
  <cp:lastModifiedBy>RomaK</cp:lastModifiedBy>
  <dcterms:modified xsi:type="dcterms:W3CDTF">2015-09-04T10:47:36Z</dcterms:modified>
  <cp:revision>28</cp:revision>
  <dc:subject/>
  <dc:title>YEAR 12 AS Biology 19th October 2005</dc:title>
</cp:coreProperties>
</file>