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5CEB-328B-43BB-80DB-EB5E7BF45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2 - AS Bi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th Nov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747-1678-455C-95B6-5074919E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94C-38A8-4DFA-932D-5D8BB77D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1E8-611E-4A28-9BA8-5203E59F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7F1-2CBB-42BC-9A74-ACA360A0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E3B-02B2-4A10-87BE-0810B6FE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5B3-0EA0-42B6-9C3C-1AF8A18A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8DC-848A-41F9-9328-4F247891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1E1-1210-41BD-9596-E8483D08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C56-2576-44DE-917C-2FF8CBE0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B25-E439-41B0-8762-E1B5A262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28F-AA75-4BF7-9572-CCAC186E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150-77D3-46F4-BE51-E9EB9C24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1E4E-B9C9-4B7D-8FFC-F85708747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YEAR 12 - AS Biolo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2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Bauhaus 93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r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86-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nzyme4"/>
          <p:cNvPicPr/>
          <p:nvPr/>
        </p:nvPicPr>
        <p:blipFill>
          <a:blip r:embed="rId1"/>
          <a:stretch/>
        </p:blipFill>
        <p:spPr>
          <a:xfrm>
            <a:off x="1403280" y="1198440"/>
            <a:ext cx="6454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enzyme8"/>
          <p:cNvPicPr/>
          <p:nvPr/>
        </p:nvPicPr>
        <p:blipFill>
          <a:blip r:embed="rId1"/>
          <a:stretch/>
        </p:blipFill>
        <p:spPr>
          <a:xfrm>
            <a:off x="5003640" y="2533680"/>
            <a:ext cx="3384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ctiv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controls thei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te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bstrate/enzyme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zym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to demonstrate “Catalase” activity in different tissu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enzymes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Globular Prote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ct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their catalytic action in terms of lower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factors affect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action 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p to 10</a:t>
            </a:r>
            <a:r>
              <a:rPr b="0" lang="en-GB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tive s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ch as a cleft in the molecule onto which oth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ecules can bind to form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10"/>
          <p:cNvPicPr/>
          <p:nvPr/>
        </p:nvPicPr>
        <p:blipFill>
          <a:blip r:embed="rId1"/>
          <a:stretch/>
        </p:blipFill>
        <p:spPr>
          <a:xfrm>
            <a:off x="1403280" y="1341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nzyme3"/>
          <p:cNvPicPr/>
          <p:nvPr/>
        </p:nvPicPr>
        <p:blipFill>
          <a:blip r:embed="rId1"/>
          <a:stretch/>
        </p:blipFill>
        <p:spPr>
          <a:xfrm>
            <a:off x="1547640" y="1428840"/>
            <a:ext cx="59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y chemical reaction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ubst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nverted into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nzyme1"/>
          <p:cNvPicPr/>
          <p:nvPr/>
        </p:nvPicPr>
        <p:blipFill>
          <a:blip r:embed="rId1"/>
          <a:stretch/>
        </p:blipFill>
        <p:spPr>
          <a:xfrm>
            <a:off x="1332000" y="2752560"/>
            <a:ext cx="8031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15:51Z</dcterms:created>
  <dc:creator>Potter</dc:creator>
  <dc:description/>
  <dc:language>en-US</dc:language>
  <cp:lastModifiedBy>RomaK</cp:lastModifiedBy>
  <dcterms:modified xsi:type="dcterms:W3CDTF">2015-09-04T10:47:36Z</dcterms:modified>
  <cp:revision>28</cp:revision>
  <dc:subject/>
  <dc:title>YEAR 12 AS Biology 19th October 2005</dc:title>
</cp:coreProperties>
</file>