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1AFC-5757-44F5-9296-EB4CCEE76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oh Wil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ngi e.g. Candida, Aspergill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 e.g. Plasmodium, Schistosom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ms e.g. Ascaris, Taen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s of tr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ontact e.g. touching, handshaking, or sexual intercour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rect contact e.g. food, water or droplets in air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vectors e.g. insect bites in malaria, plague and oncho, dog bite in rab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pathogens there is an infective dose and a lethal d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t factors that confer pathogenicity inclu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i that facilitate attachmen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sules that interfere with phagocyt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ases that break down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vary antigens to evade 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l Pathogene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xin production. Toxins fall into two categories; exotoxins and end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released by both gram positive and gram negative bacteri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Clostridium (neurotoxins) and Bacillus (enterotoxin) (+)  and E. coli and Vibrio (enterotoxin) (-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d by bacteria such as Salmon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ectious Diseas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ole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ative Agent: Plasmodium (4 speci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st and move to reproduce in RBCs resulting in their rupture and the associated chill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Infected R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 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laria -Trea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rmal Micro flora &amp; its impor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difications to Koch’s Postu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Diplococcus pneumonia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Pathoge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id-Fast e.g. Myco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herical described as cocc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d shaped described as bacill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Streptococcus pyogenes, Staphylococcus aureus, Bacillus anthracis, Clostridium tetani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Positive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m Negati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-lactamases and protea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.g. Neisseria, Salmonella typhi, E. coli, Yersinia pestis, Vibrio cholera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217-2C28-4D7D-A793-E06BD44BB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29D-2582-4F76-883A-276F0438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FD2-6372-4A9B-A82A-01B6E12F2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06AD-2686-4C20-8B55-F1023FD3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FD262-3F24-4D58-82C0-D32C2C469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E6CA8-0A54-4B9B-AC3F-6DFA5FAE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162F3-C413-4DE4-B248-DEFCE226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90693F-EEDF-4589-855D-E515CB33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4DAE7A-800D-48D0-A786-4F3D0608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949ED-AB8F-485E-A94F-BF9722F67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9647B-D562-4233-88D7-BE24240FB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47A3-1ABD-4482-AF24-10CA240F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846A1-2F48-4236-8B84-CAE04628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169CB-FE8D-424B-B03C-FAE2773B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B05E1F-3CA8-4ED5-BAD9-E7F58EC5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54C6B-4189-4178-BBDB-40DF409F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EDEDA-4736-4941-B053-A7C89C69B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D4B4-62AA-470C-A49A-CBA3688F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B05-8FAF-4D02-A02F-777467E8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9486-E0C7-468E-BFB7-7CD72003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9F45-94BA-4108-9B6D-60FE18FA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6F7F-1F35-4C31-BDF2-2EA6B4D8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CFE-6C66-46CB-BAB8-B2ED2D6A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7A7-BE2C-4085-A562-88165AD76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75A1-3247-4E7A-8ED7-43C2E4F2D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EA63-07DF-49DF-A246-1900A833163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1752120"/>
            <a:ext cx="822960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Infectious Diseases</a:t>
            </a:r>
            <a:br>
              <a:rPr sz="6000"/>
            </a:br>
            <a:br>
              <a:rPr sz="60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y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doh Wils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8" name="Picture 7" descr="E906945C"/>
          <p:cNvPicPr/>
          <p:nvPr/>
        </p:nvPicPr>
        <p:blipFill>
          <a:blip r:embed="rId1"/>
          <a:srcRect l="43654" t="10454" r="0" b="56452"/>
          <a:stretch/>
        </p:blipFill>
        <p:spPr>
          <a:xfrm>
            <a:off x="533520" y="1447920"/>
            <a:ext cx="822960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es (Eukaryotic Pathoge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gi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Candida, Aspergill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ozoa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lasmod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chistoso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ms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scari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e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pieces of DNA or RNA surrounded by protein coat. The may b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capsulated e.g. HIV, HBV, measles, mumps, influenza, rab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encapsulated e.g.adenoviruses, HPV, Pol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4" name="Picture 6" descr="CB114BB6"/>
          <p:cNvPicPr/>
          <p:nvPr/>
        </p:nvPicPr>
        <p:blipFill>
          <a:blip r:embed="rId1"/>
          <a:srcRect l="58262" t="64115" r="0" b="14926"/>
          <a:stretch/>
        </p:blipFill>
        <p:spPr>
          <a:xfrm>
            <a:off x="4724280" y="1219320"/>
            <a:ext cx="4419720" cy="490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F89C934"/>
          <p:cNvPicPr/>
          <p:nvPr/>
        </p:nvPicPr>
        <p:blipFill>
          <a:blip r:embed="rId2"/>
          <a:srcRect l="60349" t="47319" r="0" b="38048"/>
          <a:stretch/>
        </p:blipFill>
        <p:spPr>
          <a:xfrm>
            <a:off x="0" y="1600200"/>
            <a:ext cx="4648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odes of transmis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ct contact e.g. touching, handshaking, or sexual intercour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irect contact e.g. food, water or droplets in ai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 vectors e.g. insect bites in malaria, plague and oncho, dog bite in rab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quence of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 of causative agent to susceptible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herence of the agent to a target tissu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onization and invasio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age to host by toxins or other mechanism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it from hos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rvival outside host long enough for step 1 to occu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Virulent Factor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 all pathogens there is an infective dose and a lethal do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t factors that confer pathogenicity includ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li that facilitate attachmen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sules that interfere with phag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tox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ases that break down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vary antigens to evade antibod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Bacterial Pathogene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xin production. Toxins fall into two categories; 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exotoxi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</a:t>
            </a:r>
            <a:r>
              <a:rPr b="0" lang="en-US" sz="3200" spc="-1" strike="noStrike">
                <a:solidFill>
                  <a:srgbClr val="00ffcc"/>
                </a:solidFill>
                <a:latin typeface="Arial"/>
              </a:rPr>
              <a:t> endotoxins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asiveness, where bacteria grow to large numbers locally and produce enzymes that damage host tissu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labile (60-100 degrees for 30 mins) proteins produced and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elease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y both gram positive and gram negative bacter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ostridium (neurotoxins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Bacillus (enterotoxin) (+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E. col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Vibrio (enterotoxin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-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ndotoxi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 heat stable (100 degrees for 1 hr) lipopolysaccharide produced only by gram –ve bacteria. They remain attached to cell wa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fever and shock and is of lower toxicity compared to exotoxi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d by bacteria such as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almonel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fectious Disease Term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i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ndem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portun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socom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irul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Vibrio cholera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: severe diarrhoea up to 20 liters a day of “rice water stool”, vomiting, muscle cramps caused by loss fluid and electrolyt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Vibrio adheres to the small intestinal lining, multiply and produce the enterotoxin choleragen which causes the accumulation of cAMP. An increased secretion of water and electrolyte from the cells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Feacally contaminated water, crabs and vegetables fertilized with human faeces. Has been eradicated most developed countries but a new strain discovered in 1992 is threatening another pandemi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holer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cubation period: 12-48 hou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, culture of sample from faeces or vom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Prevention: Purification of water, washing of ha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Treatment: administration of solution of glucose and electrolyte orally or intravenously; tetracycline antibiotic oral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ative Agent: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Plasmodium (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 speci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ymptoms (Clinical features): fever, chills, anaemia, headache, nausea, shivering, convulsions (esp. in under 5 yr olds) enlarged splee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esis: site of action of pathogen include: liver, RBC, brain. The vector, female Anopheles mosquito, transfer pathogen during feed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Epidemiology: Endemic in 91 tropical and subtropical countries. Invade the liver 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and move to reproduce in RBCs resulting in their rupture and the associated chil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Incubation Period: 1 – 2 week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Lab diagnosis: Microsco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n Infected RB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9" name="Picture 5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 Preven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duce the number of mosquitoes; destruction of larvae and adult mosquitoes by biological and chemical control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void being bitten; protective clothing and creams, treated bed n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 of drugs to prevent infection; chemoprophylax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Malaria -Treatmen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ation therapy: Artesunate Amodiaqu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hogen: M. tuberculosis (pulmonary TB); M. bovis(GI T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mission: airborne droplets (NB MTB is dessication resistant and survives in dried sputum); unpasteurized mil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nical features: prolonged coughing sometimes with bloody sputum, shortness of breath, fever, sweating , weight lo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uberculosi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No toxin production. Pathogenicty is by invasiveness that produce characteristic lesions in the lung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Epidemiology: pathogen triggers acute inflammatory response + forms tubercle – giant cells containing MTB and surrounded by epithelial cells. Tubercles heals by fibrosis and calcification. Can desseminate via bloodstream to other internal org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Normal Micro flora &amp; its importanc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ent the growth of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imulate the immune system to produce antibodies that cross-react with invading pathoge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d in digestion of cellulose in rumina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e essential nutr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Koch’s Postula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ame pathogen must be  present in every case of the disea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diseased host and grown in pure cultur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from the pure culture must cause the disease when it is introduced into a healthy but susceptible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athogen must be isolated from the inoculated animal and be shown to be the original organis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odifications to Koch’s Postula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infectious agents cannot be cultured e.g. pr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pathogens have non-virulent strains whose presence does not link them to a disease. E.g. non encapsulate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iplococcus pneumonia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ypes of Pathoge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po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am nega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id-Fast 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yco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herical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cc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e3e3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d shaped describ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acill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ck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periplasmic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outer membrane (caps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reptococcus pyogenes, Staphylococcus aureus, Bacillus anthracis, Clostridium tetani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Positive wall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3" name="Picture 6" descr="DFFD6E10"/>
          <p:cNvPicPr/>
          <p:nvPr/>
        </p:nvPicPr>
        <p:blipFill>
          <a:blip r:embed="rId1"/>
          <a:srcRect l="0" t="18664" r="74961" b="64245"/>
          <a:stretch/>
        </p:blipFill>
        <p:spPr>
          <a:xfrm>
            <a:off x="0" y="1295280"/>
            <a:ext cx="4419720" cy="5105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7574CE9E"/>
          <p:cNvPicPr/>
          <p:nvPr/>
        </p:nvPicPr>
        <p:blipFill>
          <a:blip r:embed="rId2"/>
          <a:srcRect l="25042" t="6954" r="4000" b="62404"/>
          <a:stretch/>
        </p:blipFill>
        <p:spPr>
          <a:xfrm>
            <a:off x="4419720" y="1295280"/>
            <a:ext cx="47242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Gram Negativ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que fea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 peptidoglycan w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 periplasmic space containing different degradative enzymes such as deoxyribonucleases,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lactamases and prote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er membrane containing lipid A, an endotox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eisseri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almonella typhi, E. coli, Yersinia pestis, Vibrio cholera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3T22:19:54Z</dcterms:created>
  <dc:creator>ANDOH</dc:creator>
  <dc:description/>
  <dc:language>en-US</dc:language>
  <cp:lastModifiedBy>RomaK</cp:lastModifiedBy>
  <dcterms:modified xsi:type="dcterms:W3CDTF">2015-09-04T10:48:08Z</dcterms:modified>
  <cp:revision>16</cp:revision>
  <dc:subject/>
  <dc:title>Infectious Diseases</dc:title>
</cp:coreProperties>
</file>