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D60D-7014-4120-B490-C39D047B47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5E4-7D4E-4CC5-8005-9B8DF08B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9B1-9674-4427-AFE8-D0F9C059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C00-BD07-4DBE-B7A4-49459F8B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D07-09E8-40F5-88D4-620211CD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FF2A-136C-4289-8CCA-6A124559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DCCD-DFDE-45FF-A479-A61F43CE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0DF1-D4B0-4162-9AC9-21AB738D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C6D9-778B-41A9-914F-1276A90F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A465-B93A-4106-9FA0-A47A1AC2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2082-8E86-456B-B54A-E55203F0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BD90-60C4-4267-B04C-8729A093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3AD-0A9C-4FE5-9D13-119461B9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23E8-E73F-499D-8DAF-E3180384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2B81-2002-4DD4-9A45-CA0AC88C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3A9D-0EE3-4982-B087-488100E9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A392-B8DD-4DA6-9E95-EB590267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D8D0-7A1A-4A2D-8010-F9D8FFDF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F9F-A09C-4012-9C60-EEE5D924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626-CFE1-46E3-99A9-C3D5E3C2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725-78EE-43B2-9121-C2A9C79D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422-7E66-4270-A3B8-7570ABB1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277-83D9-4882-AEAA-D005C5D4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211-BC2A-4900-894A-40606059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ABE-2C1E-45DE-B941-0E58758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8C5D-32A9-486A-846E-1510EEF1AF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F52E-7388-4272-AEDA-839FFC1E9094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kidne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kidney"/>
          <p:cNvPicPr/>
          <p:nvPr/>
        </p:nvPicPr>
        <p:blipFill>
          <a:blip r:embed="rId1"/>
          <a:stretch/>
        </p:blipFill>
        <p:spPr>
          <a:xfrm>
            <a:off x="4876920" y="1600200"/>
            <a:ext cx="355104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Kidney1"/>
          <p:cNvPicPr/>
          <p:nvPr/>
        </p:nvPicPr>
        <p:blipFill>
          <a:blip r:embed="rId2"/>
          <a:stretch/>
        </p:blipFill>
        <p:spPr>
          <a:xfrm>
            <a:off x="1676520" y="1752480"/>
            <a:ext cx="2528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nally-rec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3" descr="kidney-nephron"/>
          <p:cNvPicPr/>
          <p:nvPr/>
        </p:nvPicPr>
        <p:blipFill>
          <a:blip r:embed="rId1"/>
          <a:stretch/>
        </p:blipFill>
        <p:spPr>
          <a:xfrm>
            <a:off x="2209680" y="533520"/>
            <a:ext cx="64008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and bladder pos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kidneys position"/>
          <p:cNvPicPr/>
          <p:nvPr/>
        </p:nvPicPr>
        <p:blipFill>
          <a:blip r:embed="rId1"/>
          <a:stretch/>
        </p:blipFill>
        <p:spPr>
          <a:xfrm>
            <a:off x="5334120" y="1828800"/>
            <a:ext cx="3306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idneys place"/>
          <p:cNvPicPr/>
          <p:nvPr/>
        </p:nvPicPr>
        <p:blipFill>
          <a:blip r:embed="rId2"/>
          <a:stretch/>
        </p:blipFill>
        <p:spPr>
          <a:xfrm>
            <a:off x="106668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transpl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4" descr="kidney new trans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Picture 5" descr="kidney x sect"/>
          <p:cNvPicPr/>
          <p:nvPr/>
        </p:nvPicPr>
        <p:blipFill>
          <a:blip r:embed="rId1"/>
          <a:stretch/>
        </p:blipFill>
        <p:spPr>
          <a:xfrm>
            <a:off x="762120" y="1676520"/>
            <a:ext cx="4267080" cy="430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ney  x sect pic"/>
          <p:cNvPicPr/>
          <p:nvPr/>
        </p:nvPicPr>
        <p:blipFill>
          <a:blip r:embed="rId2"/>
          <a:stretch/>
        </p:blipFill>
        <p:spPr>
          <a:xfrm>
            <a:off x="5334120" y="1676520"/>
            <a:ext cx="334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X section to 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5" descr="kidney nefron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Picture 5" descr="kidn nefron"/>
          <p:cNvPicPr/>
          <p:nvPr/>
        </p:nvPicPr>
        <p:blipFill>
          <a:blip r:embed="rId1"/>
          <a:stretch/>
        </p:blipFill>
        <p:spPr>
          <a:xfrm>
            <a:off x="5638680" y="914400"/>
            <a:ext cx="329580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idney bowmans cap"/>
          <p:cNvPicPr/>
          <p:nvPr/>
        </p:nvPicPr>
        <p:blipFill>
          <a:blip r:embed="rId2"/>
          <a:stretch/>
        </p:blipFill>
        <p:spPr>
          <a:xfrm>
            <a:off x="533520" y="990720"/>
            <a:ext cx="4800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3" descr="kidn glomerulus"/>
          <p:cNvPicPr/>
          <p:nvPr/>
        </p:nvPicPr>
        <p:blipFill>
          <a:blip r:embed="rId1"/>
          <a:stretch/>
        </p:blipFill>
        <p:spPr>
          <a:xfrm>
            <a:off x="3581280" y="685800"/>
            <a:ext cx="4334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diagram - bowm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4" descr="kidn bowmans diag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&amp; reabsor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5" descr="kidn nefron"/>
          <p:cNvPicPr/>
          <p:nvPr/>
        </p:nvPicPr>
        <p:blipFill>
          <a:blip r:embed="rId1"/>
          <a:stretch/>
        </p:blipFill>
        <p:spPr>
          <a:xfrm>
            <a:off x="2743200" y="1523880"/>
            <a:ext cx="4708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1:49:06Z</dcterms:created>
  <dc:creator>RM</dc:creator>
  <dc:description/>
  <dc:language>en-US</dc:language>
  <cp:lastModifiedBy>RomaK</cp:lastModifiedBy>
  <dcterms:modified xsi:type="dcterms:W3CDTF">2015-09-04T10:48:15Z</dcterms:modified>
  <cp:revision>9</cp:revision>
  <dc:subject/>
  <dc:title>The kidney</dc:title>
</cp:coreProperties>
</file>