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9.jpeg" ContentType="image/jpeg"/>
  <Override PartName="/ppt/media/image14.jpeg" ContentType="image/jpeg"/>
  <Override PartName="/ppt/media/image8.png" ContentType="image/png"/>
  <Override PartName="/ppt/media/image13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3680F-FDFE-48E6-A859-B624EA38F45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The kidne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kidn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Finally-recap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ally-rec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Kidney and bladder posi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dney and bladder 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Kidney transplan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dney trans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Cross sec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ss s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X section to nephr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section to neph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nephr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ph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filtra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Filtration diagram - bowman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tration diagram - bowm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Filtration &amp; reabsorp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tration &amp; reabsor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0A9C-AAF5-442F-907C-8F8C90DD9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BCE4-0770-4696-A70C-63E3146AE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9940-75FA-4E8F-94D0-183BC7B0B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7C1C-52C2-4436-852E-093FCDC1B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FDB81-9BE6-41C5-AC9A-75C32A708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DCB07-B650-44D9-A932-3EF10FE19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71C12-158C-4835-BCD8-30989334B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FB1F0-BD56-4C86-A910-598F442EB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3A882-6672-4DF5-8D32-2F61756FE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281F4-1178-427B-BC8A-53BFEF779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292EB-47BD-4EA9-BF51-307759F94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E7DB-4153-4FE3-A6FA-CBF1BB35C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3A3AC-5A7B-462A-8287-1A8152270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C4546-6CDD-4AA0-B598-23CBAD9EA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53CAB-F44A-42AD-9A4C-BE2EE4B9F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B2B92-6FA0-4543-B0D7-B877749D8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9AB0B-93EC-4FBF-8537-7096DCE64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8F90-9BAC-4A82-B9AF-BC08EBD06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5F29-0891-4DFA-9CC0-9B4793838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A9BD-A3BD-4EA4-9D1B-2669DA562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FE6E-9C31-49C9-96CA-B476B5312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CDAB-7A7D-408E-AD01-025A8C531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F4E7-40D8-4BD1-AD1F-292DA5E02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6801-31F0-47F6-8BB8-9DB974F2F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Rectangle 3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005C5-02C2-462C-990C-9D42DE06CCA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Rectangle 3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" name="Freeform 9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D386A-1862-4306-943A-3A982116B885}" type="slidenum"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Times New Roman"/>
              </a:rPr>
              <a:t>The kidne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08" name="Picture 5" descr="kidney"/>
          <p:cNvPicPr/>
          <p:nvPr/>
        </p:nvPicPr>
        <p:blipFill>
          <a:blip r:embed="rId1"/>
          <a:stretch/>
        </p:blipFill>
        <p:spPr>
          <a:xfrm>
            <a:off x="4876920" y="1600200"/>
            <a:ext cx="3551040" cy="41194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Kidney1"/>
          <p:cNvPicPr/>
          <p:nvPr/>
        </p:nvPicPr>
        <p:blipFill>
          <a:blip r:embed="rId2"/>
          <a:stretch/>
        </p:blipFill>
        <p:spPr>
          <a:xfrm>
            <a:off x="1676520" y="1752480"/>
            <a:ext cx="252864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-360" y="533160"/>
            <a:ext cx="2133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Times New Roman"/>
              </a:rPr>
              <a:t>Finally-recap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30" name="Picture 3" descr="kidney-nephron"/>
          <p:cNvPicPr/>
          <p:nvPr/>
        </p:nvPicPr>
        <p:blipFill>
          <a:blip r:embed="rId1"/>
          <a:stretch/>
        </p:blipFill>
        <p:spPr>
          <a:xfrm>
            <a:off x="2209680" y="533520"/>
            <a:ext cx="6400800" cy="578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Times New Roman"/>
              </a:rPr>
              <a:t>Kidney and bladder positio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11" name="Picture 6" descr="kidneys position"/>
          <p:cNvPicPr/>
          <p:nvPr/>
        </p:nvPicPr>
        <p:blipFill>
          <a:blip r:embed="rId1"/>
          <a:stretch/>
        </p:blipFill>
        <p:spPr>
          <a:xfrm>
            <a:off x="5334120" y="1828800"/>
            <a:ext cx="3306600" cy="41148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8" descr="kidneys place"/>
          <p:cNvPicPr/>
          <p:nvPr/>
        </p:nvPicPr>
        <p:blipFill>
          <a:blip r:embed="rId2"/>
          <a:stretch/>
        </p:blipFill>
        <p:spPr>
          <a:xfrm>
            <a:off x="1066680" y="1676520"/>
            <a:ext cx="37339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Times New Roman"/>
              </a:rPr>
              <a:t>Kidney transplan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14" name="Picture 4" descr="kidney new trans"/>
          <p:cNvPicPr/>
          <p:nvPr/>
        </p:nvPicPr>
        <p:blipFill>
          <a:blip r:embed="rId1"/>
          <a:stretch/>
        </p:blipFill>
        <p:spPr>
          <a:xfrm>
            <a:off x="762120" y="1447920"/>
            <a:ext cx="7619760" cy="49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Times New Roman"/>
              </a:rPr>
              <a:t>Cross sectio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16" name="Picture 5" descr="kidney x sect"/>
          <p:cNvPicPr/>
          <p:nvPr/>
        </p:nvPicPr>
        <p:blipFill>
          <a:blip r:embed="rId1"/>
          <a:stretch/>
        </p:blipFill>
        <p:spPr>
          <a:xfrm>
            <a:off x="762120" y="1676520"/>
            <a:ext cx="4267080" cy="43066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kidney  x sect pic"/>
          <p:cNvPicPr/>
          <p:nvPr/>
        </p:nvPicPr>
        <p:blipFill>
          <a:blip r:embed="rId2"/>
          <a:stretch/>
        </p:blipFill>
        <p:spPr>
          <a:xfrm>
            <a:off x="5334120" y="1676520"/>
            <a:ext cx="33494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Times New Roman"/>
              </a:rPr>
              <a:t>X section to nephro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19" name="Picture 5" descr="kidney nefron"/>
          <p:cNvPicPr/>
          <p:nvPr/>
        </p:nvPicPr>
        <p:blipFill>
          <a:blip r:embed="rId1"/>
          <a:stretch/>
        </p:blipFill>
        <p:spPr>
          <a:xfrm>
            <a:off x="1752480" y="1676520"/>
            <a:ext cx="5791320" cy="47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3124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Times New Roman"/>
              </a:rPr>
              <a:t>nephro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21" name="Picture 5" descr="kidn nefron"/>
          <p:cNvPicPr/>
          <p:nvPr/>
        </p:nvPicPr>
        <p:blipFill>
          <a:blip r:embed="rId1"/>
          <a:stretch/>
        </p:blipFill>
        <p:spPr>
          <a:xfrm>
            <a:off x="5638680" y="914400"/>
            <a:ext cx="3295800" cy="55627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kidney bowmans cap"/>
          <p:cNvPicPr/>
          <p:nvPr/>
        </p:nvPicPr>
        <p:blipFill>
          <a:blip r:embed="rId2"/>
          <a:stretch/>
        </p:blipFill>
        <p:spPr>
          <a:xfrm>
            <a:off x="533520" y="990720"/>
            <a:ext cx="480060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2895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Times New Roman"/>
              </a:rPr>
              <a:t>filtratio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24" name="Picture 3" descr="kidn glomerulus"/>
          <p:cNvPicPr/>
          <p:nvPr/>
        </p:nvPicPr>
        <p:blipFill>
          <a:blip r:embed="rId1"/>
          <a:stretch/>
        </p:blipFill>
        <p:spPr>
          <a:xfrm>
            <a:off x="3581280" y="685800"/>
            <a:ext cx="433404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Times New Roman"/>
              </a:rPr>
              <a:t>Filtration diagram - bowman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26" name="Picture 4" descr="kidn bowmans diag"/>
          <p:cNvPicPr/>
          <p:nvPr/>
        </p:nvPicPr>
        <p:blipFill>
          <a:blip r:embed="rId1"/>
          <a:stretch/>
        </p:blipFill>
        <p:spPr>
          <a:xfrm>
            <a:off x="838080" y="1295280"/>
            <a:ext cx="762012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Times New Roman"/>
              </a:rPr>
              <a:t>Filtration &amp; reabsorptio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28" name="Picture 5" descr="kidn nefron"/>
          <p:cNvPicPr/>
          <p:nvPr/>
        </p:nvPicPr>
        <p:blipFill>
          <a:blip r:embed="rId1"/>
          <a:stretch/>
        </p:blipFill>
        <p:spPr>
          <a:xfrm>
            <a:off x="2743200" y="1523880"/>
            <a:ext cx="4708440" cy="50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3T11:49:06Z</dcterms:created>
  <dc:creator>RM</dc:creator>
  <dc:description/>
  <dc:language>en-US</dc:language>
  <cp:lastModifiedBy>RomaK</cp:lastModifiedBy>
  <dcterms:modified xsi:type="dcterms:W3CDTF">2015-09-04T10:48:15Z</dcterms:modified>
  <cp:revision>9</cp:revision>
  <dc:subject/>
  <dc:title>The kidney</dc:title>
</cp:coreProperties>
</file>