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6B79-A7E3-49B5-86A9-3907842599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The kidn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nally-reca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-re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Kidney and bladder pos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 and bladder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Kidney transpl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dney trans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X section to nephr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section to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ephr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 diagram - bowma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 diagram - bow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ltration &amp; reabsorp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ion &amp; re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1111-A2EF-4361-90C8-C8BF0FDE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A39-F2C6-49FE-BF71-7CB388B2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F6F-7D06-4685-A9EB-4BAE191F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4EB8-A558-4638-A68F-054E84EA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B488-C0F2-40AD-8E6D-1051F6E0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FF06-3F7D-416D-9A35-2928B2D7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C311-8328-495C-A134-F27FD032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D805-212D-4FC9-A3C6-4B7C338B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10E6-7E1E-47C7-84FD-9FD79725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1EAF-83BC-467C-AAAE-642955B4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D765-0CE4-4195-8FB7-9A776CAF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5BDF-0274-4970-B55E-7BEF2B1B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7E14-1791-4286-BE4A-72F55015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0E6D-ED3A-4FD8-B23F-91542CAD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AF34-CA3D-4720-ACFC-C7D78BB2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476A-738C-4216-8C61-945085C6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4DB1-8C81-49CB-BEDD-A489174E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BD67-6149-40F6-8B4A-AA4749CF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3756-DA6D-46F1-B141-D78A4EBA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10F4-9FBD-4DDD-A195-FE7D2D8C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E6AC-A071-4503-91F5-D5C6EE73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185C-246F-4D59-9EED-28A77ECF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6F7C-B03D-491B-9CDA-E0C18473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970-29FC-4B65-A582-C5845CFD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8AB7-390C-48FB-A7FA-73A5F5AC7F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4CFF-8A80-47E1-A210-AF56F6665B07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e kidne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8" name="Picture 5" descr="kidney"/>
          <p:cNvPicPr/>
          <p:nvPr/>
        </p:nvPicPr>
        <p:blipFill>
          <a:blip r:embed="rId1"/>
          <a:stretch/>
        </p:blipFill>
        <p:spPr>
          <a:xfrm>
            <a:off x="4876920" y="1600200"/>
            <a:ext cx="3551040" cy="4119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Kidney1"/>
          <p:cNvPicPr/>
          <p:nvPr/>
        </p:nvPicPr>
        <p:blipFill>
          <a:blip r:embed="rId2"/>
          <a:stretch/>
        </p:blipFill>
        <p:spPr>
          <a:xfrm>
            <a:off x="1676520" y="1752480"/>
            <a:ext cx="25286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nally-reca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0" name="Picture 3" descr="kidney-nephron"/>
          <p:cNvPicPr/>
          <p:nvPr/>
        </p:nvPicPr>
        <p:blipFill>
          <a:blip r:embed="rId1"/>
          <a:stretch/>
        </p:blipFill>
        <p:spPr>
          <a:xfrm>
            <a:off x="2209680" y="533520"/>
            <a:ext cx="64008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Kidney and bladder posi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1" name="Picture 6" descr="kidneys position"/>
          <p:cNvPicPr/>
          <p:nvPr/>
        </p:nvPicPr>
        <p:blipFill>
          <a:blip r:embed="rId1"/>
          <a:stretch/>
        </p:blipFill>
        <p:spPr>
          <a:xfrm>
            <a:off x="5334120" y="1828800"/>
            <a:ext cx="330660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kidneys place"/>
          <p:cNvPicPr/>
          <p:nvPr/>
        </p:nvPicPr>
        <p:blipFill>
          <a:blip r:embed="rId2"/>
          <a:stretch/>
        </p:blipFill>
        <p:spPr>
          <a:xfrm>
            <a:off x="1066680" y="1676520"/>
            <a:ext cx="3733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Kidney transpla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4" name="Picture 4" descr="kidney new trans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Cross se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6" name="Picture 5" descr="kidney x sect"/>
          <p:cNvPicPr/>
          <p:nvPr/>
        </p:nvPicPr>
        <p:blipFill>
          <a:blip r:embed="rId1"/>
          <a:stretch/>
        </p:blipFill>
        <p:spPr>
          <a:xfrm>
            <a:off x="762120" y="1676520"/>
            <a:ext cx="4267080" cy="4306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kidney  x sect pic"/>
          <p:cNvPicPr/>
          <p:nvPr/>
        </p:nvPicPr>
        <p:blipFill>
          <a:blip r:embed="rId2"/>
          <a:stretch/>
        </p:blipFill>
        <p:spPr>
          <a:xfrm>
            <a:off x="5334120" y="1676520"/>
            <a:ext cx="334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X section to nephr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9" name="Picture 5" descr="kidney nefron"/>
          <p:cNvPicPr/>
          <p:nvPr/>
        </p:nvPicPr>
        <p:blipFill>
          <a:blip r:embed="rId1"/>
          <a:stretch/>
        </p:blipFill>
        <p:spPr>
          <a:xfrm>
            <a:off x="1752480" y="1676520"/>
            <a:ext cx="579132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nephr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1" name="Picture 5" descr="kidn nefron"/>
          <p:cNvPicPr/>
          <p:nvPr/>
        </p:nvPicPr>
        <p:blipFill>
          <a:blip r:embed="rId1"/>
          <a:stretch/>
        </p:blipFill>
        <p:spPr>
          <a:xfrm>
            <a:off x="5638680" y="914400"/>
            <a:ext cx="3295800" cy="556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kidney bowmans cap"/>
          <p:cNvPicPr/>
          <p:nvPr/>
        </p:nvPicPr>
        <p:blipFill>
          <a:blip r:embed="rId2"/>
          <a:stretch/>
        </p:blipFill>
        <p:spPr>
          <a:xfrm>
            <a:off x="533520" y="990720"/>
            <a:ext cx="4800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4" name="Picture 3" descr="kidn glomerulus"/>
          <p:cNvPicPr/>
          <p:nvPr/>
        </p:nvPicPr>
        <p:blipFill>
          <a:blip r:embed="rId1"/>
          <a:stretch/>
        </p:blipFill>
        <p:spPr>
          <a:xfrm>
            <a:off x="3581280" y="685800"/>
            <a:ext cx="4334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 diagram - bowma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6" name="Picture 4" descr="kidn bowmans diag"/>
          <p:cNvPicPr/>
          <p:nvPr/>
        </p:nvPicPr>
        <p:blipFill>
          <a:blip r:embed="rId1"/>
          <a:stretch/>
        </p:blipFill>
        <p:spPr>
          <a:xfrm>
            <a:off x="838080" y="1295280"/>
            <a:ext cx="76201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Filtration &amp; reabsorp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8" name="Picture 5" descr="kidn nefron"/>
          <p:cNvPicPr/>
          <p:nvPr/>
        </p:nvPicPr>
        <p:blipFill>
          <a:blip r:embed="rId1"/>
          <a:stretch/>
        </p:blipFill>
        <p:spPr>
          <a:xfrm>
            <a:off x="2743200" y="1523880"/>
            <a:ext cx="47084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3T11:49:06Z</dcterms:created>
  <dc:creator>RM</dc:creator>
  <dc:description/>
  <dc:language>en-US</dc:language>
  <cp:lastModifiedBy>RomaK</cp:lastModifiedBy>
  <dcterms:modified xsi:type="dcterms:W3CDTF">2015-09-04T10:48:15Z</dcterms:modified>
  <cp:revision>9</cp:revision>
  <dc:subject/>
  <dc:title>The kidney</dc:title>
</cp:coreProperties>
</file>