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9F89-B703-47C0-A02A-A009DE899B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The kidn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nally-reca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-re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Kidney and bladder pos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dney and bladder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Kidney transpl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dney trans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X section to nephr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section to 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ephr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 diagram - bowma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 diagram - bow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 &amp; reabsorp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 &amp; re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802D-49D5-413D-B719-394783E3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97B8-F8DD-400E-95F4-13C15DEC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C055-2E5E-4CE0-8B5B-C3553B74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1B09-478E-4FC4-9095-C35E23C9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70BC-FC68-4ED4-A7CB-07E0F576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AA2D-44C3-4CCD-AFD3-798B2F03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BE3D-41BF-4589-8F0F-A2A3A366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B084-724B-47FB-9EF8-A11E1CFD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F93D-9C21-4609-B707-244D3411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85F8-882F-4E26-8C22-B22A6781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A615-BB72-44AD-B5C2-B0CDFF84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B93E-D18A-4946-A4CC-B9BEF566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0396-336D-49F7-9A39-EDD854B1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33D1-307E-45B3-9CFC-262BD7AF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7B1D-864F-4C4C-8BB0-8F455401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D799-F31E-4B68-87B9-62685DD6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CA3C-F65A-41F3-854C-C65AB223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19AE-651E-458D-844B-691BC05C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023B-85E4-450A-980A-610C2E68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9B1A-650D-44E0-9F40-19A113B8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28E8-B34B-403F-A6D2-A185982E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B6B1-5500-4717-B278-0BDB3DA4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B892-B19F-4B7B-BDCA-67D7CB0D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1619-FD00-4DC8-AAB0-A32D9689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C937-D2FC-4B51-9945-DCFD04FA94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901D-423D-4853-B1E7-77BDAF9936CC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e kidne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8" name="Picture 5" descr="kidney"/>
          <p:cNvPicPr/>
          <p:nvPr/>
        </p:nvPicPr>
        <p:blipFill>
          <a:blip r:embed="rId1"/>
          <a:stretch/>
        </p:blipFill>
        <p:spPr>
          <a:xfrm>
            <a:off x="4876920" y="1600200"/>
            <a:ext cx="3551040" cy="4119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Kidney1"/>
          <p:cNvPicPr/>
          <p:nvPr/>
        </p:nvPicPr>
        <p:blipFill>
          <a:blip r:embed="rId2"/>
          <a:stretch/>
        </p:blipFill>
        <p:spPr>
          <a:xfrm>
            <a:off x="1676520" y="1752480"/>
            <a:ext cx="25286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nally-reca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0" name="Picture 3" descr="kidney-nephron"/>
          <p:cNvPicPr/>
          <p:nvPr/>
        </p:nvPicPr>
        <p:blipFill>
          <a:blip r:embed="rId1"/>
          <a:stretch/>
        </p:blipFill>
        <p:spPr>
          <a:xfrm>
            <a:off x="2209680" y="533520"/>
            <a:ext cx="64008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Kidney and bladder posi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1" name="Picture 6" descr="kidneys position"/>
          <p:cNvPicPr/>
          <p:nvPr/>
        </p:nvPicPr>
        <p:blipFill>
          <a:blip r:embed="rId1"/>
          <a:stretch/>
        </p:blipFill>
        <p:spPr>
          <a:xfrm>
            <a:off x="5334120" y="1828800"/>
            <a:ext cx="330660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kidneys place"/>
          <p:cNvPicPr/>
          <p:nvPr/>
        </p:nvPicPr>
        <p:blipFill>
          <a:blip r:embed="rId2"/>
          <a:stretch/>
        </p:blipFill>
        <p:spPr>
          <a:xfrm>
            <a:off x="1066680" y="1676520"/>
            <a:ext cx="3733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Kidney transpla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4" name="Picture 4" descr="kidney new trans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Cross se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6" name="Picture 5" descr="kidney x sect"/>
          <p:cNvPicPr/>
          <p:nvPr/>
        </p:nvPicPr>
        <p:blipFill>
          <a:blip r:embed="rId1"/>
          <a:stretch/>
        </p:blipFill>
        <p:spPr>
          <a:xfrm>
            <a:off x="762120" y="1676520"/>
            <a:ext cx="4267080" cy="4306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kidney  x sect pic"/>
          <p:cNvPicPr/>
          <p:nvPr/>
        </p:nvPicPr>
        <p:blipFill>
          <a:blip r:embed="rId2"/>
          <a:stretch/>
        </p:blipFill>
        <p:spPr>
          <a:xfrm>
            <a:off x="5334120" y="1676520"/>
            <a:ext cx="334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X section to nephr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9" name="Picture 5" descr="kidney nefron"/>
          <p:cNvPicPr/>
          <p:nvPr/>
        </p:nvPicPr>
        <p:blipFill>
          <a:blip r:embed="rId1"/>
          <a:stretch/>
        </p:blipFill>
        <p:spPr>
          <a:xfrm>
            <a:off x="1752480" y="1676520"/>
            <a:ext cx="57913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nephr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1" name="Picture 5" descr="kidn nefron"/>
          <p:cNvPicPr/>
          <p:nvPr/>
        </p:nvPicPr>
        <p:blipFill>
          <a:blip r:embed="rId1"/>
          <a:stretch/>
        </p:blipFill>
        <p:spPr>
          <a:xfrm>
            <a:off x="5638680" y="914400"/>
            <a:ext cx="3295800" cy="556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kidney bowmans cap"/>
          <p:cNvPicPr/>
          <p:nvPr/>
        </p:nvPicPr>
        <p:blipFill>
          <a:blip r:embed="rId2"/>
          <a:stretch/>
        </p:blipFill>
        <p:spPr>
          <a:xfrm>
            <a:off x="533520" y="990720"/>
            <a:ext cx="4800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4" name="Picture 3" descr="kidn glomerulus"/>
          <p:cNvPicPr/>
          <p:nvPr/>
        </p:nvPicPr>
        <p:blipFill>
          <a:blip r:embed="rId1"/>
          <a:stretch/>
        </p:blipFill>
        <p:spPr>
          <a:xfrm>
            <a:off x="3581280" y="685800"/>
            <a:ext cx="4334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 diagram - bowma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6" name="Picture 4" descr="kidn bowmans diag"/>
          <p:cNvPicPr/>
          <p:nvPr/>
        </p:nvPicPr>
        <p:blipFill>
          <a:blip r:embed="rId1"/>
          <a:stretch/>
        </p:blipFill>
        <p:spPr>
          <a:xfrm>
            <a:off x="838080" y="1295280"/>
            <a:ext cx="76201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 &amp; reabsorp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8" name="Picture 5" descr="kidn nefron"/>
          <p:cNvPicPr/>
          <p:nvPr/>
        </p:nvPicPr>
        <p:blipFill>
          <a:blip r:embed="rId1"/>
          <a:stretch/>
        </p:blipFill>
        <p:spPr>
          <a:xfrm>
            <a:off x="2743200" y="1523880"/>
            <a:ext cx="47084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3T11:49:06Z</dcterms:created>
  <dc:creator>RM</dc:creator>
  <dc:description/>
  <dc:language>en-US</dc:language>
  <cp:lastModifiedBy>RomaK</cp:lastModifiedBy>
  <dcterms:modified xsi:type="dcterms:W3CDTF">2015-09-04T10:48:15Z</dcterms:modified>
  <cp:revision>9</cp:revision>
  <dc:subject/>
  <dc:title>The kidney</dc:title>
</cp:coreProperties>
</file>