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9B7E-A146-4311-BB94-3552DFF42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2A3-2E29-483F-8561-C7173C83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6D1-41AC-4415-B0B7-9F0AFB5C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79C-BFD5-4542-B954-FC2574C0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34D-DCA4-41CD-A02C-02F3F6E1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13D-FE91-4275-80E2-D0C0F986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14C-5F76-483C-8AF0-6986DB28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096-290B-469D-8597-C9D4BDE1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B6F-242F-4E25-BF7F-7F2582B4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489-2259-4BDC-B9FD-906D1DD5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A18-D71F-4334-8F51-2C35B14D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2B7-717C-42FF-83DE-CA0C639B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B74-39DA-40CB-812D-9102D1E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2436-2061-4550-B2D3-EBD6CFAB57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csebitesize/biology/humansasorganisms/6homeostasisrev3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inephron"/>
          <p:cNvPicPr/>
          <p:nvPr/>
        </p:nvPicPr>
        <p:blipFill>
          <a:blip r:embed="rId1"/>
          <a:srcRect l="35155" t="19797" r="20502" b="15312"/>
          <a:stretch/>
        </p:blipFill>
        <p:spPr>
          <a:xfrm>
            <a:off x="16668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1"/>
          <p:cNvGrpSpPr/>
          <p:nvPr/>
        </p:nvGrpSpPr>
        <p:grpSpPr>
          <a:xfrm>
            <a:off x="468360" y="2997000"/>
            <a:ext cx="2663280" cy="862920"/>
            <a:chOff x="468360" y="2997000"/>
            <a:chExt cx="2663280" cy="862920"/>
          </a:xfrm>
        </p:grpSpPr>
        <p:grpSp>
          <p:nvGrpSpPr>
            <p:cNvPr id="87" name="Group 8"/>
            <p:cNvGrpSpPr/>
            <p:nvPr/>
          </p:nvGrpSpPr>
          <p:grpSpPr>
            <a:xfrm>
              <a:off x="2771640" y="2997000"/>
              <a:ext cx="360000" cy="862920"/>
              <a:chOff x="2771640" y="2997000"/>
              <a:chExt cx="360000" cy="862920"/>
            </a:xfrm>
          </p:grpSpPr>
          <p:sp>
            <p:nvSpPr>
              <p:cNvPr id="88" name="Line 5"/>
              <p:cNvSpPr/>
              <p:nvPr/>
            </p:nvSpPr>
            <p:spPr>
              <a:xfrm flipH="1">
                <a:off x="2771640" y="299736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"/>
              <p:cNvSpPr/>
              <p:nvPr/>
            </p:nvSpPr>
            <p:spPr>
              <a:xfrm flipV="1">
                <a:off x="2771640" y="2997000"/>
                <a:ext cx="0" cy="86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 flipH="1">
                <a:off x="2771640" y="385812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9"/>
            <p:cNvSpPr/>
            <p:nvPr/>
          </p:nvSpPr>
          <p:spPr>
            <a:xfrm flipH="1">
              <a:off x="1834920" y="3429000"/>
              <a:ext cx="9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68360" y="306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2"/>
          <p:cNvGrpSpPr/>
          <p:nvPr/>
        </p:nvGrpSpPr>
        <p:grpSpPr>
          <a:xfrm>
            <a:off x="3635280" y="1989000"/>
            <a:ext cx="3456000" cy="4869720"/>
            <a:chOff x="3635280" y="1989000"/>
            <a:chExt cx="3456000" cy="4869720"/>
          </a:xfrm>
        </p:grpSpPr>
        <p:sp>
          <p:nvSpPr>
            <p:cNvPr id="94" name="Text Box 15"/>
            <p:cNvSpPr/>
            <p:nvPr/>
          </p:nvSpPr>
          <p:spPr>
            <a:xfrm>
              <a:off x="3635280" y="5667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ariable amounts of water and salts reabsorbed and filtrate gradually turning into u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 flipH="1" flipV="1">
              <a:off x="4858920" y="5229360"/>
              <a:ext cx="142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4211640" y="1989000"/>
              <a:ext cx="1297080" cy="324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5805720" y="1616400"/>
            <a:ext cx="3338280" cy="1967040"/>
            <a:chOff x="5805720" y="1616400"/>
            <a:chExt cx="3338280" cy="1967040"/>
          </a:xfrm>
        </p:grpSpPr>
        <p:grpSp>
          <p:nvGrpSpPr>
            <p:cNvPr id="98" name="Group 31"/>
            <p:cNvGrpSpPr/>
            <p:nvPr/>
          </p:nvGrpSpPr>
          <p:grpSpPr>
            <a:xfrm>
              <a:off x="5805720" y="1616400"/>
              <a:ext cx="551880" cy="1967040"/>
              <a:chOff x="5805720" y="1616400"/>
              <a:chExt cx="551880" cy="1967040"/>
            </a:xfrm>
          </p:grpSpPr>
          <p:sp>
            <p:nvSpPr>
              <p:cNvPr id="99" name="Line 32"/>
              <p:cNvSpPr/>
              <p:nvPr/>
            </p:nvSpPr>
            <p:spPr>
              <a:xfrm flipV="1">
                <a:off x="5927040" y="3556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"/>
              <p:cNvSpPr/>
              <p:nvPr/>
            </p:nvSpPr>
            <p:spPr>
              <a:xfrm>
                <a:off x="6235920" y="1616400"/>
                <a:ext cx="121680" cy="194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V="1">
                <a:off x="5805720" y="1621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36"/>
            <p:cNvSpPr/>
            <p:nvPr/>
          </p:nvSpPr>
          <p:spPr>
            <a:xfrm flipH="1">
              <a:off x="6300720" y="249228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7201080" y="2133720"/>
              <a:ext cx="1942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re water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201080" y="2708280"/>
            <a:ext cx="1942920" cy="2961000"/>
            <a:chOff x="7201080" y="2708280"/>
            <a:chExt cx="1942920" cy="2961000"/>
          </a:xfrm>
        </p:grpSpPr>
        <p:sp>
          <p:nvSpPr>
            <p:cNvPr id="105" name="Text Box 38"/>
            <p:cNvSpPr/>
            <p:nvPr/>
          </p:nvSpPr>
          <p:spPr>
            <a:xfrm>
              <a:off x="7201080" y="3357720"/>
              <a:ext cx="1942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inal urine contai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excess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unneeded sa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waste 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8028000" y="2708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mmary of kidne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biwater"/>
          <p:cNvPicPr/>
          <p:nvPr/>
        </p:nvPicPr>
        <p:blipFill>
          <a:blip r:embed="rId1"/>
          <a:stretch/>
        </p:blipFill>
        <p:spPr>
          <a:xfrm>
            <a:off x="1187280" y="1413000"/>
            <a:ext cx="741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l of Wate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stages_negativefdback"/>
          <p:cNvPicPr/>
          <p:nvPr/>
        </p:nvPicPr>
        <p:blipFill>
          <a:blip r:embed="rId2"/>
          <a:stretch/>
        </p:blipFill>
        <p:spPr>
          <a:xfrm>
            <a:off x="2268360" y="2276640"/>
            <a:ext cx="55548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D_model_anat_kidney_cross_section_web1"/>
          <p:cNvPicPr/>
          <p:nvPr/>
        </p:nvPicPr>
        <p:blipFill>
          <a:blip r:embed="rId1"/>
          <a:stretch/>
        </p:blipFill>
        <p:spPr>
          <a:xfrm>
            <a:off x="3598920" y="1312920"/>
            <a:ext cx="5545080" cy="55450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3419640" y="2781360"/>
            <a:ext cx="86508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19640" y="3933720"/>
            <a:ext cx="1081080" cy="647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492360" y="5084640"/>
            <a:ext cx="1440000" cy="144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56000" y="1989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55600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0" y="1628640"/>
            <a:ext cx="2411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ied with blood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de it splits into many fi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300720" y="2637000"/>
            <a:ext cx="358920" cy="4330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73272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Lets have a look at a nephr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ow-the-kidney-works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inephron"/>
          <p:cNvPicPr/>
          <p:nvPr/>
        </p:nvPicPr>
        <p:blipFill>
          <a:blip r:embed="rId1"/>
          <a:stretch/>
        </p:blipFill>
        <p:spPr>
          <a:xfrm>
            <a:off x="0" y="0"/>
            <a:ext cx="8604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174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us brings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blood capillaries in close contact with Bowman’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filtered from blood under pressur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3d_model_anat_bowman_capsule_web1"/>
          <p:cNvPicPr/>
          <p:nvPr/>
        </p:nvPicPr>
        <p:blipFill>
          <a:blip r:embed="rId1"/>
          <a:srcRect l="24776" t="0" r="24776" b="7172"/>
          <a:stretch/>
        </p:blipFill>
        <p:spPr>
          <a:xfrm>
            <a:off x="5418000" y="0"/>
            <a:ext cx="372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V="1">
            <a:off x="6156360" y="618840"/>
            <a:ext cx="50472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7524720" y="400536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80400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30872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093080" y="3860640"/>
            <a:ext cx="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236000" y="4437000"/>
            <a:ext cx="0" cy="14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740720" y="549000"/>
            <a:ext cx="79200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765000"/>
            <a:ext cx="158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from renal artery enters wide 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67640" y="2924280"/>
            <a:ext cx="1692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travels through narrow capillary towards 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7812000" y="765000"/>
            <a:ext cx="360360" cy="20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508720" y="450864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omerular fil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35640" y="3645000"/>
            <a:ext cx="122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Nephr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us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owman’s capusle: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ar filtrate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4:12Z</dcterms:created>
  <dc:creator>CEC</dc:creator>
  <dc:description/>
  <dc:language>en-US</dc:language>
  <cp:lastModifiedBy>RomaK</cp:lastModifiedBy>
  <dcterms:modified xsi:type="dcterms:W3CDTF">2015-09-04T10:48:23Z</dcterms:modified>
  <cp:revision>10</cp:revision>
  <dc:subject/>
  <dc:title>10.4 – Kidney in Detail</dc:title>
</cp:coreProperties>
</file>