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3760-FF2C-4A16-A50F-0D21C2E16E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kidney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Wa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d with blood from 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it splits into many fine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neph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look at a nephro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brings a large surface area of blood capillaries in close contact with Bowman’s caps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filtered from blood under pressure (fil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from renal artery enters wide capil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ravels through narrow capillary towards 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wman’s capusl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merular filtr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757-C0C3-41CE-B1B1-CF948977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095D-4C10-4450-8E49-EB981302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100-47EB-413A-9B20-A9846F8B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D4E-646D-491C-A8C5-39F2708B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95C-C6BB-4B58-9AA0-C422A0E7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67C-DDAB-464D-9352-B3AA7978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86C-F9A4-4D5C-A310-60424F5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F7B-DAD0-45CD-BE0B-88574662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6AB-C626-497B-A2AE-F22820AC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8AE-A662-458F-BAEA-E2826E2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E53-7CCE-404D-9AEA-6A7F7E0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EF6-6895-4A0F-BF6D-92C1E0DE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B109-105C-46DF-A36A-1795FAA14E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idneypatientguide.org.uk/site/HKWanim.ph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bc.co.uk/schools/gcsebitesize/biology/humansasorganisms/6homeostasisrev3.s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idney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binephron"/>
          <p:cNvPicPr/>
          <p:nvPr/>
        </p:nvPicPr>
        <p:blipFill>
          <a:blip r:embed="rId1"/>
          <a:srcRect l="35155" t="19797" r="20502" b="15312"/>
          <a:stretch/>
        </p:blipFill>
        <p:spPr>
          <a:xfrm>
            <a:off x="1666800" y="0"/>
            <a:ext cx="5958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41"/>
          <p:cNvGrpSpPr/>
          <p:nvPr/>
        </p:nvGrpSpPr>
        <p:grpSpPr>
          <a:xfrm>
            <a:off x="468360" y="2997000"/>
            <a:ext cx="2663280" cy="862920"/>
            <a:chOff x="468360" y="2997000"/>
            <a:chExt cx="2663280" cy="862920"/>
          </a:xfrm>
        </p:grpSpPr>
        <p:grpSp>
          <p:nvGrpSpPr>
            <p:cNvPr id="87" name="Group 8"/>
            <p:cNvGrpSpPr/>
            <p:nvPr/>
          </p:nvGrpSpPr>
          <p:grpSpPr>
            <a:xfrm>
              <a:off x="2771640" y="2997000"/>
              <a:ext cx="360000" cy="862920"/>
              <a:chOff x="2771640" y="2997000"/>
              <a:chExt cx="360000" cy="862920"/>
            </a:xfrm>
          </p:grpSpPr>
          <p:sp>
            <p:nvSpPr>
              <p:cNvPr id="88" name="Line 5"/>
              <p:cNvSpPr/>
              <p:nvPr/>
            </p:nvSpPr>
            <p:spPr>
              <a:xfrm flipH="1">
                <a:off x="2771640" y="299736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6"/>
              <p:cNvSpPr/>
              <p:nvPr/>
            </p:nvSpPr>
            <p:spPr>
              <a:xfrm flipV="1">
                <a:off x="2771640" y="2997000"/>
                <a:ext cx="0" cy="862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7"/>
              <p:cNvSpPr/>
              <p:nvPr/>
            </p:nvSpPr>
            <p:spPr>
              <a:xfrm flipH="1">
                <a:off x="2771640" y="3858120"/>
                <a:ext cx="360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Line 9"/>
            <p:cNvSpPr/>
            <p:nvPr/>
          </p:nvSpPr>
          <p:spPr>
            <a:xfrm flipH="1">
              <a:off x="1834920" y="3429000"/>
              <a:ext cx="936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68360" y="306864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2"/>
          <p:cNvGrpSpPr/>
          <p:nvPr/>
        </p:nvGrpSpPr>
        <p:grpSpPr>
          <a:xfrm>
            <a:off x="3635280" y="1989000"/>
            <a:ext cx="3456000" cy="4869720"/>
            <a:chOff x="3635280" y="1989000"/>
            <a:chExt cx="3456000" cy="4869720"/>
          </a:xfrm>
        </p:grpSpPr>
        <p:sp>
          <p:nvSpPr>
            <p:cNvPr id="94" name="Text Box 15"/>
            <p:cNvSpPr/>
            <p:nvPr/>
          </p:nvSpPr>
          <p:spPr>
            <a:xfrm>
              <a:off x="3635280" y="5667480"/>
              <a:ext cx="345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ariable amounts of water and salts reabsorbed and filtrate gradually turning into u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6"/>
            <p:cNvSpPr/>
            <p:nvPr/>
          </p:nvSpPr>
          <p:spPr>
            <a:xfrm flipH="1" flipV="1">
              <a:off x="4858920" y="5229360"/>
              <a:ext cx="14292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5"/>
            <p:cNvSpPr/>
            <p:nvPr/>
          </p:nvSpPr>
          <p:spPr>
            <a:xfrm>
              <a:off x="4211640" y="1989000"/>
              <a:ext cx="1297080" cy="3240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3"/>
          <p:cNvGrpSpPr/>
          <p:nvPr/>
        </p:nvGrpSpPr>
        <p:grpSpPr>
          <a:xfrm>
            <a:off x="5805720" y="1616400"/>
            <a:ext cx="3338280" cy="1967040"/>
            <a:chOff x="5805720" y="1616400"/>
            <a:chExt cx="3338280" cy="1967040"/>
          </a:xfrm>
        </p:grpSpPr>
        <p:grpSp>
          <p:nvGrpSpPr>
            <p:cNvPr id="98" name="Group 31"/>
            <p:cNvGrpSpPr/>
            <p:nvPr/>
          </p:nvGrpSpPr>
          <p:grpSpPr>
            <a:xfrm>
              <a:off x="5805720" y="1616400"/>
              <a:ext cx="551880" cy="1967040"/>
              <a:chOff x="5805720" y="1616400"/>
              <a:chExt cx="551880" cy="1967040"/>
            </a:xfrm>
          </p:grpSpPr>
          <p:sp>
            <p:nvSpPr>
              <p:cNvPr id="99" name="Line 32"/>
              <p:cNvSpPr/>
              <p:nvPr/>
            </p:nvSpPr>
            <p:spPr>
              <a:xfrm flipV="1">
                <a:off x="5927040" y="3556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3"/>
              <p:cNvSpPr/>
              <p:nvPr/>
            </p:nvSpPr>
            <p:spPr>
              <a:xfrm>
                <a:off x="6235920" y="1616400"/>
                <a:ext cx="121680" cy="1940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4"/>
              <p:cNvSpPr/>
              <p:nvPr/>
            </p:nvSpPr>
            <p:spPr>
              <a:xfrm flipV="1">
                <a:off x="5805720" y="1621440"/>
                <a:ext cx="430560" cy="2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Line 36"/>
            <p:cNvSpPr/>
            <p:nvPr/>
          </p:nvSpPr>
          <p:spPr>
            <a:xfrm flipH="1">
              <a:off x="6300720" y="249228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7"/>
            <p:cNvSpPr/>
            <p:nvPr/>
          </p:nvSpPr>
          <p:spPr>
            <a:xfrm>
              <a:off x="7201080" y="2133720"/>
              <a:ext cx="19429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ore water reabsor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4"/>
          <p:cNvGrpSpPr/>
          <p:nvPr/>
        </p:nvGrpSpPr>
        <p:grpSpPr>
          <a:xfrm>
            <a:off x="7201080" y="2708280"/>
            <a:ext cx="1942920" cy="2961000"/>
            <a:chOff x="7201080" y="2708280"/>
            <a:chExt cx="1942920" cy="2961000"/>
          </a:xfrm>
        </p:grpSpPr>
        <p:sp>
          <p:nvSpPr>
            <p:cNvPr id="105" name="Text Box 38"/>
            <p:cNvSpPr/>
            <p:nvPr/>
          </p:nvSpPr>
          <p:spPr>
            <a:xfrm>
              <a:off x="7201080" y="3357720"/>
              <a:ext cx="19429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inal urine contain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excess 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unneeded sal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-waste ure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8028000" y="270828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e components of the glomerular filtrate ar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is it important for these to be reabsorb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substances are present in the final ur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mmary of kidne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– Controlling Water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mportant part of intern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onstantly changing wat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.g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rc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nking lot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dy uses negative feedback control to regulate water content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biwater"/>
          <p:cNvPicPr/>
          <p:nvPr/>
        </p:nvPicPr>
        <p:blipFill>
          <a:blip r:embed="rId1"/>
          <a:stretch/>
        </p:blipFill>
        <p:spPr>
          <a:xfrm>
            <a:off x="1187280" y="1413000"/>
            <a:ext cx="74170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ntrol of Water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1stages_negativefdback"/>
          <p:cNvPicPr/>
          <p:nvPr/>
        </p:nvPicPr>
        <p:blipFill>
          <a:blip r:embed="rId2"/>
          <a:stretch/>
        </p:blipFill>
        <p:spPr>
          <a:xfrm>
            <a:off x="2268360" y="2276640"/>
            <a:ext cx="555480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cre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nitrogenous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ade by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xcess amino acids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must nitrogenous waste be excr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– Filtra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3D_model_anat_kidney_cross_section_web1"/>
          <p:cNvPicPr/>
          <p:nvPr/>
        </p:nvPicPr>
        <p:blipFill>
          <a:blip r:embed="rId1"/>
          <a:stretch/>
        </p:blipFill>
        <p:spPr>
          <a:xfrm>
            <a:off x="3598920" y="1312920"/>
            <a:ext cx="5545080" cy="554508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3419640" y="2781360"/>
            <a:ext cx="86508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419640" y="3933720"/>
            <a:ext cx="1081080" cy="647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492360" y="5084640"/>
            <a:ext cx="1440000" cy="1447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556000" y="198900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556000" y="4724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27280" y="3284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0" y="1628640"/>
            <a:ext cx="2411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ied with blood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ide it splits into many fin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capillary supplies blood to hundreds of thousands of tiny filtration units call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ph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300720" y="2637000"/>
            <a:ext cx="358920" cy="43308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732720" y="2276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Lets have a look at a nephro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ow-the-kidney-works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binephron"/>
          <p:cNvPicPr/>
          <p:nvPr/>
        </p:nvPicPr>
        <p:blipFill>
          <a:blip r:embed="rId1"/>
          <a:stretch/>
        </p:blipFill>
        <p:spPr>
          <a:xfrm>
            <a:off x="0" y="0"/>
            <a:ext cx="8604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41749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us brings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rge surface ar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blood capillaries in close contact with Bowman’s caps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quid filtered from blood under pressur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l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merular filtrate produced cont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sa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u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rotein molecules and red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 do not pass into tubule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y are TOO BIG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3d_model_anat_bowman_capsule_web1"/>
          <p:cNvPicPr/>
          <p:nvPr/>
        </p:nvPicPr>
        <p:blipFill>
          <a:blip r:embed="rId1"/>
          <a:srcRect l="24776" t="0" r="24776" b="7172"/>
          <a:stretch/>
        </p:blipFill>
        <p:spPr>
          <a:xfrm>
            <a:off x="5418000" y="0"/>
            <a:ext cx="3726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 flipV="1">
            <a:off x="6156360" y="618840"/>
            <a:ext cx="504720" cy="361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7524720" y="400536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80400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7308720" y="3933720"/>
            <a:ext cx="0" cy="2872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7093080" y="3860640"/>
            <a:ext cx="0" cy="287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236000" y="4437000"/>
            <a:ext cx="0" cy="1440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7740720" y="549000"/>
            <a:ext cx="792000" cy="21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4859280" y="765000"/>
            <a:ext cx="158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from renal artery enters wide 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667640" y="2924280"/>
            <a:ext cx="169236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lood travels through narrow capillary towards 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7812000" y="765000"/>
            <a:ext cx="360360" cy="2087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508720" y="450864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Glomerular fil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5435640" y="3645000"/>
            <a:ext cx="122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feature of the glomerulus helps the process of filt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4 components of unfiltered blood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do blood cells and protein molecules not appear in the glomerular filt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Words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Nephr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tructure in the kidney that acts as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 microscopic filtr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us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dense mass of very fin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lood capillaries at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act as a fil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owman’s capusle: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p-shaped part of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phron that holds a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glomerulus and collects the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ducts of filtration from 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merular filtrate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liquid removed from the blood by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filtration in the kidne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– Reabsorption by the Kid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e main components of glomerulur filtrate enter the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they are no longer in blood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thing more happened in the nephron then all the useful stuff would be lost in the ur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glucose, water and some salts need to be reabsorb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2:54:12Z</dcterms:created>
  <dc:creator>CEC</dc:creator>
  <dc:description/>
  <dc:language>en-US</dc:language>
  <cp:lastModifiedBy>RomaK</cp:lastModifiedBy>
  <dcterms:modified xsi:type="dcterms:W3CDTF">2015-09-04T10:48:23Z</dcterms:modified>
  <cp:revision>10</cp:revision>
  <dc:subject/>
  <dc:title>10.4 – Kidney in Detail</dc:title>
</cp:coreProperties>
</file>