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AC4E-FF3F-45D1-A66E-443E6218AC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 of kidne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kidne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 of Wa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Wa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d with blood from 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it splits into many fin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neph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look at a nephro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d with blood from 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it splits into many fin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neph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look at a nephro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us brings a large surface area of blood capillaries in close contact with Bowman’s caps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iltered from blood under pressure (fil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from renal artery enters wid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travels through narrow capillary towards 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ar fil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brings a large surface area of blood capillaries in close contact with Bowman’s caps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filtered from blood under pressure (fil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renal artery enters wid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ravels through narrow capillary towards 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wman’s capusl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wman’s capusl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374B-A85D-428C-9BC8-7A637D5A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BC0-249A-4385-8345-723A305B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169E-66E6-4488-9947-65C49371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1560-307C-44D7-BCA1-30E1561A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9632-1425-4FD1-B681-2E3E95D1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9606-2BC6-4B40-B32A-3AE38591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76D-69F6-4CE7-94CA-844600D0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2A7-77BA-4CBF-8174-FF27A1CC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48AC-D1D4-41DD-AF83-30212F00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530F-3263-477F-A173-5DF8275B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AF0C-5F47-4C62-B03E-C52E12C2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0F3E-D8E4-4EC7-B5DC-B94B3A47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4710-9456-4224-9AF4-9D004FA1D4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dneypatientguide.org.uk/site/HKWanim.ph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bc.co.uk/schools/gcsebitesize/biology/humansasorganisms/6homeostasisrev3.s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binephron"/>
          <p:cNvPicPr/>
          <p:nvPr/>
        </p:nvPicPr>
        <p:blipFill>
          <a:blip r:embed="rId1"/>
          <a:srcRect l="35155" t="19797" r="20502" b="15312"/>
          <a:stretch/>
        </p:blipFill>
        <p:spPr>
          <a:xfrm>
            <a:off x="1666800" y="0"/>
            <a:ext cx="5958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41"/>
          <p:cNvGrpSpPr/>
          <p:nvPr/>
        </p:nvGrpSpPr>
        <p:grpSpPr>
          <a:xfrm>
            <a:off x="468360" y="2997000"/>
            <a:ext cx="2663280" cy="862920"/>
            <a:chOff x="468360" y="2997000"/>
            <a:chExt cx="2663280" cy="862920"/>
          </a:xfrm>
        </p:grpSpPr>
        <p:grpSp>
          <p:nvGrpSpPr>
            <p:cNvPr id="87" name="Group 8"/>
            <p:cNvGrpSpPr/>
            <p:nvPr/>
          </p:nvGrpSpPr>
          <p:grpSpPr>
            <a:xfrm>
              <a:off x="2771640" y="2997000"/>
              <a:ext cx="360000" cy="862920"/>
              <a:chOff x="2771640" y="2997000"/>
              <a:chExt cx="360000" cy="862920"/>
            </a:xfrm>
          </p:grpSpPr>
          <p:sp>
            <p:nvSpPr>
              <p:cNvPr id="88" name="Line 5"/>
              <p:cNvSpPr/>
              <p:nvPr/>
            </p:nvSpPr>
            <p:spPr>
              <a:xfrm flipH="1">
                <a:off x="2771640" y="2997360"/>
                <a:ext cx="36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6"/>
              <p:cNvSpPr/>
              <p:nvPr/>
            </p:nvSpPr>
            <p:spPr>
              <a:xfrm flipV="1">
                <a:off x="2771640" y="2997000"/>
                <a:ext cx="0" cy="862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7"/>
              <p:cNvSpPr/>
              <p:nvPr/>
            </p:nvSpPr>
            <p:spPr>
              <a:xfrm flipH="1">
                <a:off x="2771640" y="3858120"/>
                <a:ext cx="36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Line 9"/>
            <p:cNvSpPr/>
            <p:nvPr/>
          </p:nvSpPr>
          <p:spPr>
            <a:xfrm flipH="1">
              <a:off x="1834920" y="3429000"/>
              <a:ext cx="93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468360" y="306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lucose reabsorb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42"/>
          <p:cNvGrpSpPr/>
          <p:nvPr/>
        </p:nvGrpSpPr>
        <p:grpSpPr>
          <a:xfrm>
            <a:off x="3635280" y="1989000"/>
            <a:ext cx="3456000" cy="4869720"/>
            <a:chOff x="3635280" y="1989000"/>
            <a:chExt cx="3456000" cy="4869720"/>
          </a:xfrm>
        </p:grpSpPr>
        <p:sp>
          <p:nvSpPr>
            <p:cNvPr id="94" name="Text Box 15"/>
            <p:cNvSpPr/>
            <p:nvPr/>
          </p:nvSpPr>
          <p:spPr>
            <a:xfrm>
              <a:off x="3635280" y="5667480"/>
              <a:ext cx="345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Variable amounts of water and salts reabsorbed and filtrate gradually turning into u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6"/>
            <p:cNvSpPr/>
            <p:nvPr/>
          </p:nvSpPr>
          <p:spPr>
            <a:xfrm flipH="1" flipV="1">
              <a:off x="4858920" y="5229360"/>
              <a:ext cx="14292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5"/>
            <p:cNvSpPr/>
            <p:nvPr/>
          </p:nvSpPr>
          <p:spPr>
            <a:xfrm>
              <a:off x="4211640" y="1989000"/>
              <a:ext cx="1297080" cy="32403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3"/>
          <p:cNvGrpSpPr/>
          <p:nvPr/>
        </p:nvGrpSpPr>
        <p:grpSpPr>
          <a:xfrm>
            <a:off x="5805720" y="1616400"/>
            <a:ext cx="3338280" cy="1967040"/>
            <a:chOff x="5805720" y="1616400"/>
            <a:chExt cx="3338280" cy="1967040"/>
          </a:xfrm>
        </p:grpSpPr>
        <p:grpSp>
          <p:nvGrpSpPr>
            <p:cNvPr id="98" name="Group 31"/>
            <p:cNvGrpSpPr/>
            <p:nvPr/>
          </p:nvGrpSpPr>
          <p:grpSpPr>
            <a:xfrm>
              <a:off x="5805720" y="1616400"/>
              <a:ext cx="551880" cy="1967040"/>
              <a:chOff x="5805720" y="1616400"/>
              <a:chExt cx="551880" cy="1967040"/>
            </a:xfrm>
          </p:grpSpPr>
          <p:sp>
            <p:nvSpPr>
              <p:cNvPr id="99" name="Line 32"/>
              <p:cNvSpPr/>
              <p:nvPr/>
            </p:nvSpPr>
            <p:spPr>
              <a:xfrm flipV="1">
                <a:off x="5927040" y="3556440"/>
                <a:ext cx="430560" cy="2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33"/>
              <p:cNvSpPr/>
              <p:nvPr/>
            </p:nvSpPr>
            <p:spPr>
              <a:xfrm>
                <a:off x="6235920" y="1616400"/>
                <a:ext cx="121680" cy="1940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34"/>
              <p:cNvSpPr/>
              <p:nvPr/>
            </p:nvSpPr>
            <p:spPr>
              <a:xfrm flipV="1">
                <a:off x="5805720" y="1621440"/>
                <a:ext cx="430560" cy="2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Line 36"/>
            <p:cNvSpPr/>
            <p:nvPr/>
          </p:nvSpPr>
          <p:spPr>
            <a:xfrm flipH="1">
              <a:off x="6300720" y="2492280"/>
              <a:ext cx="93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7"/>
            <p:cNvSpPr/>
            <p:nvPr/>
          </p:nvSpPr>
          <p:spPr>
            <a:xfrm>
              <a:off x="7201080" y="2133720"/>
              <a:ext cx="19429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ore water reabsorb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44"/>
          <p:cNvGrpSpPr/>
          <p:nvPr/>
        </p:nvGrpSpPr>
        <p:grpSpPr>
          <a:xfrm>
            <a:off x="7201080" y="2708280"/>
            <a:ext cx="1942920" cy="2961000"/>
            <a:chOff x="7201080" y="2708280"/>
            <a:chExt cx="1942920" cy="2961000"/>
          </a:xfrm>
        </p:grpSpPr>
        <p:sp>
          <p:nvSpPr>
            <p:cNvPr id="105" name="Text Box 38"/>
            <p:cNvSpPr/>
            <p:nvPr/>
          </p:nvSpPr>
          <p:spPr>
            <a:xfrm>
              <a:off x="7201080" y="3357720"/>
              <a:ext cx="194292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inal urine contain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excess w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unneeded sa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waste u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0"/>
            <p:cNvSpPr/>
            <p:nvPr/>
          </p:nvSpPr>
          <p:spPr>
            <a:xfrm>
              <a:off x="8028000" y="27082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mmary of kidney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biwater"/>
          <p:cNvPicPr/>
          <p:nvPr/>
        </p:nvPicPr>
        <p:blipFill>
          <a:blip r:embed="rId1"/>
          <a:stretch/>
        </p:blipFill>
        <p:spPr>
          <a:xfrm>
            <a:off x="1187280" y="1413000"/>
            <a:ext cx="74170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ntrol of Water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1stages_negativefdback"/>
          <p:cNvPicPr/>
          <p:nvPr/>
        </p:nvPicPr>
        <p:blipFill>
          <a:blip r:embed="rId2"/>
          <a:stretch/>
        </p:blipFill>
        <p:spPr>
          <a:xfrm>
            <a:off x="2268360" y="2276640"/>
            <a:ext cx="555480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3D_model_anat_kidney_cross_section_web1"/>
          <p:cNvPicPr/>
          <p:nvPr/>
        </p:nvPicPr>
        <p:blipFill>
          <a:blip r:embed="rId1"/>
          <a:stretch/>
        </p:blipFill>
        <p:spPr>
          <a:xfrm>
            <a:off x="3598920" y="1312920"/>
            <a:ext cx="5545080" cy="5545080"/>
          </a:xfrm>
          <a:prstGeom prst="rect">
            <a:avLst/>
          </a:prstGeom>
          <a:ln w="0">
            <a:noFill/>
          </a:ln>
        </p:spPr>
      </p:pic>
      <p:sp>
        <p:nvSpPr>
          <p:cNvPr id="54" name="Line 6"/>
          <p:cNvSpPr/>
          <p:nvPr/>
        </p:nvSpPr>
        <p:spPr>
          <a:xfrm>
            <a:off x="3419640" y="2781360"/>
            <a:ext cx="865080" cy="1224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419640" y="3933720"/>
            <a:ext cx="1081080" cy="6476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3492360" y="5084640"/>
            <a:ext cx="1440000" cy="1447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556000" y="198900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556000" y="4724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2627280" y="3284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0" y="1628640"/>
            <a:ext cx="24112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lied with blood fro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ide it splits into many fin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ph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6300720" y="2637000"/>
            <a:ext cx="358920" cy="43308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6732720" y="2276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Lets have a look at a nephron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ow-the-kidney-works"/>
          <p:cNvPicPr/>
          <p:nvPr/>
        </p:nvPicPr>
        <p:blipFill>
          <a:blip r:embed="rId1"/>
          <a:stretch/>
        </p:blipFill>
        <p:spPr>
          <a:xfrm>
            <a:off x="468360" y="0"/>
            <a:ext cx="83167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binephron"/>
          <p:cNvPicPr/>
          <p:nvPr/>
        </p:nvPicPr>
        <p:blipFill>
          <a:blip r:embed="rId1"/>
          <a:stretch/>
        </p:blipFill>
        <p:spPr>
          <a:xfrm>
            <a:off x="0" y="0"/>
            <a:ext cx="860436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41749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merulus brings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rge surface are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blood capillaries in close contact with Bowman’s caps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quid filtered from blood under pressur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3d_model_anat_bowman_capsule_web1"/>
          <p:cNvPicPr/>
          <p:nvPr/>
        </p:nvPicPr>
        <p:blipFill>
          <a:blip r:embed="rId1"/>
          <a:srcRect l="24776" t="0" r="24776" b="7172"/>
          <a:stretch/>
        </p:blipFill>
        <p:spPr>
          <a:xfrm>
            <a:off x="5418000" y="0"/>
            <a:ext cx="3726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 flipV="1">
            <a:off x="6156360" y="618840"/>
            <a:ext cx="504720" cy="361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7524720" y="400536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6804000" y="393372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7308720" y="393372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7093080" y="3860640"/>
            <a:ext cx="0" cy="287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7236000" y="4437000"/>
            <a:ext cx="0" cy="1440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V="1">
            <a:off x="7740720" y="549000"/>
            <a:ext cx="792000" cy="215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4859280" y="765000"/>
            <a:ext cx="1584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lood from renal artery enters wide capil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7667640" y="2924280"/>
            <a:ext cx="169236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lood travels through narrow capillary towards 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7812000" y="765000"/>
            <a:ext cx="360360" cy="2087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5508720" y="450864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Glomerular fil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5435640" y="3645000"/>
            <a:ext cx="1224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il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Nephron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Glomerulus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Bowman’s capusle: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Glomerular filtrate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2:54:12Z</dcterms:created>
  <dc:creator>CEC</dc:creator>
  <dc:description/>
  <dc:language>en-US</dc:language>
  <cp:lastModifiedBy>RomaK</cp:lastModifiedBy>
  <dcterms:modified xsi:type="dcterms:W3CDTF">2015-09-04T10:48:23Z</dcterms:modified>
  <cp:revision>10</cp:revision>
  <dc:subject/>
  <dc:title>10.4 – Kidney in Detail</dc:title>
</cp:coreProperties>
</file>