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3191-54ED-470A-879A-A184055592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D777-F458-45BE-8B74-F9F71C80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4E6-DE9D-4D33-88DA-82074BC5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078-BAA1-4BBD-BFF1-EAEB085B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F3E-FA8F-4024-ABFB-52F7BF023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9F8E-54F4-4869-8410-5F29C2BA5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672E-9EF1-47C6-AD95-060255C1D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A510-E89B-4009-A271-836CBCD8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704D-0011-4741-BC13-5BC1A8F6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BB8FD-4A56-4A67-B585-2F808754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A4C0-3E8C-4929-8C7F-7E970FD54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4BF4-F691-4928-BA24-C6D444F7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136E-DB46-442C-A071-DF0CA464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ED73-D2EA-479D-BEFB-C589D1BF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21DF-6B11-4561-9AA8-73F3DA3C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3F94-1D63-40BE-B4F1-895312B4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06903-82E7-4883-BDA6-4DB13E7B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FFD09-D438-462F-9B0B-C802CA73B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AB5F-B46D-43F5-AE5E-C55B81B2A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E696-3C8F-4D0A-9D27-BFA76131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806E-1AF7-4B56-AE3D-1B25A3E3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B8D-6BC1-4F03-9DBE-4893EFDC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5BEF-BB65-4B9B-8FF4-DA37A1E2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0DC2-614A-4F29-B2FF-CFB3A2D4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183D-BBDC-4DC3-A237-D86B65A8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791E-AF5E-4434-8A42-87A3A7EE0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56FE9-2C58-4B37-B5AF-9FAD896371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Kingdom Protista</a:t>
            </a:r>
            <a:br>
              <a:rPr sz="80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“  The Catch-All Kingdom” Protozoan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ndosymbiotic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endosymbiosisnice2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Phylums…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rcod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phylumsarcodina"/>
          <p:cNvPicPr/>
          <p:nvPr/>
        </p:nvPicPr>
        <p:blipFill>
          <a:blip r:embed="rId1"/>
          <a:stretch/>
        </p:blipFill>
        <p:spPr>
          <a:xfrm>
            <a:off x="1447920" y="1282680"/>
            <a:ext cx="66294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Ciliopho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paramecium1"/>
          <p:cNvPicPr/>
          <p:nvPr/>
        </p:nvPicPr>
        <p:blipFill>
          <a:blip r:embed="rId1"/>
          <a:stretch/>
        </p:blipFill>
        <p:spPr>
          <a:xfrm>
            <a:off x="914400" y="676440"/>
            <a:ext cx="64436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Zoomastig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tsetse2"/>
          <p:cNvPicPr/>
          <p:nvPr/>
        </p:nvPicPr>
        <p:blipFill>
          <a:blip r:embed="rId1"/>
          <a:stretch/>
        </p:blipFill>
        <p:spPr>
          <a:xfrm>
            <a:off x="2438280" y="1752480"/>
            <a:ext cx="4800600" cy="4092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setse fly – sleeping sickness ve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issing Bu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image001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ishmania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figure1"/>
          <p:cNvPicPr/>
          <p:nvPr/>
        </p:nvPicPr>
        <p:blipFill>
          <a:blip r:embed="rId1"/>
          <a:stretch/>
        </p:blipFill>
        <p:spPr>
          <a:xfrm>
            <a:off x="1371600" y="1752480"/>
            <a:ext cx="6105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Sporozo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malaria_Life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pconjugation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Prot016b"/>
          <p:cNvPicPr/>
          <p:nvPr/>
        </p:nvPicPr>
        <p:blipFill>
          <a:blip r:embed="rId1"/>
          <a:stretch/>
        </p:blipFill>
        <p:spPr>
          <a:xfrm>
            <a:off x="380880" y="137160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olih023p"/>
          <p:cNvPicPr/>
          <p:nvPr/>
        </p:nvPicPr>
        <p:blipFill>
          <a:blip r:embed="rId2"/>
          <a:stretch/>
        </p:blipFill>
        <p:spPr>
          <a:xfrm>
            <a:off x="4191120" y="2209680"/>
            <a:ext cx="42861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hizogon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4 Phyla of Protozoans</a:t>
            </a:r>
            <a:br>
              <a:rPr sz="40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olution of Protis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3:08:46Z</dcterms:created>
  <dc:creator>teacher</dc:creator>
  <dc:description>Kingdom Protista  “  The Catch-All Kingdom” Protozoans</dc:description>
  <cp:keywords>Kingdom Protista  “  The Catch-All Kingdom” Protozoans</cp:keywords>
  <dc:language>en-US</dc:language>
  <cp:lastModifiedBy>RomaK</cp:lastModifiedBy>
  <dcterms:modified xsi:type="dcterms:W3CDTF">2015-09-04T10:52:44Z</dcterms:modified>
  <cp:revision>9</cp:revision>
  <dc:subject/>
  <dc:title>Kingdom Protista  “  The Catch-All Kingdom” Protozoans</dc:title>
</cp:coreProperties>
</file>