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312A-DEF9-48B7-BD6D-87EE16F0D2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BA6-2CC9-446F-989C-652C366E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80B-4F44-49E1-B3C8-740C7D03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5129-3452-4961-A29F-EB9550B1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1BF-A37F-4CDB-B623-A4B71274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6C3E-BCB4-490B-96E5-EEB1BEA2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9FBC-C60B-4412-BAC8-505AB396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0C39-F1FD-4337-8629-5EF45C7F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32E9-0A65-4B89-8322-DBE7FB73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0294-9A08-4CE9-AEF0-6EE3A5C1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F22D-5B11-4B61-B56E-FC907384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8FB9-4C96-415C-99C1-758E1A48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585-9A9C-4062-9D21-4217F2F2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9211-FB8A-4DB2-B1E6-B8016241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0FE7-54C3-42DC-8125-2C178318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B3C2-6D77-43A2-AD6A-0B058C10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6E89-C267-4F87-9051-BEF3A5B7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16D1-1BCF-4919-8C82-26BCE1B4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3E45-4A72-4E4E-B143-D044B217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BEE-A05D-4907-BDB0-A973AD9C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003-77CF-48A8-BA3D-E209E30E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29B-3AEB-452F-A437-25B3AEC1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0ACF-A896-4F72-9D3C-FF930912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0A94-7D5D-4302-9158-CB3B37A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452-3107-4235-AC36-9F04608B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4C49-C98D-42E4-B920-2F864C4A8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D326-6BFF-4A45-93F7-60FBEE0399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Kingdom Protista</a:t>
            </a:r>
            <a:br>
              <a:rPr sz="80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“  The Catch-All Kingdom” Protozoan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ndosymbiotic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5" descr="endosymbiosisnice2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3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Phylums…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rcod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phylumsarcodina"/>
          <p:cNvPicPr/>
          <p:nvPr/>
        </p:nvPicPr>
        <p:blipFill>
          <a:blip r:embed="rId1"/>
          <a:stretch/>
        </p:blipFill>
        <p:spPr>
          <a:xfrm>
            <a:off x="1447920" y="1282680"/>
            <a:ext cx="66294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Ciliopho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paramecium1"/>
          <p:cNvPicPr/>
          <p:nvPr/>
        </p:nvPicPr>
        <p:blipFill>
          <a:blip r:embed="rId1"/>
          <a:stretch/>
        </p:blipFill>
        <p:spPr>
          <a:xfrm>
            <a:off x="914400" y="676440"/>
            <a:ext cx="64436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Zoomastig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tsetse2"/>
          <p:cNvPicPr/>
          <p:nvPr/>
        </p:nvPicPr>
        <p:blipFill>
          <a:blip r:embed="rId1"/>
          <a:stretch/>
        </p:blipFill>
        <p:spPr>
          <a:xfrm>
            <a:off x="2438280" y="1752480"/>
            <a:ext cx="4800600" cy="40928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setse fly – sleeping sickness vec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issing Bu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image001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ishmania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figure1"/>
          <p:cNvPicPr/>
          <p:nvPr/>
        </p:nvPicPr>
        <p:blipFill>
          <a:blip r:embed="rId1"/>
          <a:stretch/>
        </p:blipFill>
        <p:spPr>
          <a:xfrm>
            <a:off x="1371600" y="1752480"/>
            <a:ext cx="61056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Sporozo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malaria_Life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pconjugation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Prot016b"/>
          <p:cNvPicPr/>
          <p:nvPr/>
        </p:nvPicPr>
        <p:blipFill>
          <a:blip r:embed="rId1"/>
          <a:stretch/>
        </p:blipFill>
        <p:spPr>
          <a:xfrm>
            <a:off x="380880" y="1371600"/>
            <a:ext cx="3181320" cy="4762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olih023p"/>
          <p:cNvPicPr/>
          <p:nvPr/>
        </p:nvPicPr>
        <p:blipFill>
          <a:blip r:embed="rId2"/>
          <a:stretch/>
        </p:blipFill>
        <p:spPr>
          <a:xfrm>
            <a:off x="4191120" y="2209680"/>
            <a:ext cx="42861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hizogon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4 Phyla of Protozoans</a:t>
            </a:r>
            <a:br>
              <a:rPr sz="40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dap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olution of Protis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3:08:46Z</dcterms:created>
  <dc:creator>teacher</dc:creator>
  <dc:description>Kingdom Protista  “  The Catch-All Kingdom” Protozoans</dc:description>
  <cp:keywords>Kingdom Protista  “  The Catch-All Kingdom” Protozoans</cp:keywords>
  <dc:language>en-US</dc:language>
  <cp:lastModifiedBy>RomaK</cp:lastModifiedBy>
  <dcterms:modified xsi:type="dcterms:W3CDTF">2015-09-04T10:52:44Z</dcterms:modified>
  <cp:revision>9</cp:revision>
  <dc:subject/>
  <dc:title>Kingdom Protista  “  The Catch-All Kingdom” Protozoans</dc:title>
</cp:coreProperties>
</file>