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5214-D76D-480C-9989-E236E710FC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otprints brea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otprints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s that allow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 in / CO2 ou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s rings of cartil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 (bronch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o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veoli (alveo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uter ani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s that allow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 in / CO2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s rings of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 (bronch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veoli (alveo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u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(air sac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large surface area for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ung equivalent to a tennis court of surface area using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prints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(air sa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large surface area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ung equivalent to a tennis court of surface area using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prints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 of Alveoli for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surface area to absorb oxyg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 surface to allow oxygen to dissolv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 lining to allow easy diffusion of ga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nse network of blood capillaries for easy gas exchan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ool adaptation of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 of Alveoli for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surface area to absorb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 surface to allow oxygen to dis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 lining to allow easy diffusion of g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nse network of blood capillaries for easy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ool adaptation of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apillaries for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network to carry CO2 and O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urface area to transport ga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ing is one cell thick so gases can pass through quickly and easi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apillaries for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network to carry CO2 and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urface area to transport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ing is one cell thick so gases can pass through quickly and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5BC-16B6-4ADD-9482-7993549D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B698-B7B2-4A12-B4FD-EC44403C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EB49-D5B3-4F2C-BA71-6C14F7E9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2CD-17D0-417D-8877-AC37B212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9A5B-9198-49A9-99B3-837041F3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38AD-BFF1-4B9B-B338-BBA10191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53AD-E870-4C74-98F6-EE3556A5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F453-F38D-4327-A8C4-5138D292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9A64-D2B4-4D95-A92B-169310C6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4BCD-D6C3-42A7-A0B2-3E258BEB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5463-8AE6-42CA-9BB4-567DACBE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1F3-07AB-46D9-942C-DF0F9079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DB8E-301A-49E6-A4BD-FE3C60C1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5B76-E7C8-4BF5-930E-A314CE9D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B728-5152-4774-A2CC-FA3F08CB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8E0C-7042-42BE-AF4B-6441ACC2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0294-DEB0-4C85-8EB0-E18676DA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201-2661-46C5-8074-2014451D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708-FDB2-4266-A26E-6B52E6D3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471-E891-44FC-85FF-AD810D5F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718-E35A-4B78-B232-D101F040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C73-A6B3-4D66-922F-A34CB403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14F-A986-4D8B-B3B8-1F812F90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B96D-DA3E-4C2E-ACF6-733EEE32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DA9F-EA32-4607-AF3F-FDC52CAD04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18D2-32ED-4FAD-8096-D794BA9557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Lu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y the end of the lesson you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bel the internal structures of the lu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alveoli which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lain the role of diffusion in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capillary network that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Breath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breathing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399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1608480" y="602928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otprints breath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The lung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rgans that allow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</a:rPr>
              <a:t>gas exchan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xygen in / CO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ou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rache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- has rings of cartil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ronchi (bronchu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ronchio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lveoli (alveolu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0" descr="Lungs1"/>
          <p:cNvPicPr/>
          <p:nvPr/>
        </p:nvPicPr>
        <p:blipFill>
          <a:blip r:embed="rId1"/>
          <a:stretch/>
        </p:blipFill>
        <p:spPr>
          <a:xfrm>
            <a:off x="457200" y="1828800"/>
            <a:ext cx="3903840" cy="5029200"/>
          </a:xfrm>
          <a:prstGeom prst="rect">
            <a:avLst/>
          </a:prstGeom>
          <a:ln w="0">
            <a:noFill/>
          </a:ln>
        </p:spPr>
      </p:pic>
      <p:sp>
        <p:nvSpPr>
          <p:cNvPr id="101" name="Line 13"/>
          <p:cNvSpPr/>
          <p:nvPr/>
        </p:nvSpPr>
        <p:spPr>
          <a:xfrm>
            <a:off x="2514600" y="2666880"/>
            <a:ext cx="205740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14"/>
          <p:cNvSpPr/>
          <p:nvPr/>
        </p:nvSpPr>
        <p:spPr>
          <a:xfrm flipH="1">
            <a:off x="2514240" y="4114800"/>
            <a:ext cx="21337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2895120" y="4572000"/>
            <a:ext cx="175284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16"/>
          <p:cNvSpPr/>
          <p:nvPr/>
        </p:nvSpPr>
        <p:spPr>
          <a:xfrm flipH="1">
            <a:off x="3809520" y="4952880"/>
            <a:ext cx="8384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4780440" y="5486400"/>
            <a:ext cx="23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puter ani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Alveoli (air sac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3" descr="alveoli"/>
          <p:cNvPicPr/>
          <p:nvPr/>
        </p:nvPicPr>
        <p:blipFill>
          <a:blip r:embed="rId1"/>
          <a:srcRect l="0" t="11594" r="0" b="1159"/>
          <a:stretch/>
        </p:blipFill>
        <p:spPr>
          <a:xfrm>
            <a:off x="533520" y="1295280"/>
            <a:ext cx="3952800" cy="4537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provide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</a:rPr>
              <a:t>large surface area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for gas exchan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ne lung equivalent to a tennis court of surface area using alveo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94320" y="541980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otprints alve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476280"/>
            <a:ext cx="8647200" cy="5218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468360" y="501336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76720" y="5516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419640" y="333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7524720" y="544500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8"/>
          <p:cNvSpPr/>
          <p:nvPr/>
        </p:nvSpPr>
        <p:spPr>
          <a:xfrm flipV="1">
            <a:off x="1116000" y="436572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9"/>
          <p:cNvSpPr/>
          <p:nvPr/>
        </p:nvSpPr>
        <p:spPr>
          <a:xfrm flipH="1" flipV="1">
            <a:off x="7740360" y="51577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250920" y="2565360"/>
            <a:ext cx="154764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1"/>
          <p:cNvSpPr/>
          <p:nvPr/>
        </p:nvSpPr>
        <p:spPr>
          <a:xfrm flipV="1">
            <a:off x="1116000" y="2707920"/>
            <a:ext cx="792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12"/>
          <p:cNvSpPr/>
          <p:nvPr/>
        </p:nvSpPr>
        <p:spPr>
          <a:xfrm flipH="1" flipV="1">
            <a:off x="1258560" y="3499920"/>
            <a:ext cx="865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78360" y="621648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kool gas exchan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eatures of Alveoli for efficient gas exchang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2160" y="191628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urface area to absorb oxyge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ist surface to allow oxygen to dissolv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n lining to allow easy diffusion of gas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nse network of blood capillaries for easy gas exchang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97200" y="621648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kool adaptation of alve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eatures of capillaries for efficient gas exchang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2160" y="191628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nse network to carry C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urface area to transport ga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ning is one cell thick so gases can pass through quickly and easil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Lu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bel the internal structures of the lu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alveoli which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lain the role of diffusion in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capillary network that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lungs structure and funcion</dc:description>
  <cp:keywords>lungs structure and funcion</cp:keywords>
  <dc:language>en-US</dc:language>
  <cp:lastModifiedBy>RomaK</cp:lastModifiedBy>
  <dcterms:modified xsi:type="dcterms:W3CDTF">2015-09-04T11:07:00Z</dcterms:modified>
  <cp:revision>6</cp:revision>
  <dc:subject>lungs structure and funcion</dc:subject>
  <dc:title>lungs structure and func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