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8D6E-6997-4A0F-847A-DD2FB735D2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otprints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s that allow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 in / CO2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s rings of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 (bronch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veoli (alveol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(air sa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large surface area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ung equivalent to a tennis court of surface area using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prints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atures of Alveoli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 surface area to absorb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 surface to allow oxygen to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n lining to allow easy diffusion of g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nse network of blood capillaries for easy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ool adaptation of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capillaries for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network to carry CO2 and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surface area to transport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ing is one cell thick so gases can pass through quickly and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internal structures of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alveoli which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ole of diffusion in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eatures of the capillary network that allow efficient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CF1-1270-43E0-A36D-D93CC429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7034-F17F-4F03-A46B-E278AE23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C291-E6C1-4F9B-A0E9-BF72CF2D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D9D-FAF3-44EA-A2E8-D04BD3D3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7EA2-2E40-403C-A521-E53EE373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07A9-003B-46CD-98EB-A1232F9C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AD4C-2C15-4867-9B2E-661471C1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7298-0652-4ADF-A943-89CE735E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EA3B-8065-4BE8-9EB1-FC998D86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39C4-1B0D-44A6-A7E2-13ACE3A0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D4D5-8D55-4EDE-9EF8-6DDD419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E5F-7629-4D3D-8367-A54F7A61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4967-1F9C-4406-AB66-A322CE35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4BE8-DA83-4D2B-B1FA-3E24AC77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DEAE-3C78-47CD-A84C-7AEB3C1B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6A2C-68DD-47A8-80F0-A8480579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2C28-40C0-46C1-BF0E-2DCC0040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CEF-5D32-4736-ACB7-11DFB705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1AC-7874-42F8-BA62-2E0699F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908-5FAA-488C-815E-6B1F3241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37F-0D5A-4A94-88BB-5A3FADBB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BC3-0A7E-42BC-9654-0DCD8ECB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345-D25C-4D67-8EC4-F083CF2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B8E-D446-41C4-9554-00186884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DF3A-A4FA-42C9-97D3-75208996AD5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D120-971D-4572-A630-40FA41C8EF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e lesson you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Breath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breathing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43992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608480" y="6029280"/>
            <a:ext cx="23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breath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The lung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rgans that allow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xygen in / CO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out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rache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- has rings of cartil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 (bronch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bronchi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lveoli (alveolu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0" descr="Lungs1"/>
          <p:cNvPicPr/>
          <p:nvPr/>
        </p:nvPicPr>
        <p:blipFill>
          <a:blip r:embed="rId1"/>
          <a:stretch/>
        </p:blipFill>
        <p:spPr>
          <a:xfrm>
            <a:off x="457200" y="1828800"/>
            <a:ext cx="3903840" cy="5029200"/>
          </a:xfrm>
          <a:prstGeom prst="rect">
            <a:avLst/>
          </a:prstGeom>
          <a:ln w="0">
            <a:noFill/>
          </a:ln>
        </p:spPr>
      </p:pic>
      <p:sp>
        <p:nvSpPr>
          <p:cNvPr id="101" name="Line 13"/>
          <p:cNvSpPr/>
          <p:nvPr/>
        </p:nvSpPr>
        <p:spPr>
          <a:xfrm>
            <a:off x="2514600" y="2666880"/>
            <a:ext cx="205740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2514240" y="4114800"/>
            <a:ext cx="21337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15"/>
          <p:cNvSpPr/>
          <p:nvPr/>
        </p:nvSpPr>
        <p:spPr>
          <a:xfrm flipH="1">
            <a:off x="2895120" y="4572000"/>
            <a:ext cx="175284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 flipH="1">
            <a:off x="3809520" y="4952880"/>
            <a:ext cx="838440" cy="381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7"/>
          <p:cNvSpPr/>
          <p:nvPr/>
        </p:nvSpPr>
        <p:spPr>
          <a:xfrm>
            <a:off x="4780440" y="548640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mputer ani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5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omic Sans MS"/>
              </a:rPr>
              <a:t>Alveoli (air sac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3" descr="alveoli"/>
          <p:cNvPicPr/>
          <p:nvPr/>
        </p:nvPicPr>
        <p:blipFill>
          <a:blip r:embed="rId1"/>
          <a:srcRect l="0" t="11594" r="0" b="1159"/>
          <a:stretch/>
        </p:blipFill>
        <p:spPr>
          <a:xfrm>
            <a:off x="533520" y="1295280"/>
            <a:ext cx="3952800" cy="4537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provide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</a:rPr>
              <a:t>large surface are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or gas exchan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one lung equivalent to a tennis court of surface area using alveo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94320" y="54198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otprints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476280"/>
            <a:ext cx="8647200" cy="5218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468360" y="5013360"/>
            <a:ext cx="143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sac in lu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76720" y="5516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41964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xygenated bl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7524720" y="544500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8"/>
          <p:cNvSpPr/>
          <p:nvPr/>
        </p:nvSpPr>
        <p:spPr>
          <a:xfrm flipV="1">
            <a:off x="1116000" y="436572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9"/>
          <p:cNvSpPr/>
          <p:nvPr/>
        </p:nvSpPr>
        <p:spPr>
          <a:xfrm flipH="1" flipV="1">
            <a:off x="7740360" y="5157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50920" y="2565360"/>
            <a:ext cx="1547640" cy="12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1"/>
          <p:cNvSpPr/>
          <p:nvPr/>
        </p:nvSpPr>
        <p:spPr>
          <a:xfrm flipV="1">
            <a:off x="1116000" y="270792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2"/>
          <p:cNvSpPr/>
          <p:nvPr/>
        </p:nvSpPr>
        <p:spPr>
          <a:xfrm flipH="1" flipV="1">
            <a:off x="1258560" y="3499920"/>
            <a:ext cx="8650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78360" y="621648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gas exch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Alveoli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absorb oxyge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ist surface to allow oxygen to dissol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n lining to allow easy diffusion of gas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of blood capillaries for easy gas exchang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7200" y="621648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kool adaptation of alveo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eatures of capillaries for efficient gas exchang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2160" y="1916280"/>
            <a:ext cx="83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nse network to carry C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O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arge surface area to transport ga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ining is one cell thick so gases can pass through quickly and easi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n you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bel the internal structures of the lu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alveoli which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plain the role of diffusion in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te the features of the capillary network that allow efficient gas ex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lungs structure and funcion</dc:description>
  <cp:keywords>lungs structure and funcion</cp:keywords>
  <dc:language>en-US</dc:language>
  <cp:lastModifiedBy>RomaK</cp:lastModifiedBy>
  <dcterms:modified xsi:type="dcterms:W3CDTF">2015-09-04T11:07:00Z</dcterms:modified>
  <cp:revision>6</cp:revision>
  <dc:subject>lungs structure and funcion</dc:subject>
  <dc:title>lungs structure and func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