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98F1-C596-4B6A-AE01-9CB188238C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ntal and Emo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 – feeling of sadness loneliness and desp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life str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 ab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o identify your source of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ings into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the positive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someone you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ideal - your mental image of what you would like to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concept – the current mental image you have of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Mechanis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chniques people use to protect themselves from being h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– 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low’s Hierarchy of Needs – focusing on the positive aspects of human behavi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organized human need by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Mental and Emotional Diso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disorder – mental and emotional disorders resulting from a physical ca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illness- brain tum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jury – blow  to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imbalance – drugs to destroy brai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ting Disorders – deep emotional problems related to self – image and self-este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psychiatric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among t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xiety disorder – a condition in which fear or anxiety prevents one from enjoying life and completing everyday tas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bias most well k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women then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eling you have about yourself and your abilities to deal with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ciative disorder – a condition in which someone’s personality changes to the point that the person believes he or she is someone el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personality disor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d Disorder – a condition in which one mood is experienced almost to the exclusion of other fee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so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hond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ing Help IF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prolonged feeling of depression or hop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lings that life is out of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concentrate or make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getting along with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e f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difficulty sl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 problems coping with a physical il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ability to stop destructiv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analysis – examines unresolved conflict from the p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therapy – focuses on the persons behavior now rather then the underly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Therapy- meetings of people with similar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Therapy – the use of drugs to treat mental and emotional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 be dangerous and addi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Esteem – pride in and acceptance of yourself; feeling good about yourself and your 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s at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Image – the view a person has on his or 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self talk – talking in a positive way to yourself about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disclosure – telling another person meaningful info abou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ha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 them in a positive way (not neg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eps to Improv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ink about what you are good at, and build on those 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elect supportive and encouraging 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ractice good health ha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Exercise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ink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3 things that make you happy every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goals, be real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ware of perfecti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difference in the world, help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Volun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yoursel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n !!!!!!!!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– Esteem more than any other factors has a direct effect on all 5 aspects of your heal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– strong affection or caring for some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– feeling of joy and well being or conten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sm – feeling that life experiences will be posi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 – a way of expressing some negative emotions in a more positive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– feeling of dang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your fear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talk – saying things to yourself to view the fear more realis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al planning – rearranging the environment to reduce your f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– strong feeling or irritati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ing anger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nel emotions appropriately, so that they are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your feelings and the source of the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lt – feeling that you have done something wrong or are responsible for something bad happe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lousy – feeling of wanting something that someone else has or of losing something you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eliness – feeling of isolation or alie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yness- being timid or bash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3A59-F963-45D3-87E9-16F0852B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BD6-0784-4F78-BA18-E151E051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730-E8FB-4B67-8DC5-8D50DB3CF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981-71E0-4686-8C46-17761330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ACBC-2ABC-4E0F-A4AA-EC1ADFA5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E4CD-A952-4C5A-91BD-C1159EB7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E37F-A9C1-4FBC-88CA-AE850B1B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E0FF-8954-466C-ABDD-E7751C69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F9F0-70F5-4F60-8950-A3B67B74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DCC3-033C-4074-B75B-35F32EB8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7A6C-F269-4DAE-8D11-C20F5686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A23B-F524-45CD-8815-46F26D20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2522-1A45-4450-9937-4C76983E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4AA4-730A-4D1E-BA0F-C89487C7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402D-8310-44B4-BC87-BC510537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7844-BEA1-4AD7-834D-8BBE2135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F5C2-D507-4A6F-B81C-1A2564227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2BB95-7D4B-4AE9-9A4F-F318469E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AB72A-3628-45FF-9F6E-E0C3CBC2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07782-34AE-4E61-BA4F-8E111692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A88AB-4E36-4FAA-830C-3A661719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AA616-F38F-4AD1-9360-20B273B4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40FB-290D-4088-8B38-72F2532B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0C58E-DAC0-48A8-8650-DB264250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AB074-4BC1-4E64-B366-7EBC7EC8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5D00E-2BEF-41AF-84C4-4C515A8B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67680-23A0-411E-AA71-00206F1B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9A070-F797-41FD-9F0F-007E7B17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72206-D58D-49BC-9ADA-BE94F662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24BB7-BB3F-45E6-9537-0E224087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7CCD-74F1-4828-B69B-903A7EF7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75D3-CE1A-4DDC-8D48-039CBDF1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8878-6902-423D-A934-A42EC8CA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988-B3B0-4FC6-A1AD-6629CEA4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C4C-BA46-4AB9-8D97-D5167919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C68-9A5A-48BE-9C22-13C1C4AD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4030-F7CA-4ABE-8130-34EA440C2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0549-12C6-4BE0-BF69-D053BD7AA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0B18-7EB2-45F3-A5FA-FF68CD54016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447920" y="990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ntal and Emotional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pression – feeling of sadness loneliness and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spair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amily Histo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jor life stressor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hysical illnes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ubstance abu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depre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y to identify your source of depress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ut things into perspec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ocus on the positive thing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alk to someone you trus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ideal - your mental image of what you would like to 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 concept – the current mental image you have of yourself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Defense Mechanisms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echniques people use to protect themselves from being hurt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ge – 16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slow’s Hierarchy of Needs – focusing on the positive aspects of human behavior.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 organized human need by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Diagram 0"/>
          <p:cNvGrpSpPr/>
          <p:nvPr/>
        </p:nvGrpSpPr>
        <p:grpSpPr>
          <a:xfrm>
            <a:off x="2469240" y="1523520"/>
            <a:ext cx="4357440" cy="3918240"/>
            <a:chOff x="2469240" y="1523520"/>
            <a:chExt cx="4357440" cy="3918240"/>
          </a:xfrm>
        </p:grpSpPr>
        <p:sp>
          <p:nvSpPr>
            <p:cNvPr id="176" name="_s1028"/>
            <p:cNvSpPr/>
            <p:nvPr/>
          </p:nvSpPr>
          <p:spPr>
            <a:xfrm flipV="1">
              <a:off x="4212720" y="1523520"/>
              <a:ext cx="870480" cy="783360"/>
            </a:xfrm>
            <a:custGeom>
              <a:avLst/>
              <a:gdLst>
                <a:gd name="textAreaLeft" fmla="*/ 312120 w 870480"/>
                <a:gd name="textAreaRight" fmla="*/ 558360 w 870480"/>
                <a:gd name="textAreaTop" fmla="*/ 281160 h 783360"/>
                <a:gd name="textAreaBottom" fmla="*/ 50220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Self Actualiz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al growth and fulfill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_s1029"/>
            <p:cNvSpPr/>
            <p:nvPr/>
          </p:nvSpPr>
          <p:spPr>
            <a:xfrm flipV="1">
              <a:off x="3777120" y="2306160"/>
              <a:ext cx="1741320" cy="783720"/>
            </a:xfrm>
            <a:custGeom>
              <a:avLst/>
              <a:gdLst>
                <a:gd name="textAreaLeft" fmla="*/ 382680 w 1741320"/>
                <a:gd name="textAreaRight" fmla="*/ 1358640 w 1741320"/>
                <a:gd name="textAreaTop" fmla="*/ 172080 h 783720"/>
                <a:gd name="textAreaBottom" fmla="*/ 611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ahoma"/>
                </a:rPr>
                <a:t>Esteem need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hievement, responsibility, reputatio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_s1030"/>
            <p:cNvSpPr/>
            <p:nvPr/>
          </p:nvSpPr>
          <p:spPr>
            <a:xfrm flipV="1">
              <a:off x="3340080" y="3089880"/>
              <a:ext cx="2615760" cy="783720"/>
            </a:xfrm>
            <a:custGeom>
              <a:avLst/>
              <a:gdLst>
                <a:gd name="textAreaLeft" fmla="*/ 453960 w 2615760"/>
                <a:gd name="textAreaRight" fmla="*/ 2161800 w 2615760"/>
                <a:gd name="textAreaTop" fmla="*/ 136080 h 783720"/>
                <a:gd name="textAreaBottom" fmla="*/ 64764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elongingness and love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amily affection, relationships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_s1031"/>
            <p:cNvSpPr/>
            <p:nvPr/>
          </p:nvSpPr>
          <p:spPr>
            <a:xfrm flipV="1">
              <a:off x="2904480" y="3873600"/>
              <a:ext cx="3486600" cy="783720"/>
            </a:xfrm>
            <a:custGeom>
              <a:avLst/>
              <a:gdLst>
                <a:gd name="textAreaLeft" fmla="*/ 524520 w 3486600"/>
                <a:gd name="textAreaRight" fmla="*/ 2962080 w 3486600"/>
                <a:gd name="textAreaTop" fmla="*/ 117720 h 783720"/>
                <a:gd name="textAreaBottom" fmla="*/ 6660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afety Need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tection, security, law and ord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_s1032"/>
            <p:cNvSpPr/>
            <p:nvPr/>
          </p:nvSpPr>
          <p:spPr>
            <a:xfrm flipV="1">
              <a:off x="2469240" y="4657680"/>
              <a:ext cx="4357440" cy="783720"/>
            </a:xfrm>
            <a:custGeom>
              <a:avLst/>
              <a:gdLst>
                <a:gd name="textAreaLeft" fmla="*/ 595080 w 4357440"/>
                <a:gd name="textAreaRight" fmla="*/ 3762360 w 4357440"/>
                <a:gd name="textAreaTop" fmla="*/ 106920 h 783720"/>
                <a:gd name="textAreaBottom" fmla="*/ 676800 h 78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iological and physiological nee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sic life needs- air, food, shelter, slee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Types of Mental and Emotional Disorder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Organic disorder – mental and emotional disorders resulting from a physical cause.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llness- brain tum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ury – blow  to the 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mical imbalance – drugs to destroy brain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ating Disorders – deep emotional problems related to self – image and self-estee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quired psychiatric trea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creased among tee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nxiety disorder – a condition in which fear or anxiety prevents one from enjoying life and completing everyday task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obias most well kn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women then 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Tahoma"/>
              </a:rPr>
              <a:t>Mental Health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The feeling you have about yourself and your abilities to deal with problems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ssociative disorder – a condition in which someone’s personality changes to the point that the person believes he or she is someone el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personality disor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od Disorder – a condition in which one mood is experienced almost to the exclusion of other feeling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onality Disorder – an emotional condition in which a person’s patterns of behavior negatively affects that person’s ability to get along with oth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soc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omatoform Disorder – emotional condition in which there are physical symptoms but no identifiable disease or injury, physical symptoms are caused by psychological facto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pochond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Seeking Help IF You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ve prolonged feeling of depression or hopelessn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eelings that life is out of contr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ability to concentrate or make decisio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fficulty getting along with other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tense fea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rsistent difficulty sleep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Emotional problems coping with a physical ill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ability to stop destructive behavior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Types of Treatment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sychoanalysis – examines unresolved conflict from the pas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havior therapy – focuses on the persons behavior now rather then the underlying proble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Cont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roup Therapy- meetings of people with similar problem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emical Therapy – the use of drugs to treat mental and emotional disorder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(can be dangerous and addictive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6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Esteem – pride in and acceptance of yourself; feeling good about yourself and your abilities.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>
              <a:spcBef>
                <a:spcPts val="10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egins at Birt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-702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Body Image – the view a person has on his or her bo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sitive self talk – talking in a positive way to yourself about yourself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 – disclosure – telling another person meaningful info about yourself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Emotions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Norm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veryone has them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Express them in a positive way (not negative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0 Steps to Improve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f-Este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ink about what you are good at, and build on those abiliti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Select supportive and encouraging friend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Practice good health habi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-21132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4.  Exercise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hink positiv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Write down 3 things that make you happy everyda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et goals, be realistic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8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eware of perfection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14688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ake a difference in the world, help other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*Volunte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Reward yourself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ve fun !!!!!!!!!!!!!!!!!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-3495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elf – Esteem more than any other factors has a direct effect on all 5 aspects of your health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2640" y="213840"/>
            <a:ext cx="780084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ahoma"/>
              </a:rPr>
              <a:t>Emotions Examples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81200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Love – strong affection or caring for someone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Happiness – feeling of joy and well being or contentment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timism – feeling that life experiences will be positiv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umor – a way of expressing some negative emotions in a more positive way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Fear – feeling of danger</a:t>
            </a:r>
            <a:br>
              <a:rPr sz="4000"/>
            </a:b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anaging your fears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f talk – saying things to yourself to view the fear more realisticall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nvironmental planning – rearranging the environment to reduce your fear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Anger – strong feeling or irritation.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ging anger 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hannel emotions appropriately, so that they are positi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Recognize your feelings and the source of the anger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Guilt – feeling that you have done something wrong or are responsible for something bad happen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alousy – feeling of wanting something that someone else has or of losing something you hav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Loneliness – feeling of isolation or alienatio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Shyness- being timid or bashfu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9:33:29Z</dcterms:created>
  <dc:creator>workshop</dc:creator>
  <dc:description/>
  <dc:language>en-US</dc:language>
  <cp:lastModifiedBy>RomaK</cp:lastModifiedBy>
  <cp:lastPrinted>2008-06-08T23:00:35Z</cp:lastPrinted>
  <dcterms:modified xsi:type="dcterms:W3CDTF">2015-09-04T10:41:56Z</dcterms:modified>
  <cp:revision>20</cp:revision>
  <dc:subject/>
  <dc:title>Chapter 7</dc:title>
</cp:coreProperties>
</file>