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4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4.png" ContentType="image/png"/>
  <Override PartName="/ppt/media/image16.png" ContentType="image/pn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9186-9C08-4400-B3DC-EAA5EF2980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CROB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e of a bacte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a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oli (bacteria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li (bacte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ntal Plaqu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al Plaqu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ntal plaque bacter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al plaque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ntact lens bacteria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lens bacteri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producing bacter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ing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.Coli divid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Coli divi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inary fission E.Col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ry fission E.C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.Coli (scanning electromicrograph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Coli (scanning electromicrograp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Leptospira (spiral bacteria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ptospira (spiral bacte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caterial flagell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aterial 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ung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g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hizopuz stonolifer - bread moul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izopuz stonolifer - bread mou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d mold spo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 mold sp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denovir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denovirus diagra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ovirus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denovirus electronmicrograp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ovirus electronmicr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ickenpox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npox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pillomavirus – Wart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illomavirus – War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2 Bacteriopha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2 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C67E-982F-4D7E-90C3-4F2C9FA96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510A-D3C2-4901-A386-AB5D1449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6A5F-B5BA-4A23-AD5B-14DE6678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F77B-3FD8-418F-9D76-BAE47872D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8D33-205E-4E86-B10C-FE9844B3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0A72-004B-47BE-BA23-CE011870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A5AB-3B13-4728-9CF8-F396C7C8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A91D-E450-4554-ACCF-B914569C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F34F-E425-4967-B6CC-5F60EC80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A6D5-B97B-4F9D-A37F-E5C22089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03AE-00CB-4C1D-A7C9-ED649ADC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CE18-701E-48D6-9380-B0C36CF7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Microb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F015-46E4-496A-97BE-99408B5F0D4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0000"/>
                </a:solidFill>
                <a:latin typeface="Comic Sans MS"/>
              </a:rPr>
              <a:t>MICROBES</a:t>
            </a:r>
            <a:endParaRPr b="0" lang="en-US" sz="8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ma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Structure of a bacteriu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7" name="Picture 4" descr="Bacteria structure"/>
          <p:cNvPicPr/>
          <p:nvPr/>
        </p:nvPicPr>
        <p:blipFill>
          <a:blip r:embed="rId1"/>
          <a:stretch/>
        </p:blipFill>
        <p:spPr>
          <a:xfrm>
            <a:off x="2171880" y="2457360"/>
            <a:ext cx="48006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Bacter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9" name="Picture 4" descr="bacilli"/>
          <p:cNvPicPr/>
          <p:nvPr/>
        </p:nvPicPr>
        <p:blipFill>
          <a:blip r:embed="rId1"/>
          <a:stretch/>
        </p:blipFill>
        <p:spPr>
          <a:xfrm>
            <a:off x="2050920" y="2403360"/>
            <a:ext cx="482616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Ecoli (bacteria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1" name="Picture 4" descr="EColi 2"/>
          <p:cNvPicPr/>
          <p:nvPr/>
        </p:nvPicPr>
        <p:blipFill>
          <a:blip r:embed="rId1"/>
          <a:stretch/>
        </p:blipFill>
        <p:spPr>
          <a:xfrm>
            <a:off x="1979640" y="2290680"/>
            <a:ext cx="525636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Dental Plaque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3" name="Picture 4" descr="dental plaque"/>
          <p:cNvPicPr/>
          <p:nvPr/>
        </p:nvPicPr>
        <p:blipFill>
          <a:blip r:embed="rId1"/>
          <a:stretch/>
        </p:blipFill>
        <p:spPr>
          <a:xfrm>
            <a:off x="2925720" y="1557360"/>
            <a:ext cx="3446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Dental plaque bacter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5" name="Picture 4" descr="dental plaque2"/>
          <p:cNvPicPr/>
          <p:nvPr/>
        </p:nvPicPr>
        <p:blipFill>
          <a:blip r:embed="rId1"/>
          <a:stretch/>
        </p:blipFill>
        <p:spPr>
          <a:xfrm>
            <a:off x="1619280" y="2216160"/>
            <a:ext cx="554508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Contact lens bacteria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7" name="Picture 4" descr="contact lenses"/>
          <p:cNvPicPr/>
          <p:nvPr/>
        </p:nvPicPr>
        <p:blipFill>
          <a:blip r:embed="rId1"/>
          <a:stretch/>
        </p:blipFill>
        <p:spPr>
          <a:xfrm>
            <a:off x="2124000" y="2305080"/>
            <a:ext cx="475308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Reproducing bacter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9" name="Picture 4" descr="staphylococcus"/>
          <p:cNvPicPr/>
          <p:nvPr/>
        </p:nvPicPr>
        <p:blipFill>
          <a:blip r:embed="rId1"/>
          <a:stretch/>
        </p:blipFill>
        <p:spPr>
          <a:xfrm>
            <a:off x="1979640" y="2563920"/>
            <a:ext cx="53290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E.Coli divid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1" name="Picture 4" descr="e"/>
          <p:cNvPicPr/>
          <p:nvPr/>
        </p:nvPicPr>
        <p:blipFill>
          <a:blip r:embed="rId1"/>
          <a:stretch/>
        </p:blipFill>
        <p:spPr>
          <a:xfrm>
            <a:off x="1954080" y="1981080"/>
            <a:ext cx="5235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Binary fission E.Col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Picture 4" descr="binary fission e"/>
          <p:cNvPicPr/>
          <p:nvPr/>
        </p:nvPicPr>
        <p:blipFill>
          <a:blip r:embed="rId1"/>
          <a:stretch/>
        </p:blipFill>
        <p:spPr>
          <a:xfrm>
            <a:off x="1981080" y="1981080"/>
            <a:ext cx="518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E.Coli (scanning electromicrograph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" name="Picture 4" descr="ecoli"/>
          <p:cNvPicPr/>
          <p:nvPr/>
        </p:nvPicPr>
        <p:blipFill>
          <a:blip r:embed="rId1"/>
          <a:stretch/>
        </p:blipFill>
        <p:spPr>
          <a:xfrm>
            <a:off x="1828800" y="2130480"/>
            <a:ext cx="54864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4" descr="bacteriophage"/>
          <p:cNvPicPr/>
          <p:nvPr/>
        </p:nvPicPr>
        <p:blipFill>
          <a:blip r:embed="rId1"/>
          <a:stretch/>
        </p:blipFill>
        <p:spPr>
          <a:xfrm>
            <a:off x="2771640" y="333360"/>
            <a:ext cx="4248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Leptospira (spiral bacteria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Picture 4" descr="leptospira"/>
          <p:cNvPicPr/>
          <p:nvPr/>
        </p:nvPicPr>
        <p:blipFill>
          <a:blip r:embed="rId1"/>
          <a:stretch/>
        </p:blipFill>
        <p:spPr>
          <a:xfrm>
            <a:off x="2195640" y="1690560"/>
            <a:ext cx="475272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Bcaterial flagell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Picture 4" descr="flagella"/>
          <p:cNvPicPr/>
          <p:nvPr/>
        </p:nvPicPr>
        <p:blipFill>
          <a:blip r:embed="rId1"/>
          <a:stretch/>
        </p:blipFill>
        <p:spPr>
          <a:xfrm>
            <a:off x="2660760" y="1773360"/>
            <a:ext cx="38876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Fung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Picture 4" descr="fungi"/>
          <p:cNvPicPr/>
          <p:nvPr/>
        </p:nvPicPr>
        <p:blipFill>
          <a:blip r:embed="rId1"/>
          <a:stretch/>
        </p:blipFill>
        <p:spPr>
          <a:xfrm>
            <a:off x="2948040" y="1844640"/>
            <a:ext cx="3411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Rhizopuz stonolifer - bread mould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Picture 4" descr="Rhizopus stolonifer, bread mold"/>
          <p:cNvPicPr/>
          <p:nvPr/>
        </p:nvPicPr>
        <p:blipFill>
          <a:blip r:embed="rId1"/>
          <a:stretch/>
        </p:blipFill>
        <p:spPr>
          <a:xfrm>
            <a:off x="2951280" y="1981080"/>
            <a:ext cx="3240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Bread mold spo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Picture 4" descr="bread mold spores"/>
          <p:cNvPicPr/>
          <p:nvPr/>
        </p:nvPicPr>
        <p:blipFill>
          <a:blip r:embed="rId1"/>
          <a:stretch/>
        </p:blipFill>
        <p:spPr>
          <a:xfrm>
            <a:off x="1960560" y="1981080"/>
            <a:ext cx="5221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adenoviru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3" name="Picture 4" descr="Adenovirus"/>
          <p:cNvPicPr/>
          <p:nvPr/>
        </p:nvPicPr>
        <p:blipFill>
          <a:blip r:embed="rId1"/>
          <a:stretch/>
        </p:blipFill>
        <p:spPr>
          <a:xfrm>
            <a:off x="3059280" y="1700280"/>
            <a:ext cx="3222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Adenovirus diagra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4" descr="adenodr2"/>
          <p:cNvPicPr/>
          <p:nvPr/>
        </p:nvPicPr>
        <p:blipFill>
          <a:blip r:embed="rId1"/>
          <a:stretch/>
        </p:blipFill>
        <p:spPr>
          <a:xfrm>
            <a:off x="2627280" y="2459160"/>
            <a:ext cx="41054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Adenovirus electronmicrograp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7" name="Picture 4" descr="adenovirus3"/>
          <p:cNvPicPr/>
          <p:nvPr/>
        </p:nvPicPr>
        <p:blipFill>
          <a:blip r:embed="rId1"/>
          <a:stretch/>
        </p:blipFill>
        <p:spPr>
          <a:xfrm>
            <a:off x="1332000" y="2185920"/>
            <a:ext cx="633564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Influenz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Picture 8" descr="influenza"/>
          <p:cNvPicPr/>
          <p:nvPr/>
        </p:nvPicPr>
        <p:blipFill>
          <a:blip r:embed="rId1"/>
          <a:stretch/>
        </p:blipFill>
        <p:spPr>
          <a:xfrm>
            <a:off x="2268360" y="2017800"/>
            <a:ext cx="460872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Chickenpox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1" name="Picture 4" descr="ChickenPox2"/>
          <p:cNvPicPr/>
          <p:nvPr/>
        </p:nvPicPr>
        <p:blipFill>
          <a:blip r:embed="rId1"/>
          <a:stretch/>
        </p:blipFill>
        <p:spPr>
          <a:xfrm>
            <a:off x="2451240" y="1557360"/>
            <a:ext cx="41068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Papillomavirus – Warts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3" name="Picture 4" descr="papillomavirus warts"/>
          <p:cNvPicPr/>
          <p:nvPr/>
        </p:nvPicPr>
        <p:blipFill>
          <a:blip r:embed="rId1"/>
          <a:stretch/>
        </p:blipFill>
        <p:spPr>
          <a:xfrm>
            <a:off x="2411280" y="1962000"/>
            <a:ext cx="4537080" cy="43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T2 Bacteriopha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5" name="Picture 4" descr="T2phage"/>
          <p:cNvPicPr/>
          <p:nvPr/>
        </p:nvPicPr>
        <p:blipFill>
          <a:blip r:embed="rId1"/>
          <a:stretch/>
        </p:blipFill>
        <p:spPr>
          <a:xfrm>
            <a:off x="2486160" y="1916280"/>
            <a:ext cx="417672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1T20:57:43Z</dcterms:created>
  <dc:creator>Bella Griffiths</dc:creator>
  <dc:description/>
  <dc:language>en-US</dc:language>
  <cp:lastModifiedBy>RomaK</cp:lastModifiedBy>
  <dcterms:modified xsi:type="dcterms:W3CDTF">2015-09-04T10:53:08Z</dcterms:modified>
  <cp:revision>20</cp:revision>
  <dc:subject/>
  <dc:title>MICROBES</dc:title>
</cp:coreProperties>
</file>