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FA33-6365-45C3-B35C-6BBB7A3935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E39-2712-4B7B-A0EC-353BD197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1B6-7D27-49EB-B861-3C8C9B00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5CD-62C5-4E22-BCD8-CE82804D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258-37B5-435F-A80E-45BAC3B2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5A2B-BAD7-4DD2-9B3B-D309F607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B2F8-8EB9-4B24-88EF-E67B458B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F232-870E-42F1-A49C-0506E58E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08CE-C25B-4D20-934D-99708FCB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62C4-535A-4500-A790-49071892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073A-6556-4524-8242-DE37D093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5C67-0C27-4D58-82C1-093C78F1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DA4-B49B-4B25-BB05-3B776801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B519-4D14-40E6-B11C-A524003B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3D91-633F-4D0B-85E2-F0B83BD4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F7B7-C0D9-4235-A893-2D2F56E1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02F5-2D58-46A0-8EFB-7FDE4F6F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FBA3-884E-4BD3-A0D6-C4E473F5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156-9FB6-4AF3-A98B-C8084496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51C-4808-4144-B741-D49BC5A1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AF9-DF39-4580-BEB4-8697C631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6F0-C497-40D2-A536-DA68826F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3A2-186E-4546-8E80-8CBFA753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7863-82EF-4458-B553-FB6689C4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7C9D-3C7C-4936-A3DE-C9E635FD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6DE5-34AF-4E08-9968-B28E51B8C2E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8911-9941-498A-9B90-21217028A3F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Reproductive Syste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Fe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2057400" y="2209680"/>
          <a:ext cx="5334120" cy="35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5334120" cy="35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the female sex orga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slowly moves down towards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(womb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sperms are present in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e egg will be fertilised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leads to a muscula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vagina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at opens to the outside of the bod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maleunlabelled"/>
          <p:cNvPicPr/>
          <p:nvPr/>
        </p:nvPicPr>
        <p:blipFill>
          <a:blip r:embed="rId1"/>
          <a:stretch/>
        </p:blipFill>
        <p:spPr>
          <a:xfrm>
            <a:off x="1763640" y="836640"/>
            <a:ext cx="6696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female_reproductive_organs_front"/>
          <p:cNvPicPr/>
          <p:nvPr/>
        </p:nvPicPr>
        <p:blipFill>
          <a:blip r:embed="rId1"/>
          <a:srcRect l="18259" t="40659" r="12353" b="0"/>
          <a:stretch/>
        </p:blipFill>
        <p:spPr>
          <a:xfrm>
            <a:off x="1258920" y="0"/>
            <a:ext cx="67676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ncomfortable Word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4648320" y="1523880"/>
          <a:ext cx="396216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23880"/>
                    <a:ext cx="39621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test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inside a sac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dd a fluid which keeps the sperms a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Pen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peni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must be erect for the semen to pass ou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500 million sperm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0:49:23Z</dcterms:created>
  <dc:creator>IBM_User</dc:creator>
  <dc:description/>
  <dc:language>en-US</dc:language>
  <cp:lastModifiedBy>RomaK</cp:lastModifiedBy>
  <dcterms:modified xsi:type="dcterms:W3CDTF">2015-09-04T11:08:17Z</dcterms:modified>
  <cp:revision>8</cp:revision>
  <dc:subject/>
  <dc:title>Reproductive Systems</dc:title>
</cp:coreProperties>
</file>