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2258-3F74-4613-ABCB-EAE34ECA76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other organisms respir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ing and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other organisms respi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ing and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Which type of energy does food cont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What is this energy converted to by other organisms? Give at least 3 examp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i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What name is given to the process by which organisms release energ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What kind of energy is always released in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hich type of energy does food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What is this energy converted to by other organisms? Give at least 3 ex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at name is given to the process by which organisms release ener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What kind of energy is always released in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mistry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and mitochondria cli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stry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mitochondria c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enosine triphosph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rgy released during respiration is not used directly by cel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ead it is used to make a molecule called ATP which stores the energy until it is need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 =    Adenosine triphosph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sine 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released during respiration is not used directly b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ead it is used to make a molecule called ATP which stores the energy until it i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 =    Adenosine 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ATP d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supplies energy for all the processes that need i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xample: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reacti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w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w twitch/fast twitch investig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ATP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supplies energy for all the processes that need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twitch/fast twitch invest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ructure of ATP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ATP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is made when another molecule called adenosine diphosphate (ADP) is bonded to a third inorganic phosphate (Pi) using the energy released from glucos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made when another molecule called adenosine diphosphate (ADP) is bonded to a third inorganic phosphate (Pi) using the energy released from gluco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from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ich bond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ised a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AT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hole process is under the control of enzym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sed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 P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T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process is under the control of enzy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ole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stores the energy in the third bond of the molecu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rgy is released when that bond is broken to release the third inorganic phosphate (Pi)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le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stores the energy in the third bond of th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is released when that bond is broken to release the third inorganic phosphate (Pi)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stard powder experi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the food contain energ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 of energy did it have to start with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s of energy was this released as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ard powder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the food contain ener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energy did it have to start wi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s of energy was this released a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do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hole process is an enzyme controlled reac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process is an enzyme controlled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 = respiration with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 = respiration with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+ carbon dioxide + wate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to make ATP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+ carbon dioxide + wa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o make A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 happens in 2 stage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 1 – Glyco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      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        split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 happens in 2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 –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      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        spli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 glycolysis, a glucose molecule is broken down into pyruvic ac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ergy released to make small quantity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2 molecul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ries of enzym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ntrolled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lysis does not require oxyg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lycolysis, a glucose molecule is broken down into pyruv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make small quantity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of enzy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does not require oxy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2 – Breakdown of 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yruvic acid made in glycolysis (stage1) still contains a lo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can only be broken down to release the rest of the energy in the presence of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2 – Breakdown of 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ruvic acid made in glycolysis (stage1) still contains a lo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only be broken down to release the rest of the energy in the presence of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eleased to make lar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ntity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6 molecul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ies of enzyme controlled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mak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y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6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of enzyme controll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TP production – 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ADP + 36 Pi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DP + 2 Pi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production –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ADP + 36 Pi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 of ATP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 1 and 2 release all the chemical energy in one molecule of glucose to make a total of 38 ATP molecul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molecules ATP from glucose  pyruvic aci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molecules ATP from  pyruvic acid  carbon-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tal 38 molecules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ATP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 and 2 release all the chemical energy in one molecule of glucose to make a total of 38 ATP molec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olecules ATP from glucose  pyruv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molecules ATP from  pyruvic acid  carbon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38 molecul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n animals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= in the absence of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animals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= in the absenc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low oxygen conditions or during heavy exercise, when not enough oxygen can be supplied, muscle cells swap to anaerobic respira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low oxygen conditions or during heavy exercise, when not enough oxygen can be supplied, muscle cells swap to anaerobic respi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ycolysis still happens as it does not require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bsence of oxygen pyruvic acid is turned into lactic ac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still happens as it does not requi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bsence of oxygen pyruvic acid is turned into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uild up of lactic acid produces muscle fatigu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le fatigue makes muscles ache and contract less powerfu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ecovery period is needed.  During this time more oxygen is taken in to convert the lactic acid back into pyruvic acid agai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olume of oxygen needed is called the oxygen deb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ild up of lactic acid produces muscle fatigu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fatigue makes muscles ache and contract less powerfu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overy period is needed.  During this time more oxygen is taken in to convert the lactic acid back into pyruvic acid agai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olume of oxygen needed is called the oxygen deb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g. during hard exerc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paid during recovery 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during hard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d during recovery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plant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ame process occurs in plants and yeast in low oxygen conditions, e.g. muddy, flooded soi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la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process occurs in plants and yeast in low oxygen conditions, e.g. muddy, flooded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lysis still happens, producing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 molec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time in absence of oxygen, pyruvic acid is turned into carbon dioxide and ethan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thanol + carbon dioxi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is irreversi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still happens, produ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me in absence of oxygen, pyruvic acid is turned into carbon dioxide and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anol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rrever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son of aerobic and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of aerobic and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 a series of PowerPoint slides which show the importance of anaerobic respiration in the brewing and bread-making proces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 a couple of slides to show the role of anaerobic respiration in the production of cheese and yogu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Pages 4 -14 of your textbook will help you with these tasks if you are finding it difficult to find information on the internet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a series of PowerPoint slides which show the importance of anaerobic respiration in the brewing and bread-making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a couple of slides to show the role of anaerobic respiration in the production of cheese and yog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ages 4 -14 of your textbook will help you with these tasks if you are finding it difficult to find information on the internet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ng energy in carbohydrat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s and fa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different types of food to calculate which will give the mos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energy in carbohydrate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nd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fferent types of food to calculate which will give the mo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ul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ulating energy in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ven amount of any substance always requires the same amount of energy to produce a particular increase in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0g of water needs………………..4.2 kJ to make its temperature rise by 1 o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nergy 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ven amount of any substance always requires the same amount of energy to produce a particular increase in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g of water needs………………..4.2 kJ to make its temperature rise by 1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ulating the energy content of foo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rmula to calculate the energy release 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2 x M x 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calculate the energy content of your foo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 = mass of water (g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=rise in temperature ( °C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energy content of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to calculate the energy releas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 x M x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culate the energy content of your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mass of water 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=rise in temperature ( 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ori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o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and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:  Living Pea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:  Dead Pe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rn a lighted splint in each gas j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and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 Living P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 Dead P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 a lighted splint in each gas j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19A0-8B18-4CE0-9B1F-9174E177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F8A-142E-4A0C-9C70-538D309C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884-B820-4A8A-AAA0-A5244156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8DC3-6EC0-424A-B6A5-BC56649F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6C35-79A3-4082-BA04-E054649E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D4FA-0129-457E-B769-56E20662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BB3B-BDF1-4E02-9FB5-21014353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B4EF-D3DA-468F-952F-13848D90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FB65-244B-4B06-ACDD-122B4A3B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D854-C538-4A4C-84B0-AFCC4876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3003-E301-4B24-948E-C930E8BB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4F9-476F-472A-A64A-53D85FE8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A112-73E6-4AFE-BD3D-C1960625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C1CA-2282-42B8-8322-BAB46460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924E-2FF0-4220-BA6D-CA72CAB3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4BF9-DCE8-4B64-A28E-E40A285F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F90B-F7A1-4130-928F-78FFC9A4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6F33-1799-4DF3-B25B-0B951F68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5B69-4723-412B-8589-7900C71C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6E77-C1C4-4F06-954F-93601ACD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458A-BC9F-4AAF-9817-0F42A7AC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48B1-623F-4672-BB00-01AFBBDA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0CF-EBBF-4F2D-9ECF-A193D501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7CF5-AA2B-470D-BD1D-BB8F5A4E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829F-0421-4F9C-AF2F-54B9DCD632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3EE1-B86E-42E9-AE8F-4B0913DFBD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lgfl.skoool.co.uk/keystage4.aspx?id=315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eachersdomain.org/9-12/sci/life/cell/mitochondria/index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sbri.org/HumanPhysSpace/index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cc"/>
                </a:solidFill>
                <a:latin typeface="Comic Sans MS"/>
              </a:rPr>
              <a:t>Respiratio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6" descr="MCj04158100000[1]"/>
          <p:cNvPicPr/>
          <p:nvPr/>
        </p:nvPicPr>
        <p:blipFill>
          <a:blip r:embed="rId1"/>
          <a:stretch/>
        </p:blipFill>
        <p:spPr>
          <a:xfrm>
            <a:off x="3492360" y="2924280"/>
            <a:ext cx="22179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 other organisms respir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7" name="Picture 4" descr="CLPCD_Pic1"/>
          <p:cNvPicPr/>
          <p:nvPr/>
        </p:nvPicPr>
        <p:blipFill>
          <a:blip r:embed="rId1"/>
          <a:stretch/>
        </p:blipFill>
        <p:spPr>
          <a:xfrm>
            <a:off x="250920" y="1461960"/>
            <a:ext cx="8569080" cy="47610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5"/>
          <p:cNvSpPr/>
          <p:nvPr/>
        </p:nvSpPr>
        <p:spPr>
          <a:xfrm>
            <a:off x="305280" y="6384960"/>
            <a:ext cx="4469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breathing and respi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 Which type of energy does food contai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2 What is this energy converted to by other organisms? Give at least 3 exampl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)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3 What name is given to the process by which organisms release energ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4 What kind of energy is always released in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cc"/>
                </a:solidFill>
                <a:latin typeface="Comic Sans MS"/>
              </a:rPr>
              <a:t>The Chemistry of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153720" y="6021360"/>
            <a:ext cx="29772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energy and mitochondria cli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Adenosine triphosph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energy released during respiration is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used directly by ce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stead it is used to make a molecule called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ATP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which stores the energy until it is need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P  =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A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denosin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t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ri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p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hosph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What does ATP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P supplies energy for all the processes that need 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r example: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growth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294480" y="5811840"/>
            <a:ext cx="3591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slow twitch/fast twitch investig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 u="sng">
                <a:solidFill>
                  <a:srgbClr val="ffffcc"/>
                </a:solidFill>
                <a:uFillTx/>
                <a:latin typeface="Tahoma"/>
              </a:rPr>
              <a:t>Structure of ATP  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116000" y="3141720"/>
            <a:ext cx="7024320" cy="1294920"/>
            <a:chOff x="1116000" y="3141720"/>
            <a:chExt cx="7024320" cy="1294920"/>
          </a:xfrm>
        </p:grpSpPr>
        <p:sp>
          <p:nvSpPr>
            <p:cNvPr id="429" name="AutoShape 5"/>
            <p:cNvSpPr/>
            <p:nvPr/>
          </p:nvSpPr>
          <p:spPr>
            <a:xfrm>
              <a:off x="1116000" y="3141720"/>
              <a:ext cx="2664360" cy="129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Oval 6"/>
            <p:cNvSpPr/>
            <p:nvPr/>
          </p:nvSpPr>
          <p:spPr>
            <a:xfrm>
              <a:off x="4264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Oval 7"/>
            <p:cNvSpPr/>
            <p:nvPr/>
          </p:nvSpPr>
          <p:spPr>
            <a:xfrm>
              <a:off x="571824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Oval 8"/>
            <p:cNvSpPr/>
            <p:nvPr/>
          </p:nvSpPr>
          <p:spPr>
            <a:xfrm>
              <a:off x="7171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Line 9"/>
            <p:cNvSpPr/>
            <p:nvPr/>
          </p:nvSpPr>
          <p:spPr>
            <a:xfrm>
              <a:off x="3780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Line 10"/>
            <p:cNvSpPr/>
            <p:nvPr/>
          </p:nvSpPr>
          <p:spPr>
            <a:xfrm>
              <a:off x="5233680" y="3789360"/>
              <a:ext cx="48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Line 11"/>
            <p:cNvSpPr/>
            <p:nvPr/>
          </p:nvSpPr>
          <p:spPr>
            <a:xfrm>
              <a:off x="6687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Formation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is made when another molecule called adenosine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di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hosphate (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DP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) is bonded to a third inorganic phosphate (Pi) using the energy released from gluco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0" name="Group 6"/>
          <p:cNvGrpSpPr/>
          <p:nvPr/>
        </p:nvGrpSpPr>
        <p:grpSpPr>
          <a:xfrm>
            <a:off x="539640" y="1197000"/>
            <a:ext cx="8353080" cy="1223640"/>
            <a:chOff x="539640" y="1197000"/>
            <a:chExt cx="8353080" cy="1223640"/>
          </a:xfrm>
        </p:grpSpPr>
        <p:sp>
          <p:nvSpPr>
            <p:cNvPr id="441" name="Oval 7"/>
            <p:cNvSpPr/>
            <p:nvPr/>
          </p:nvSpPr>
          <p:spPr>
            <a:xfrm>
              <a:off x="7879320" y="1203480"/>
              <a:ext cx="1013400" cy="121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42" name="Group 8"/>
            <p:cNvGrpSpPr/>
            <p:nvPr/>
          </p:nvGrpSpPr>
          <p:grpSpPr>
            <a:xfrm>
              <a:off x="539640" y="1197000"/>
              <a:ext cx="5820120" cy="1216800"/>
              <a:chOff x="539640" y="1197000"/>
              <a:chExt cx="5820120" cy="1216800"/>
            </a:xfrm>
          </p:grpSpPr>
          <p:sp>
            <p:nvSpPr>
              <p:cNvPr id="443" name="AutoShape 9"/>
              <p:cNvSpPr/>
              <p:nvPr/>
            </p:nvSpPr>
            <p:spPr>
              <a:xfrm>
                <a:off x="539640" y="1197000"/>
                <a:ext cx="2784960" cy="1216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Oval 10"/>
              <p:cNvSpPr/>
              <p:nvPr/>
            </p:nvSpPr>
            <p:spPr>
              <a:xfrm>
                <a:off x="3830040" y="1197000"/>
                <a:ext cx="101088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Oval 11"/>
              <p:cNvSpPr/>
              <p:nvPr/>
            </p:nvSpPr>
            <p:spPr>
              <a:xfrm>
                <a:off x="5348520" y="1197000"/>
                <a:ext cx="101124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Line 12"/>
              <p:cNvSpPr/>
              <p:nvPr/>
            </p:nvSpPr>
            <p:spPr>
              <a:xfrm>
                <a:off x="3324600" y="180576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Line 13"/>
              <p:cNvSpPr/>
              <p:nvPr/>
            </p:nvSpPr>
            <p:spPr>
              <a:xfrm>
                <a:off x="4840920" y="180576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48" name="Text Box 14"/>
            <p:cNvSpPr/>
            <p:nvPr/>
          </p:nvSpPr>
          <p:spPr>
            <a:xfrm>
              <a:off x="6778440" y="1203480"/>
              <a:ext cx="733680" cy="121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49" name="Group 15"/>
          <p:cNvGrpSpPr/>
          <p:nvPr/>
        </p:nvGrpSpPr>
        <p:grpSpPr>
          <a:xfrm>
            <a:off x="755640" y="4149720"/>
            <a:ext cx="7200720" cy="1296720"/>
            <a:chOff x="755640" y="4149720"/>
            <a:chExt cx="7200720" cy="1296720"/>
          </a:xfrm>
        </p:grpSpPr>
        <p:sp>
          <p:nvSpPr>
            <p:cNvPr id="450" name="AutoShape 16"/>
            <p:cNvSpPr/>
            <p:nvPr/>
          </p:nvSpPr>
          <p:spPr>
            <a:xfrm>
              <a:off x="755640" y="41497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98412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Oval 18"/>
            <p:cNvSpPr/>
            <p:nvPr/>
          </p:nvSpPr>
          <p:spPr>
            <a:xfrm>
              <a:off x="547416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Oval 19"/>
            <p:cNvSpPr/>
            <p:nvPr/>
          </p:nvSpPr>
          <p:spPr>
            <a:xfrm>
              <a:off x="6962760" y="41497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20"/>
            <p:cNvSpPr/>
            <p:nvPr/>
          </p:nvSpPr>
          <p:spPr>
            <a:xfrm>
              <a:off x="3488040" y="47977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21"/>
            <p:cNvSpPr/>
            <p:nvPr/>
          </p:nvSpPr>
          <p:spPr>
            <a:xfrm>
              <a:off x="4976280" y="47977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Line 22"/>
            <p:cNvSpPr/>
            <p:nvPr/>
          </p:nvSpPr>
          <p:spPr>
            <a:xfrm>
              <a:off x="6466320" y="47977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7" name="Line 23"/>
          <p:cNvSpPr/>
          <p:nvPr/>
        </p:nvSpPr>
        <p:spPr>
          <a:xfrm>
            <a:off x="5292720" y="2421000"/>
            <a:ext cx="0" cy="172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24"/>
          <p:cNvSpPr/>
          <p:nvPr/>
        </p:nvSpPr>
        <p:spPr>
          <a:xfrm>
            <a:off x="5435640" y="2997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Text Box 26"/>
          <p:cNvSpPr/>
          <p:nvPr/>
        </p:nvSpPr>
        <p:spPr>
          <a:xfrm>
            <a:off x="5580000" y="33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Line 27"/>
          <p:cNvSpPr/>
          <p:nvPr/>
        </p:nvSpPr>
        <p:spPr>
          <a:xfrm>
            <a:off x="6948360" y="69228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 Box 28"/>
          <p:cNvSpPr/>
          <p:nvPr/>
        </p:nvSpPr>
        <p:spPr>
          <a:xfrm>
            <a:off x="5003640" y="62373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Text Box 29"/>
          <p:cNvSpPr/>
          <p:nvPr/>
        </p:nvSpPr>
        <p:spPr>
          <a:xfrm>
            <a:off x="5292720" y="566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30"/>
          <p:cNvSpPr/>
          <p:nvPr/>
        </p:nvSpPr>
        <p:spPr>
          <a:xfrm flipV="1">
            <a:off x="6732720" y="479736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ummarised a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Rectangle 72"/>
          <p:cNvSpPr/>
          <p:nvPr/>
        </p:nvSpPr>
        <p:spPr>
          <a:xfrm>
            <a:off x="1619280" y="2204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ATP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Line 73"/>
          <p:cNvSpPr/>
          <p:nvPr/>
        </p:nvSpPr>
        <p:spPr>
          <a:xfrm>
            <a:off x="3708360" y="2565360"/>
            <a:ext cx="1584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Rectangle 74"/>
          <p:cNvSpPr/>
          <p:nvPr/>
        </p:nvSpPr>
        <p:spPr>
          <a:xfrm>
            <a:off x="608760" y="3788280"/>
            <a:ext cx="76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383b3"/>
                </a:solidFill>
                <a:latin typeface="Arial"/>
              </a:rPr>
              <a:t>The whole process is under the control of </a:t>
            </a:r>
            <a:r>
              <a:rPr b="1" lang="en-GB" sz="2400" spc="-1" strike="noStrike" u="sng">
                <a:solidFill>
                  <a:srgbClr val="cc0000"/>
                </a:solidFill>
                <a:uFillTx/>
                <a:latin typeface="Arial"/>
              </a:rPr>
              <a:t>enzymes</a:t>
            </a:r>
            <a:r>
              <a:rPr b="0" lang="en-GB" sz="1800" spc="-1" strike="noStrike">
                <a:solidFill>
                  <a:srgbClr val="9383b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The role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store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the energy in the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thir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bond of the molec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energy is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release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when that bond is broken to release the third inorganic phosphate (Pi)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ustard powder experi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Picture 4" descr="CLP52A1_Pic1"/>
          <p:cNvPicPr/>
          <p:nvPr/>
        </p:nvPicPr>
        <p:blipFill>
          <a:blip r:embed="rId1"/>
          <a:stretch/>
        </p:blipFill>
        <p:spPr>
          <a:xfrm>
            <a:off x="395280" y="2131920"/>
            <a:ext cx="4968720" cy="35290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6"/>
          <p:cNvSpPr/>
          <p:nvPr/>
        </p:nvSpPr>
        <p:spPr>
          <a:xfrm>
            <a:off x="5508720" y="1955160"/>
            <a:ext cx="36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d the food contain energ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 of energy did it have to start with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s of energy was this released a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611280" y="4005360"/>
            <a:ext cx="8353080" cy="1296000"/>
            <a:chOff x="611280" y="4005360"/>
            <a:chExt cx="8353080" cy="1296000"/>
          </a:xfrm>
        </p:grpSpPr>
        <p:sp>
          <p:nvSpPr>
            <p:cNvPr id="471" name="Oval 5"/>
            <p:cNvSpPr/>
            <p:nvPr/>
          </p:nvSpPr>
          <p:spPr>
            <a:xfrm>
              <a:off x="7950960" y="4012200"/>
              <a:ext cx="1013400" cy="12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2" name="Group 6"/>
            <p:cNvGrpSpPr/>
            <p:nvPr/>
          </p:nvGrpSpPr>
          <p:grpSpPr>
            <a:xfrm>
              <a:off x="611280" y="4005360"/>
              <a:ext cx="5820120" cy="1288800"/>
              <a:chOff x="611280" y="4005360"/>
              <a:chExt cx="5820120" cy="1288800"/>
            </a:xfrm>
          </p:grpSpPr>
          <p:sp>
            <p:nvSpPr>
              <p:cNvPr id="473" name="AutoShape 7"/>
              <p:cNvSpPr/>
              <p:nvPr/>
            </p:nvSpPr>
            <p:spPr>
              <a:xfrm>
                <a:off x="611280" y="4005360"/>
                <a:ext cx="2784960" cy="1288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Oval 8"/>
              <p:cNvSpPr/>
              <p:nvPr/>
            </p:nvSpPr>
            <p:spPr>
              <a:xfrm>
                <a:off x="3901680" y="4005360"/>
                <a:ext cx="101088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Oval 9"/>
              <p:cNvSpPr/>
              <p:nvPr/>
            </p:nvSpPr>
            <p:spPr>
              <a:xfrm>
                <a:off x="5420160" y="4005360"/>
                <a:ext cx="101124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Line 10"/>
              <p:cNvSpPr/>
              <p:nvPr/>
            </p:nvSpPr>
            <p:spPr>
              <a:xfrm>
                <a:off x="3396240" y="465012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Line 11"/>
              <p:cNvSpPr/>
              <p:nvPr/>
            </p:nvSpPr>
            <p:spPr>
              <a:xfrm>
                <a:off x="4912560" y="465012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78" name="Text Box 12"/>
            <p:cNvSpPr/>
            <p:nvPr/>
          </p:nvSpPr>
          <p:spPr>
            <a:xfrm>
              <a:off x="6850080" y="4012200"/>
              <a:ext cx="733680" cy="12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9" name="Text Box 21"/>
          <p:cNvSpPr/>
          <p:nvPr/>
        </p:nvSpPr>
        <p:spPr>
          <a:xfrm>
            <a:off x="6516720" y="5516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Line 22"/>
          <p:cNvSpPr/>
          <p:nvPr/>
        </p:nvSpPr>
        <p:spPr>
          <a:xfrm>
            <a:off x="7236000" y="4724280"/>
            <a:ext cx="0" cy="648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4211640" y="234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Text Box 24"/>
          <p:cNvSpPr/>
          <p:nvPr/>
        </p:nvSpPr>
        <p:spPr>
          <a:xfrm>
            <a:off x="3995640" y="5516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Line 25"/>
          <p:cNvSpPr/>
          <p:nvPr/>
        </p:nvSpPr>
        <p:spPr>
          <a:xfrm>
            <a:off x="5364000" y="2565360"/>
            <a:ext cx="0" cy="1440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Text Box 26"/>
          <p:cNvSpPr/>
          <p:nvPr/>
        </p:nvSpPr>
        <p:spPr>
          <a:xfrm>
            <a:off x="5508720" y="2997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5" name="Group 27"/>
          <p:cNvGrpSpPr/>
          <p:nvPr/>
        </p:nvGrpSpPr>
        <p:grpSpPr>
          <a:xfrm>
            <a:off x="826920" y="907920"/>
            <a:ext cx="7200720" cy="1296720"/>
            <a:chOff x="826920" y="907920"/>
            <a:chExt cx="7200720" cy="1296720"/>
          </a:xfrm>
        </p:grpSpPr>
        <p:sp>
          <p:nvSpPr>
            <p:cNvPr id="486" name="AutoShape 28"/>
            <p:cNvSpPr/>
            <p:nvPr/>
          </p:nvSpPr>
          <p:spPr>
            <a:xfrm>
              <a:off x="826920" y="9079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Oval 29"/>
            <p:cNvSpPr/>
            <p:nvPr/>
          </p:nvSpPr>
          <p:spPr>
            <a:xfrm>
              <a:off x="405540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Oval 30"/>
            <p:cNvSpPr/>
            <p:nvPr/>
          </p:nvSpPr>
          <p:spPr>
            <a:xfrm>
              <a:off x="554544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Oval 31"/>
            <p:cNvSpPr/>
            <p:nvPr/>
          </p:nvSpPr>
          <p:spPr>
            <a:xfrm>
              <a:off x="7034040" y="9079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0" name="Line 32"/>
            <p:cNvSpPr/>
            <p:nvPr/>
          </p:nvSpPr>
          <p:spPr>
            <a:xfrm>
              <a:off x="3559320" y="15559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Line 33"/>
            <p:cNvSpPr/>
            <p:nvPr/>
          </p:nvSpPr>
          <p:spPr>
            <a:xfrm>
              <a:off x="5047560" y="15559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Line 34"/>
            <p:cNvSpPr/>
            <p:nvPr/>
          </p:nvSpPr>
          <p:spPr>
            <a:xfrm>
              <a:off x="6537600" y="15559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94" name="Group 4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495" name="Group 5"/>
            <p:cNvGrpSpPr/>
            <p:nvPr/>
          </p:nvGrpSpPr>
          <p:grpSpPr>
            <a:xfrm>
              <a:off x="3037320" y="2565360"/>
              <a:ext cx="2570760" cy="2950920"/>
              <a:chOff x="3037320" y="2565360"/>
              <a:chExt cx="2570760" cy="2950920"/>
            </a:xfrm>
          </p:grpSpPr>
          <p:sp>
            <p:nvSpPr>
              <p:cNvPr id="496" name="Arc 6"/>
              <p:cNvSpPr/>
              <p:nvPr/>
            </p:nvSpPr>
            <p:spPr>
              <a:xfrm flipH="1" flipV="1">
                <a:off x="3607200" y="3044520"/>
                <a:ext cx="856440" cy="1582920"/>
              </a:xfrm>
              <a:custGeom>
                <a:avLst/>
                <a:gdLst/>
                <a:ahLst/>
                <a:rect l="l" t="t" r="r" b="b"/>
                <a:pathLst>
                  <a:path fill="none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</a:path>
                  <a:path stroke="0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  <a:lnTo>
                      <a:pt x="0" y="15295"/>
                    </a:lnTo>
                    <a:lnTo>
                      <a:pt x="1525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Arc 7"/>
              <p:cNvSpPr/>
              <p:nvPr/>
            </p:nvSpPr>
            <p:spPr>
              <a:xfrm>
                <a:off x="4178880" y="2904840"/>
                <a:ext cx="856440" cy="1736280"/>
              </a:xfrm>
              <a:custGeom>
                <a:avLst/>
                <a:gdLst/>
                <a:ahLst/>
                <a:rect l="l" t="t" r="r" b="b"/>
                <a:pathLst>
                  <a:path fill="none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</a:path>
                  <a:path stroke="0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  <a:lnTo>
                      <a:pt x="0" y="20187"/>
                    </a:lnTo>
                    <a:lnTo>
                      <a:pt x="768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Arc 8"/>
              <p:cNvSpPr/>
              <p:nvPr/>
            </p:nvSpPr>
            <p:spPr>
              <a:xfrm flipH="1" flipV="1">
                <a:off x="4974480" y="3101040"/>
                <a:ext cx="633600" cy="536760"/>
              </a:xfrm>
              <a:custGeom>
                <a:avLst/>
                <a:gdLst/>
                <a:ahLst/>
                <a:rect l="l" t="t" r="r" b="b"/>
                <a:pathLst>
                  <a:path fill="none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</a:path>
                  <a:path stroke="0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Arc 9"/>
              <p:cNvSpPr/>
              <p:nvPr/>
            </p:nvSpPr>
            <p:spPr>
              <a:xfrm flipV="1">
                <a:off x="3037320" y="3638520"/>
                <a:ext cx="570600" cy="372240"/>
              </a:xfrm>
              <a:custGeom>
                <a:avLst/>
                <a:gdLst/>
                <a:ahLst/>
                <a:rect l="l" t="t" r="r" b="b"/>
                <a:pathLst>
                  <a:path fill="none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</a:path>
                  <a:path stroke="0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Text Box 10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0000"/>
                    </a:solidFill>
                    <a:latin typeface="Comic Sans MS"/>
                  </a:rPr>
                  <a:t>ATP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Text Box 11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8000"/>
                    </a:solidFill>
                    <a:latin typeface="Comic Sans MS"/>
                  </a:rPr>
                  <a:t>ADP + Pi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2" name="Text Box 12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(out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Text Box 13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(in)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Text Box 14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ular respirati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Line 15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Text Box 16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 activitie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Line 17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08" name="Group 18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509" name="Group 19"/>
            <p:cNvGrpSpPr/>
            <p:nvPr/>
          </p:nvGrpSpPr>
          <p:grpSpPr>
            <a:xfrm>
              <a:off x="3037320" y="2565360"/>
              <a:ext cx="2570760" cy="2950920"/>
              <a:chOff x="3037320" y="2565360"/>
              <a:chExt cx="2570760" cy="2950920"/>
            </a:xfrm>
          </p:grpSpPr>
          <p:sp>
            <p:nvSpPr>
              <p:cNvPr id="510" name="Arc 20"/>
              <p:cNvSpPr/>
              <p:nvPr/>
            </p:nvSpPr>
            <p:spPr>
              <a:xfrm flipH="1" flipV="1">
                <a:off x="3607200" y="3044520"/>
                <a:ext cx="856440" cy="1582920"/>
              </a:xfrm>
              <a:custGeom>
                <a:avLst/>
                <a:gdLst/>
                <a:ahLst/>
                <a:rect l="l" t="t" r="r" b="b"/>
                <a:pathLst>
                  <a:path fill="none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</a:path>
                  <a:path stroke="0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  <a:lnTo>
                      <a:pt x="0" y="15295"/>
                    </a:lnTo>
                    <a:lnTo>
                      <a:pt x="1525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Arc 21"/>
              <p:cNvSpPr/>
              <p:nvPr/>
            </p:nvSpPr>
            <p:spPr>
              <a:xfrm>
                <a:off x="4178880" y="2904840"/>
                <a:ext cx="856440" cy="1736280"/>
              </a:xfrm>
              <a:custGeom>
                <a:avLst/>
                <a:gdLst/>
                <a:ahLst/>
                <a:rect l="l" t="t" r="r" b="b"/>
                <a:pathLst>
                  <a:path fill="none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</a:path>
                  <a:path stroke="0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  <a:lnTo>
                      <a:pt x="0" y="20187"/>
                    </a:lnTo>
                    <a:lnTo>
                      <a:pt x="768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Arc 22"/>
              <p:cNvSpPr/>
              <p:nvPr/>
            </p:nvSpPr>
            <p:spPr>
              <a:xfrm flipH="1" flipV="1">
                <a:off x="4974480" y="3101040"/>
                <a:ext cx="633600" cy="536760"/>
              </a:xfrm>
              <a:custGeom>
                <a:avLst/>
                <a:gdLst/>
                <a:ahLst/>
                <a:rect l="l" t="t" r="r" b="b"/>
                <a:pathLst>
                  <a:path fill="none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</a:path>
                  <a:path stroke="0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Arc 23"/>
              <p:cNvSpPr/>
              <p:nvPr/>
            </p:nvSpPr>
            <p:spPr>
              <a:xfrm flipV="1">
                <a:off x="3037320" y="3638520"/>
                <a:ext cx="570600" cy="372240"/>
              </a:xfrm>
              <a:custGeom>
                <a:avLst/>
                <a:gdLst/>
                <a:ahLst/>
                <a:rect l="l" t="t" r="r" b="b"/>
                <a:pathLst>
                  <a:path fill="none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</a:path>
                  <a:path stroke="0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Text Box 24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00"/>
                    </a:solidFill>
                    <a:latin typeface="Comic Sans MS"/>
                  </a:rPr>
                  <a:t>ATP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Text Box 25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16" name="Text Box 26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energy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(out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Text Box 27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Text Box 28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cellular respiration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Line 29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Text Box 30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 </a:t>
              </a: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cell activiti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Line 31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2" name="Rectangle 32"/>
          <p:cNvSpPr/>
          <p:nvPr/>
        </p:nvSpPr>
        <p:spPr>
          <a:xfrm>
            <a:off x="1186200" y="5520240"/>
            <a:ext cx="655560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he whole process is an </a:t>
            </a:r>
            <a:r>
              <a:rPr b="1" lang="en-GB" sz="2000" spc="-1" strike="noStrike" u="sng">
                <a:solidFill>
                  <a:srgbClr val="cc0000"/>
                </a:solidFill>
                <a:uFillTx/>
                <a:latin typeface="Arial"/>
              </a:rPr>
              <a:t>enzyme controlled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 reac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 u="sng">
                <a:solidFill>
                  <a:srgbClr val="ffffcc"/>
                </a:solidFill>
                <a:uFillTx/>
                <a:latin typeface="Comic Sans MS"/>
              </a:rPr>
              <a:t>Aerobic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68360" y="227664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erobic respiratio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= respiration with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xyge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920" y="21333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glucose + </a:t>
            </a:r>
            <a:r>
              <a:rPr b="1" lang="en-GB" sz="2400" spc="-1" strike="noStrike">
                <a:solidFill>
                  <a:srgbClr val="ffffcc"/>
                </a:solidFill>
                <a:latin typeface="Comic Sans MS"/>
              </a:rPr>
              <a:t>OXYGEN    </a:t>
            </a:r>
            <a:r>
              <a:rPr b="1" lang="en-GB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energy + carbon dioxide + water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(to make ATP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Line 5"/>
          <p:cNvSpPr/>
          <p:nvPr/>
        </p:nvSpPr>
        <p:spPr>
          <a:xfrm>
            <a:off x="3276720" y="2565360"/>
            <a:ext cx="790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Aerobic respiration happens in </a:t>
            </a: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 stage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tage 1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Glyco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glyc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lucose         split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Line 4"/>
          <p:cNvSpPr/>
          <p:nvPr/>
        </p:nvSpPr>
        <p:spPr>
          <a:xfrm>
            <a:off x="4356000" y="3860640"/>
            <a:ext cx="647640" cy="122400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Line 5"/>
          <p:cNvSpPr/>
          <p:nvPr/>
        </p:nvSpPr>
        <p:spPr>
          <a:xfrm flipH="1">
            <a:off x="2410920" y="3860640"/>
            <a:ext cx="505080" cy="129708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8"/>
          <p:cNvSpPr/>
          <p:nvPr/>
        </p:nvSpPr>
        <p:spPr>
          <a:xfrm>
            <a:off x="395280" y="696960"/>
            <a:ext cx="853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 glycolysis, a glucose molecule is broken down into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pyruvic acid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32" name="Group 11"/>
          <p:cNvGrpSpPr/>
          <p:nvPr/>
        </p:nvGrpSpPr>
        <p:grpSpPr>
          <a:xfrm>
            <a:off x="3292560" y="2133720"/>
            <a:ext cx="1383840" cy="2473200"/>
            <a:chOff x="3292560" y="2133720"/>
            <a:chExt cx="1383840" cy="2473200"/>
          </a:xfrm>
        </p:grpSpPr>
        <p:sp>
          <p:nvSpPr>
            <p:cNvPr id="533" name="Line 13"/>
            <p:cNvSpPr/>
            <p:nvPr/>
          </p:nvSpPr>
          <p:spPr>
            <a:xfrm>
              <a:off x="4595400" y="2133720"/>
              <a:ext cx="0" cy="24732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Arc 12"/>
            <p:cNvSpPr/>
            <p:nvPr/>
          </p:nvSpPr>
          <p:spPr>
            <a:xfrm flipH="1" flipV="1" rot="17146200">
              <a:off x="3438000" y="2385360"/>
              <a:ext cx="1092600" cy="1129680"/>
            </a:xfrm>
            <a:custGeom>
              <a:avLst/>
              <a:gdLst/>
              <a:ahLst/>
              <a:rect l="l" t="t" r="r" b="b"/>
              <a:pathLst>
                <a:path fill="none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</a:path>
                <a:path stroke="0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  <a:lnTo>
                    <a:pt x="0" y="20721"/>
                  </a:lnTo>
                  <a:lnTo>
                    <a:pt x="6098" y="-1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5" name="Text Box 14"/>
          <p:cNvSpPr/>
          <p:nvPr/>
        </p:nvSpPr>
        <p:spPr>
          <a:xfrm>
            <a:off x="324000" y="2781360"/>
            <a:ext cx="3024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small quantity of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2 molecul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Rectangle 17"/>
          <p:cNvSpPr/>
          <p:nvPr/>
        </p:nvSpPr>
        <p:spPr>
          <a:xfrm>
            <a:off x="4356000" y="2131920"/>
            <a:ext cx="32972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eries of enzym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ntrolled reac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3564000" y="47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Rectangle 19"/>
          <p:cNvSpPr/>
          <p:nvPr/>
        </p:nvSpPr>
        <p:spPr>
          <a:xfrm>
            <a:off x="3997440" y="16286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Rectangle 20"/>
          <p:cNvSpPr/>
          <p:nvPr/>
        </p:nvSpPr>
        <p:spPr>
          <a:xfrm>
            <a:off x="1332000" y="5589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Arial"/>
              </a:rPr>
              <a:t>Glycolysis </a:t>
            </a:r>
            <a:r>
              <a:rPr b="1" lang="en-GB" sz="2800" spc="-1" strike="noStrike" u="sng">
                <a:solidFill>
                  <a:srgbClr val="9383b3"/>
                </a:solidFill>
                <a:uFillTx/>
                <a:latin typeface="Arial"/>
              </a:rPr>
              <a:t>does not</a:t>
            </a:r>
            <a:r>
              <a:rPr b="1" lang="en-GB" sz="2800" spc="-1" strike="noStrike">
                <a:solidFill>
                  <a:srgbClr val="9383b3"/>
                </a:solidFill>
                <a:latin typeface="Arial"/>
              </a:rPr>
              <a:t> require oxy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Stage 2 – </a:t>
            </a:r>
            <a:r>
              <a:rPr b="1" lang="en-GB" sz="3600" spc="-1" strike="noStrike" u="sng">
                <a:solidFill>
                  <a:srgbClr val="ffffcc"/>
                </a:solidFill>
                <a:uFillTx/>
                <a:latin typeface="Comic Sans MS"/>
              </a:rPr>
              <a:t>Breakdown of pyruvic acid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he pyruvic acid made in glycolysis </a:t>
            </a:r>
            <a:r>
              <a:rPr b="1" lang="en-GB" sz="3200" spc="-1" strike="noStrike">
                <a:solidFill>
                  <a:srgbClr val="9383b3"/>
                </a:solidFill>
                <a:latin typeface="Comic Sans MS"/>
              </a:rPr>
              <a:t>(stage1)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still contains a lot of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It can only be broken down to release the rest of the energy in th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presence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f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0"/>
          <p:cNvSpPr/>
          <p:nvPr/>
        </p:nvSpPr>
        <p:spPr>
          <a:xfrm>
            <a:off x="5724360" y="2781360"/>
            <a:ext cx="303372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l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quantity of 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36 molecu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17"/>
          <p:cNvSpPr/>
          <p:nvPr/>
        </p:nvSpPr>
        <p:spPr>
          <a:xfrm>
            <a:off x="539640" y="2924280"/>
            <a:ext cx="316728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series of enzyme controlled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Rectangle 21"/>
          <p:cNvSpPr/>
          <p:nvPr/>
        </p:nvSpPr>
        <p:spPr>
          <a:xfrm>
            <a:off x="3203640" y="10519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Rectangle 25"/>
          <p:cNvSpPr/>
          <p:nvPr/>
        </p:nvSpPr>
        <p:spPr>
          <a:xfrm>
            <a:off x="2340000" y="5228640"/>
            <a:ext cx="431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6" name="Group 26"/>
          <p:cNvGrpSpPr/>
          <p:nvPr/>
        </p:nvGrpSpPr>
        <p:grpSpPr>
          <a:xfrm>
            <a:off x="4074840" y="1773360"/>
            <a:ext cx="1723320" cy="3623760"/>
            <a:chOff x="4074840" y="1773360"/>
            <a:chExt cx="1723320" cy="3623760"/>
          </a:xfrm>
        </p:grpSpPr>
        <p:sp>
          <p:nvSpPr>
            <p:cNvPr id="547" name="Line 27"/>
            <p:cNvSpPr/>
            <p:nvPr/>
          </p:nvSpPr>
          <p:spPr>
            <a:xfrm>
              <a:off x="4212000" y="1773360"/>
              <a:ext cx="0" cy="36237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Arc 28"/>
            <p:cNvSpPr/>
            <p:nvPr/>
          </p:nvSpPr>
          <p:spPr>
            <a:xfrm flipV="1" rot="4453800">
              <a:off x="4135680" y="2301840"/>
              <a:ext cx="1601280" cy="1338840"/>
            </a:xfrm>
            <a:custGeom>
              <a:avLst/>
              <a:gdLst/>
              <a:ahLst/>
              <a:rect l="l" t="t" r="r" b="b"/>
              <a:pathLst>
                <a:path fill="none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</a:path>
                <a:path stroke="0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  <a:lnTo>
                    <a:pt x="0" y="20721"/>
                  </a:lnTo>
                  <a:lnTo>
                    <a:pt x="6098" y="-1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ATP production</a:t>
            </a: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 – </a:t>
            </a:r>
            <a:r>
              <a:rPr b="1" lang="en-GB" sz="4400" spc="-1" strike="noStrike">
                <a:solidFill>
                  <a:srgbClr val="ffffcc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3804840" y="4005360"/>
            <a:ext cx="1536480" cy="1871640"/>
            <a:chOff x="3804840" y="4005360"/>
            <a:chExt cx="1536480" cy="1871640"/>
          </a:xfrm>
        </p:grpSpPr>
        <p:sp>
          <p:nvSpPr>
            <p:cNvPr id="551" name="Arc 8"/>
            <p:cNvSpPr/>
            <p:nvPr/>
          </p:nvSpPr>
          <p:spPr>
            <a:xfrm flipH="1" rot="10263000">
              <a:off x="3855240" y="4697640"/>
              <a:ext cx="1435320" cy="76212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9383b3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2" name="Line 7"/>
            <p:cNvSpPr/>
            <p:nvPr/>
          </p:nvSpPr>
          <p:spPr>
            <a:xfrm>
              <a:off x="3851280" y="4005360"/>
              <a:ext cx="0" cy="187164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3" name="Text Box 5"/>
          <p:cNvSpPr/>
          <p:nvPr/>
        </p:nvSpPr>
        <p:spPr>
          <a:xfrm>
            <a:off x="5292720" y="4653000"/>
            <a:ext cx="309564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DP + 36 Pi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Rectangle 9"/>
          <p:cNvSpPr/>
          <p:nvPr/>
        </p:nvSpPr>
        <p:spPr>
          <a:xfrm>
            <a:off x="3059280" y="1557000"/>
            <a:ext cx="18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2843280" y="3067920"/>
            <a:ext cx="23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Rectangle 12"/>
          <p:cNvSpPr/>
          <p:nvPr/>
        </p:nvSpPr>
        <p:spPr>
          <a:xfrm>
            <a:off x="4484880" y="307224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1835280" y="6021360"/>
            <a:ext cx="4248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8" name="Group 14"/>
          <p:cNvGrpSpPr/>
          <p:nvPr/>
        </p:nvGrpSpPr>
        <p:grpSpPr>
          <a:xfrm>
            <a:off x="3823200" y="2133720"/>
            <a:ext cx="1499760" cy="1295280"/>
            <a:chOff x="3823200" y="2133720"/>
            <a:chExt cx="1499760" cy="1295280"/>
          </a:xfrm>
        </p:grpSpPr>
        <p:sp>
          <p:nvSpPr>
            <p:cNvPr id="559" name="Arc 15"/>
            <p:cNvSpPr/>
            <p:nvPr/>
          </p:nvSpPr>
          <p:spPr>
            <a:xfrm flipH="1" rot="10263000">
              <a:off x="3855600" y="2612880"/>
              <a:ext cx="1435320" cy="52740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9383b3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Line 16"/>
            <p:cNvSpPr/>
            <p:nvPr/>
          </p:nvSpPr>
          <p:spPr>
            <a:xfrm>
              <a:off x="3851280" y="2133720"/>
              <a:ext cx="0" cy="129528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1" name="Text Box 17"/>
          <p:cNvSpPr/>
          <p:nvPr/>
        </p:nvSpPr>
        <p:spPr>
          <a:xfrm>
            <a:off x="5292720" y="2421000"/>
            <a:ext cx="251928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</a:rPr>
              <a:t>2 ADP + 2 Pi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</a:rPr>
              <a:t>2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Summary of ATP p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tage 1 and 2 release all the chemical energy in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n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molecule of glucose to make a total of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38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molecu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glucose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pyruvic ac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36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 pyruvic acid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carbon-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ioxide +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Total 38 molecules A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carbohydrates"/>
          <p:cNvPicPr/>
          <p:nvPr/>
        </p:nvPicPr>
        <p:blipFill>
          <a:blip r:embed="rId1"/>
          <a:stretch/>
        </p:blipFill>
        <p:spPr>
          <a:xfrm>
            <a:off x="2556000" y="404640"/>
            <a:ext cx="3960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000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</a:t>
            </a: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(in animals)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68360" y="270828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anaerobic = in the absence of oxy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In 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low</a:t>
            </a: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 oxygen conditions or during </a:t>
            </a:r>
            <a:r>
              <a:rPr b="1" lang="en-GB" sz="4000" spc="-1" strike="noStrike">
                <a:solidFill>
                  <a:srgbClr val="9383b3"/>
                </a:solidFill>
                <a:latin typeface="Comic Sans MS"/>
              </a:rPr>
              <a:t>heavy exercise</a:t>
            </a: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, when not enough oxygen can be supplied, muscle cells swap to </a:t>
            </a:r>
            <a:r>
              <a:rPr b="1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anaerobic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respiration</a:t>
            </a: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7"/>
          <p:cNvSpPr/>
          <p:nvPr/>
        </p:nvSpPr>
        <p:spPr>
          <a:xfrm>
            <a:off x="539640" y="1052640"/>
            <a:ext cx="320832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5b5d6b"/>
                </a:solidFill>
                <a:uFillTx/>
                <a:latin typeface="Comic Sans MS"/>
                <a:ea typeface="Times New Roman"/>
              </a:rPr>
              <a:t>glycolysis</a:t>
            </a: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 still happens as it does not require oxy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8" name="Group 8"/>
          <p:cNvGrpSpPr/>
          <p:nvPr/>
        </p:nvGrpSpPr>
        <p:grpSpPr>
          <a:xfrm>
            <a:off x="3927600" y="907920"/>
            <a:ext cx="2576520" cy="2308320"/>
            <a:chOff x="3927600" y="907920"/>
            <a:chExt cx="2576520" cy="2308320"/>
          </a:xfrm>
        </p:grpSpPr>
        <p:sp>
          <p:nvSpPr>
            <p:cNvPr id="569" name="Arc 10"/>
            <p:cNvSpPr/>
            <p:nvPr/>
          </p:nvSpPr>
          <p:spPr>
            <a:xfrm flipH="1" rot="10263000">
              <a:off x="4001760" y="1438560"/>
              <a:ext cx="2427480" cy="114804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3995640" y="907920"/>
              <a:ext cx="0" cy="2308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1" name="Line 6"/>
          <p:cNvSpPr/>
          <p:nvPr/>
        </p:nvSpPr>
        <p:spPr>
          <a:xfrm>
            <a:off x="3995640" y="364500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250920" y="3716280"/>
            <a:ext cx="33652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in absence of oxygen pyruvic acid is turned into lactic aci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Rectangle 11"/>
          <p:cNvSpPr/>
          <p:nvPr/>
        </p:nvSpPr>
        <p:spPr>
          <a:xfrm>
            <a:off x="0" y="20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Rectangle 12"/>
          <p:cNvSpPr/>
          <p:nvPr/>
        </p:nvSpPr>
        <p:spPr>
          <a:xfrm>
            <a:off x="4481640" y="20818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3203640" y="2708280"/>
            <a:ext cx="360036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Rectangle 16"/>
          <p:cNvSpPr/>
          <p:nvPr/>
        </p:nvSpPr>
        <p:spPr>
          <a:xfrm>
            <a:off x="3132000" y="5516280"/>
            <a:ext cx="195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7"/>
          <p:cNvSpPr/>
          <p:nvPr/>
        </p:nvSpPr>
        <p:spPr>
          <a:xfrm>
            <a:off x="3348000" y="47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6227640" y="1197000"/>
            <a:ext cx="27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A build up of lactic acid produces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muscle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fatigue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.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Muscle fatigue makes muscles ache and contract less powerfully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A recovery period is needed.  During this time more </a:t>
            </a:r>
            <a:r>
              <a:rPr b="1" lang="en-GB" sz="2800" spc="-1" strike="noStrike" u="sng">
                <a:solidFill>
                  <a:srgbClr val="ffffcc"/>
                </a:solidFill>
                <a:uFillTx/>
                <a:latin typeface="Comic Sans MS"/>
              </a:rPr>
              <a:t>oxygen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 is taken in to convert the lactic acid back into pyruvic acid again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The volume of oxygen needed is called the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debt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4500720" y="4437000"/>
            <a:ext cx="0" cy="1152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5"/>
          <p:cNvSpPr/>
          <p:nvPr/>
        </p:nvSpPr>
        <p:spPr>
          <a:xfrm>
            <a:off x="4788000" y="2060640"/>
            <a:ext cx="0" cy="180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6"/>
          <p:cNvSpPr/>
          <p:nvPr/>
        </p:nvSpPr>
        <p:spPr>
          <a:xfrm flipV="1">
            <a:off x="5003640" y="4436640"/>
            <a:ext cx="0" cy="11588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826920" y="4437000"/>
            <a:ext cx="280836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.g. during hard exerc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6156360" y="4437000"/>
            <a:ext cx="23032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repaid during recovery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Rectangle 10"/>
          <p:cNvSpPr/>
          <p:nvPr/>
        </p:nvSpPr>
        <p:spPr>
          <a:xfrm>
            <a:off x="4067280" y="907560"/>
            <a:ext cx="28350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Rectangle 11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Rectangle 14"/>
          <p:cNvSpPr/>
          <p:nvPr/>
        </p:nvSpPr>
        <p:spPr>
          <a:xfrm>
            <a:off x="3263400" y="3639600"/>
            <a:ext cx="27759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Rectangle 15"/>
          <p:cNvSpPr/>
          <p:nvPr/>
        </p:nvSpPr>
        <p:spPr>
          <a:xfrm>
            <a:off x="3456000" y="5589360"/>
            <a:ext cx="24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 </a:t>
            </a: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in plants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same process occurs in plants and yeast in low oxygen conditions, e.g. muddy, flooded soi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6"/>
          <p:cNvSpPr/>
          <p:nvPr/>
        </p:nvSpPr>
        <p:spPr>
          <a:xfrm>
            <a:off x="611280" y="1341360"/>
            <a:ext cx="302400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glycolysis still happens, produc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2 ATP molec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93" name="Group 7"/>
          <p:cNvGrpSpPr/>
          <p:nvPr/>
        </p:nvGrpSpPr>
        <p:grpSpPr>
          <a:xfrm>
            <a:off x="4425480" y="836640"/>
            <a:ext cx="2604600" cy="2521080"/>
            <a:chOff x="4425480" y="836640"/>
            <a:chExt cx="2604600" cy="2521080"/>
          </a:xfrm>
        </p:grpSpPr>
        <p:sp>
          <p:nvSpPr>
            <p:cNvPr id="594" name="Arc 9"/>
            <p:cNvSpPr/>
            <p:nvPr/>
          </p:nvSpPr>
          <p:spPr>
            <a:xfrm flipH="1" rot="10263000">
              <a:off x="4507560" y="1416600"/>
              <a:ext cx="2439360" cy="125388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Line 8"/>
            <p:cNvSpPr/>
            <p:nvPr/>
          </p:nvSpPr>
          <p:spPr>
            <a:xfrm>
              <a:off x="4500720" y="836640"/>
              <a:ext cx="0" cy="252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6" name="Line 5"/>
          <p:cNvSpPr/>
          <p:nvPr/>
        </p:nvSpPr>
        <p:spPr>
          <a:xfrm>
            <a:off x="4500720" y="378936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324000" y="3860640"/>
            <a:ext cx="3809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This time in absence of oxygen, pyruvic acid is turned into carbon dioxide and ethan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Rectangle 10"/>
          <p:cNvSpPr/>
          <p:nvPr/>
        </p:nvSpPr>
        <p:spPr>
          <a:xfrm>
            <a:off x="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Rectangle 11"/>
          <p:cNvSpPr/>
          <p:nvPr/>
        </p:nvSpPr>
        <p:spPr>
          <a:xfrm>
            <a:off x="4481640" y="2148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Rectangle 13"/>
          <p:cNvSpPr/>
          <p:nvPr/>
        </p:nvSpPr>
        <p:spPr>
          <a:xfrm>
            <a:off x="3989520" y="-71280"/>
            <a:ext cx="19350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Rectangle 15"/>
          <p:cNvSpPr/>
          <p:nvPr/>
        </p:nvSpPr>
        <p:spPr>
          <a:xfrm>
            <a:off x="2484360" y="58348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thanol + carbon diox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Text Box 16"/>
          <p:cNvSpPr/>
          <p:nvPr/>
        </p:nvSpPr>
        <p:spPr>
          <a:xfrm>
            <a:off x="5003640" y="4365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cc0000"/>
                </a:solidFill>
                <a:latin typeface="Arial"/>
              </a:rPr>
              <a:t>This is irrever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18"/>
          <p:cNvSpPr/>
          <p:nvPr/>
        </p:nvSpPr>
        <p:spPr>
          <a:xfrm>
            <a:off x="6804000" y="1197000"/>
            <a:ext cx="273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cc"/>
                </a:solidFill>
                <a:uFillTx/>
                <a:latin typeface="Tahoma"/>
              </a:rPr>
              <a:t>Comparison of aerobic and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324000" y="1716120"/>
          <a:ext cx="8540640" cy="5141880"/>
        </p:xfrm>
        <a:graphic>
          <a:graphicData uri="http://schemas.openxmlformats.org/drawingml/2006/table">
            <a:tbl>
              <a:tblPr/>
              <a:tblGrid>
                <a:gridCol w="2446200"/>
                <a:gridCol w="1822320"/>
                <a:gridCol w="2032200"/>
                <a:gridCol w="2239920"/>
              </a:tblGrid>
              <a:tr h="360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n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anima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plants and yea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xygen required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ycolysis occu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TP yie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ucose completely broke dow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nd produc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n dioxide and 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ct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anol and carbon diox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Tas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epare a series of PowerPoint slides which show the importance of </a:t>
            </a:r>
            <a:r>
              <a:rPr b="1" lang="en-GB" sz="2800" spc="-1" strike="noStrike">
                <a:solidFill>
                  <a:srgbClr val="9383b3"/>
                </a:solidFill>
                <a:latin typeface="Tahoma"/>
              </a:rPr>
              <a:t>anaerobic respira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in the 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brew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bread-mak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proces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epare a couple of slides to show the role of anaerobic respiration in the production of cheese and yogu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[Pages 4 -14 of your textbook will help you with these tasks if you are finding it difficult to find information on the internet]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Comic Sans MS"/>
              </a:rPr>
              <a:t>Comparing energy in carbohydrates,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proteins and fat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Picture 4" descr="CLP22_Pic2"/>
          <p:cNvPicPr/>
          <p:nvPr/>
        </p:nvPicPr>
        <p:blipFill>
          <a:blip r:embed="rId1"/>
          <a:stretch/>
        </p:blipFill>
        <p:spPr>
          <a:xfrm>
            <a:off x="387360" y="1843200"/>
            <a:ext cx="4334040" cy="321624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136"/>
          <p:cNvSpPr/>
          <p:nvPr/>
        </p:nvSpPr>
        <p:spPr>
          <a:xfrm>
            <a:off x="5148360" y="259704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se different types of food to calculate which will give the most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Result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1700280"/>
          <a:ext cx="9144000" cy="4367160"/>
        </p:xfrm>
        <a:graphic>
          <a:graphicData uri="http://schemas.openxmlformats.org/drawingml/2006/table">
            <a:tbl>
              <a:tblPr/>
              <a:tblGrid>
                <a:gridCol w="1692360"/>
                <a:gridCol w="1511280"/>
                <a:gridCol w="1947960"/>
                <a:gridCol w="2269800"/>
                <a:gridCol w="17226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ood Mater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Mass of f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arting temperature of water 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inishing temperature of wa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Temperature rise 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arbohyd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Calculating energy in f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given amount of any substance always requires the same amount of energy to produce a particular increase in tempera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g of water needs………………..4.2 kJ to make its temperature rise by 1 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cc"/>
                </a:solidFill>
                <a:uFillTx/>
                <a:latin typeface="Comic Sans MS"/>
              </a:rPr>
              <a:t>Calculating the energy content of food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formula to calculate the energy release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4.2 x M x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w calculate the energy content of your fo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684360" y="328464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755640" y="342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3635280" y="270828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 = mass of water (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6659640" y="278136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=rise in temperature ( °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alorimeter"/>
          <p:cNvPicPr/>
          <p:nvPr/>
        </p:nvPicPr>
        <p:blipFill>
          <a:blip r:embed="rId1"/>
          <a:srcRect l="0" t="19567" r="0" b="19567"/>
          <a:stretch/>
        </p:blipFill>
        <p:spPr>
          <a:xfrm>
            <a:off x="911160" y="1341360"/>
            <a:ext cx="6829560" cy="417528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7"/>
          <p:cNvSpPr/>
          <p:nvPr/>
        </p:nvSpPr>
        <p:spPr>
          <a:xfrm>
            <a:off x="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Calori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Gases and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: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Living Pea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: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ad P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urn a lighted splint in each gas j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1460520" cy="32637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"/>
          <p:cNvPicPr/>
          <p:nvPr/>
        </p:nvPicPr>
        <p:blipFill>
          <a:blip r:embed="rId2"/>
          <a:stretch/>
        </p:blipFill>
        <p:spPr>
          <a:xfrm>
            <a:off x="5651640" y="1484280"/>
            <a:ext cx="146052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30:53Z</dcterms:created>
  <dc:creator>IMADMartindale</dc:creator>
  <dc:description/>
  <dc:language>en-US</dc:language>
  <cp:lastModifiedBy>RomaK</cp:lastModifiedBy>
  <dcterms:modified xsi:type="dcterms:W3CDTF">2015-09-04T11:07:08Z</dcterms:modified>
  <cp:revision>30</cp:revision>
  <dc:subject/>
  <dc:title>Respiration</dc:title>
</cp:coreProperties>
</file>