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C1BD-2486-4B04-B6C9-B0B8EF25B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ATP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TP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molecules ATP from  pyruvic acid  carbon-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molecules ATP from  pyruvic acid  carbon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69B-0DED-470D-84F1-F94C087E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24F-9F79-494A-B237-8CD8039C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4F2-2D64-4B2F-883C-A6D889A6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131-5090-472D-9B97-CF7318BB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0731-EEE0-416C-81DF-983F311E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22D5-692D-4413-9230-DFC6D9F7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8BA7-F88D-463D-8E89-6DD4F239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57DA-CFF1-4358-BBEC-A8CD7D59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0A2A-1D69-4C52-A7ED-946B87DD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3F8B-816A-425B-BEFF-56AABAD2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E512-E76A-4D91-8FF6-E7E43601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82C-F407-4C06-B8FF-CDE9F1ED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23D4-5B6B-44F8-8555-F5A942FD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9ED2-1AEE-43F6-B101-62274DF1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A04B-BE8E-4CCC-AE53-C0CF1432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F70E-3DF7-47BB-A46F-B5B28224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10E8-F68E-4371-84C1-0EE4F3C8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7BB-9A92-4A08-AFB6-174B7F3C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635-29C2-475E-A687-30DDA8B8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A74-1CE7-458E-A845-732BA8B4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9B9-FF5B-4C53-B1FF-8F02B38D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D2B-24CB-4997-8281-5B51185C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616-D088-4171-A51A-FA403B67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ED2-B3BD-4E31-903A-7D15C4CC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990D-A19B-4F19-B3E8-7651D76BA5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C8F3-6955-4DA0-BA41-E54F2B8CC2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MCj0415810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4" descr="CLPCD_Pic1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9" name="AutoShape 5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6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7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41" name="Oval 7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43" name="AutoShape 9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Oval 10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Oval 11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2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8" name="Text Box 14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5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50" name="AutoShape 16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Line 23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0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3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4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CLP52A1_Pic1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71" name="Oval 5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73" name="AutoShape 7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Text Box 12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9" name="Text Box 21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27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6" name="AutoShape 28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0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95" name="Group 5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496" name="Arc 6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rc 7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rc 8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rc 9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Text Box 10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Text Box 11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Text Box 12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9" name="Group 19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510" name="Arc 20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rc 21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rc 22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Arc 23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Text Box 25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Text Box 26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Text Box 27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29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Line 31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Rectangle 32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5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3292560" y="2133720"/>
            <a:ext cx="1383840" cy="2473200"/>
            <a:chOff x="3292560" y="2133720"/>
            <a:chExt cx="1383840" cy="2473200"/>
          </a:xfrm>
        </p:grpSpPr>
        <p:sp>
          <p:nvSpPr>
            <p:cNvPr id="533" name="Line 13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rc 12"/>
            <p:cNvSpPr/>
            <p:nvPr/>
          </p:nvSpPr>
          <p:spPr>
            <a:xfrm flipH="1" flipV="1" rot="17146200">
              <a:off x="3438000" y="2385360"/>
              <a:ext cx="1092600" cy="112968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GB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4074840" y="1773360"/>
            <a:ext cx="1723320" cy="3623760"/>
            <a:chOff x="4074840" y="1773360"/>
            <a:chExt cx="1723320" cy="3623760"/>
          </a:xfrm>
        </p:grpSpPr>
        <p:sp>
          <p:nvSpPr>
            <p:cNvPr id="547" name="Line 27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4453800">
              <a:off x="4135680" y="2301840"/>
              <a:ext cx="1601280" cy="133884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GB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3804840" y="4005360"/>
            <a:ext cx="1536480" cy="1871640"/>
            <a:chOff x="3804840" y="4005360"/>
            <a:chExt cx="1536480" cy="1871640"/>
          </a:xfrm>
        </p:grpSpPr>
        <p:sp>
          <p:nvSpPr>
            <p:cNvPr id="551" name="Arc 8"/>
            <p:cNvSpPr/>
            <p:nvPr/>
          </p:nvSpPr>
          <p:spPr>
            <a:xfrm flipH="1" rot="10263000">
              <a:off x="3855240" y="4697640"/>
              <a:ext cx="1435320" cy="76212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4"/>
          <p:cNvGrpSpPr/>
          <p:nvPr/>
        </p:nvGrpSpPr>
        <p:grpSpPr>
          <a:xfrm>
            <a:off x="3823200" y="2133720"/>
            <a:ext cx="1499760" cy="1295280"/>
            <a:chOff x="3823200" y="2133720"/>
            <a:chExt cx="1499760" cy="1295280"/>
          </a:xfrm>
        </p:grpSpPr>
        <p:sp>
          <p:nvSpPr>
            <p:cNvPr id="559" name="Arc 15"/>
            <p:cNvSpPr/>
            <p:nvPr/>
          </p:nvSpPr>
          <p:spPr>
            <a:xfrm flipH="1" rot="10263000">
              <a:off x="3855600" y="2612880"/>
              <a:ext cx="1435320" cy="52740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6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carbohydrates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GB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7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3927600" y="907920"/>
            <a:ext cx="2576520" cy="2308320"/>
            <a:chOff x="3927600" y="907920"/>
            <a:chExt cx="2576520" cy="2308320"/>
          </a:xfrm>
        </p:grpSpPr>
        <p:sp>
          <p:nvSpPr>
            <p:cNvPr id="569" name="Arc 10"/>
            <p:cNvSpPr/>
            <p:nvPr/>
          </p:nvSpPr>
          <p:spPr>
            <a:xfrm flipH="1" rot="10263000">
              <a:off x="4001760" y="1438560"/>
              <a:ext cx="2427480" cy="114804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Line 6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4425480" y="836640"/>
            <a:ext cx="2604600" cy="2521080"/>
            <a:chOff x="4425480" y="836640"/>
            <a:chExt cx="2604600" cy="2521080"/>
          </a:xfrm>
        </p:grpSpPr>
        <p:sp>
          <p:nvSpPr>
            <p:cNvPr id="594" name="Arc 9"/>
            <p:cNvSpPr/>
            <p:nvPr/>
          </p:nvSpPr>
          <p:spPr>
            <a:xfrm flipH="1" rot="10263000">
              <a:off x="4507560" y="1416600"/>
              <a:ext cx="2439360" cy="125388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Line 5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320"/>
                <a:gridCol w="203220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GB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4" descr="CLP22_Pic2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36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alorimeter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RomaK</cp:lastModifiedBy>
  <dcterms:modified xsi:type="dcterms:W3CDTF">2015-09-04T11:07:08Z</dcterms:modified>
  <cp:revision>30</cp:revision>
  <dc:subject/>
  <dc:title>Respiration</dc:title>
</cp:coreProperties>
</file>