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AA93-CBAE-4A53-A172-F3A204BDB3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0AD-ADC3-4BF4-9117-12B589A5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15C-DCCC-4C01-9349-D9C93BB3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90D-A5AC-401F-8875-BBFE3FA2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981-A137-4B54-B3EC-33807A34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C74-3B66-48B7-A32E-81D3D474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53A-70A5-4F2C-8D40-283C574D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E39-5B72-4905-ACA6-AAB77526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F10-1F25-42AE-A172-7DECE3C6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D9E-B787-404A-A4D3-9C3BCEBA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7BC-1083-4DDC-8F37-D8A53EEF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000-7BA2-4B28-A9A5-CC4225B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290-A576-4B43-AE25-4AD1054D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7388-5027-49EF-9732-11857FD1E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RomaK</cp:lastModifiedBy>
  <dcterms:modified xsi:type="dcterms:W3CDTF">2015-09-01T16:20:22Z</dcterms:modified>
  <cp:revision>12</cp:revision>
  <dc:subject/>
  <dc:title>Simple way to remember ions</dc:title>
</cp:coreProperties>
</file>