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315F-2E51-444B-92DC-012D2FC0C5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nucleus enters the egg and moves to the egg nucleus. The 2 nuclei join together and then form a zyg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nucleus enters the egg and moves to the egg nucleus. The 2 nuclei join together and then form a zyg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Fertil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outside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that breed in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zards i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and egg may not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s or offspring may be e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ie due to environ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Fertil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outside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that breed in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zards i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and egg may not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s or offspring may be e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ie due to environ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number of sperm and egg are released to overcome haz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control behavior to have sperm and egg released at the sam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number of sperm and egg are released to overcome haz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control behavior to have sperm and egg released at the sam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within the femal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quat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to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within the femal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quat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to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specialized sex organ to carry sperm to body of 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y environment needed for sperm to swim to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specialized sex organ to carry sperm to body of 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y environment needed for sperm to swim to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fertilization, zygote is enclosed in a protective shell and released OR remains and develops in femal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tle laying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fertilization, zygote is enclosed in a protective shell and released OR remains and develops in femal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tle laying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wer egg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prote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chance of 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 – development of unfertilized egg into an adult.- Bees &amp; Was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wer egg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prote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chance of 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 – development of unfertilized egg into an adult.- Bees &amp; Was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98C4-D7B2-45B9-9979-4DA3B50C3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852F-9B5A-4E96-9941-686A06AA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D452-58FC-4D3B-A126-55AC31BE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F1AD-5ECF-4161-899D-3DA346295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B60C-24EB-48FC-ABD8-01C75CE0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3419-433E-4D23-A7B5-6667CD05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70A3-DAC1-4C92-96A5-6FC52BDA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F2E5-E6A0-4DB8-91D9-0BE0975C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A418-0D4F-4ECC-97DD-D9C252C5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5682-7A3B-4477-B67F-42DEE496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0E4F-942D-4D97-83AD-CE8A5E1E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7B95-2725-4546-93C5-60331C00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F9DC-970D-4F8B-8705-4E5BC7E2E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images.google.com/imgres?imgurl=http://comenius.susqu.edu/bi/202/DICTIONARY%2520OF%2520TERMS/ANIMALS/terms/figures/sperm%2Begg.jpg&amp;imgrefurl=http://comenius.susqu.edu/bi/202/DICTIONARY%2520OF%2520TERMS/O/oogamous.htm&amp;usg=__6_5EVVHfiqVHATJlArAvd_srYUQ=&amp;h=482&amp;w=501&amp;sz=43&amp;hl=en&amp;start=5&amp;tbnid=X3vFWaZLCnI3GM:&amp;tbnh=125&amp;tbnw=130&amp;prev=/images%3Fq%3Dsperm%2Band%2Begg%26gbv%3D2%26hl%3Den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images.google.com/imgres?imgurl=http://desireestanley.files.wordpress.com/2009/03/blue-bird-missouri.jpg&amp;imgrefurl=http://desireestanley.wordpress.com/2009/03/&amp;usg=__J1H5bAiZmjp4GCOTc-WyhLk_WXU=&amp;h=385&amp;w=400&amp;sz=34&amp;hl=en&amp;start=2&amp;tbnid=CUCp-71F-MTkOM:&amp;tbnh=119&amp;tbnw=124&amp;prev=/images%3Fq%3Dbird%26gbv%3D2%26hl%3Den" TargetMode="External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Sexual Reproduction in Anim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62120" y="1397160"/>
          <a:ext cx="7696080" cy="424152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Fe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met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Enviro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p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na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es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ny sperm c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3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spermatogenes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perm cells are(n) haploid/monoplo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met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g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nad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ov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Few to many eg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32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oogenes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gg cells are (n) haploid/monoplo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457200" y="2503440"/>
          <a:ext cx="4038480" cy="27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03440"/>
                    <a:ext cx="4038480" cy="27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685800" y="228600"/>
          <a:ext cx="7848720" cy="640080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30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p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*Smal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*Swims through liqu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*Head, middle, &amp; tail (flagellu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g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*Larger than a body c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*Cannot move on its o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*Round 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Picture 24" descr="_42574053_egg_cell_ap_203b"/>
          <p:cNvPicPr/>
          <p:nvPr/>
        </p:nvPicPr>
        <p:blipFill>
          <a:blip r:embed="rId3"/>
          <a:stretch/>
        </p:blipFill>
        <p:spPr>
          <a:xfrm>
            <a:off x="5105520" y="762120"/>
            <a:ext cx="3276360" cy="2452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6" descr="sperm01"/>
          <p:cNvPicPr/>
          <p:nvPr/>
        </p:nvPicPr>
        <p:blipFill>
          <a:blip r:embed="rId4"/>
          <a:stretch/>
        </p:blipFill>
        <p:spPr>
          <a:xfrm>
            <a:off x="1371600" y="83808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perm nucleus enters the egg and moves to the egg nucleus. The 2 nuclei join together and then form a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zygot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uesc_05_img0247"/>
          <p:cNvPicPr/>
          <p:nvPr/>
        </p:nvPicPr>
        <p:blipFill>
          <a:blip r:embed="rId1"/>
          <a:stretch/>
        </p:blipFill>
        <p:spPr>
          <a:xfrm>
            <a:off x="838080" y="3200400"/>
            <a:ext cx="2492640" cy="3233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sperm%2Beg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3429000"/>
            <a:ext cx="304812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rnal Fertiliz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outside the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nimals that breed in th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00"/>
                </a:solidFill>
                <a:uFillTx/>
                <a:latin typeface="Arial"/>
              </a:rPr>
              <a:t>Many hazards in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Sperm and egg may not m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Eggs or offspring may be e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May die due to environment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xyge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siamese-fighting-fish"/>
          <p:cNvPicPr/>
          <p:nvPr/>
        </p:nvPicPr>
        <p:blipFill>
          <a:blip r:embed="rId1"/>
          <a:stretch/>
        </p:blipFill>
        <p:spPr>
          <a:xfrm>
            <a:off x="6858000" y="1371600"/>
            <a:ext cx="167328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arge number of sperm and egg are released to overcome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rmones control behavior to have sperm and egg released at the sam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fish"/>
          <p:cNvPicPr/>
          <p:nvPr/>
        </p:nvPicPr>
        <p:blipFill>
          <a:blip r:embed="rId1"/>
          <a:stretch/>
        </p:blipFill>
        <p:spPr>
          <a:xfrm>
            <a:off x="2743200" y="3505320"/>
            <a:ext cx="3654360" cy="27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within the female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quatic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o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draft_lens1441580module8530159photo_Dog_Medicine_Side_Effects5"/>
          <p:cNvPicPr/>
          <p:nvPr/>
        </p:nvPicPr>
        <p:blipFill>
          <a:blip r:embed="rId1"/>
          <a:stretch/>
        </p:blipFill>
        <p:spPr>
          <a:xfrm>
            <a:off x="3581280" y="1523880"/>
            <a:ext cx="1371600" cy="125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Five dead sharks were found ..."/>
          <p:cNvPicPr/>
          <p:nvPr/>
        </p:nvPicPr>
        <p:blipFill>
          <a:blip r:embed="rId2"/>
          <a:stretch/>
        </p:blipFill>
        <p:spPr>
          <a:xfrm>
            <a:off x="5410080" y="373392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octopus"/>
          <p:cNvPicPr/>
          <p:nvPr/>
        </p:nvPicPr>
        <p:blipFill>
          <a:blip r:embed="rId3"/>
          <a:stretch/>
        </p:blipFill>
        <p:spPr>
          <a:xfrm>
            <a:off x="4572000" y="4952880"/>
            <a:ext cx="2476440" cy="1627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blue-bird-missouri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05520" y="1523880"/>
            <a:ext cx="1333440" cy="1279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Two Headed Snake"/>
          <p:cNvPicPr/>
          <p:nvPr/>
        </p:nvPicPr>
        <p:blipFill>
          <a:blip r:embed="rId6"/>
          <a:stretch/>
        </p:blipFill>
        <p:spPr>
          <a:xfrm>
            <a:off x="6781680" y="1523880"/>
            <a:ext cx="137016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specialized sex organ to carry sperm to body of fe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y environment needed for sperm to swim to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fertilization"/>
          <p:cNvPicPr/>
          <p:nvPr/>
        </p:nvPicPr>
        <p:blipFill>
          <a:blip r:embed="rId1"/>
          <a:stretch/>
        </p:blipFill>
        <p:spPr>
          <a:xfrm>
            <a:off x="3352680" y="3809880"/>
            <a:ext cx="251460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fertilization, zygote is enclosed in a protective shell and released OR remains and develops in femal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zygote"/>
          <p:cNvPicPr/>
          <p:nvPr/>
        </p:nvPicPr>
        <p:blipFill>
          <a:blip r:embed="rId1"/>
          <a:stretch/>
        </p:blipFill>
        <p:spPr>
          <a:xfrm>
            <a:off x="838080" y="27432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LOGGER-2"/>
          <p:cNvPicPr/>
          <p:nvPr/>
        </p:nvPicPr>
        <p:blipFill>
          <a:blip r:embed="rId2"/>
          <a:stretch/>
        </p:blipFill>
        <p:spPr>
          <a:xfrm>
            <a:off x="5943600" y="2362320"/>
            <a:ext cx="2079720" cy="3028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685800" y="5235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5562720" y="55627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tle laying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Internal Fert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ewer egg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ell protec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creased chance of fer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Parthenogenesis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– development of unfertilized egg into an adult.- Bees &amp; Was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bees"/>
          <p:cNvPicPr/>
          <p:nvPr/>
        </p:nvPicPr>
        <p:blipFill>
          <a:blip r:embed="rId1"/>
          <a:stretch/>
        </p:blipFill>
        <p:spPr>
          <a:xfrm>
            <a:off x="2209680" y="4114800"/>
            <a:ext cx="3753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6:13:21Z</dcterms:created>
  <dc:creator>bzemcik</dc:creator>
  <dc:description/>
  <dc:language>en-US</dc:language>
  <cp:lastModifiedBy>RomaK</cp:lastModifiedBy>
  <dcterms:modified xsi:type="dcterms:W3CDTF">2015-09-04T11:08:23Z</dcterms:modified>
  <cp:revision>8</cp:revision>
  <dc:subject/>
  <dc:title>Sexual Reproduction in Animals</dc:title>
</cp:coreProperties>
</file>