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1.gif" ContentType="image/gif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5D4D-518E-40B9-B691-C0166CA68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0522-543A-480D-9425-7441E8F0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4CAB-3841-41A3-83F9-E85A990D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BA63B-C3DA-4042-A93A-E8029901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C1927-27C1-4641-A0BE-4A60F032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1A22D-D2B4-4EFC-9FA5-F0F6C57C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281E3-B9FB-4C23-BD6B-A5A18D82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FCDAA-9824-4412-8B02-5BC368E9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AC498-D91E-4C32-8888-6EBB4279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34D2F-EE53-451C-8C4F-D86567E0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00F46-4B2E-46C0-A60A-1F0C42F7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EA03B-E392-4655-9775-BBDC593C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524D5-D9B1-4F44-857C-6E865E67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FD87-4CA7-42A3-9490-97164C4D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579DA-A6DE-4F4A-9F84-7C813BC7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9165B-09D4-4001-96B7-9325CD57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45D75-992E-4C59-A52F-8AFA38AD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BF816-7862-43FD-9D00-75BE7945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9E4B3-6B1A-496F-98D6-35A36422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0B029-E0ED-4267-BCBB-35CD4C07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BBB55-351C-435E-9BC3-F7B9394C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A9F3A-C8C6-4DE4-B369-5FF9A5FB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C5AE2-F9FC-40B1-A5E9-37968B03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9AFF8-D35D-4DE7-A96A-380D9520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4FE0-6C4B-4034-8B57-44002A0B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44012-85BB-4EA0-8D56-E4783F0D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9ECFE-D0CD-48EA-860A-7F7AB439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F0484-F591-406F-9ACD-CC9920A3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ADAB1-1AE6-4473-B544-9A388B9E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B9828-6E99-4DC2-9AD5-BB35F495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7985E-55D1-4200-8B82-E03D938E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05686-FCA5-4379-987B-84B4B115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11E01-2ADA-4250-9ECB-FEDDD83B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CC139-4BCD-4F5A-9D06-828C5B35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82B03-4988-47C8-A565-6C6B72DC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F0B2-5082-4B84-A1D6-D07DA3CE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89F96-C651-48A5-A332-C5067253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6F431-4F3B-4DB0-BC95-4A816494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F4B04-5C78-4990-BDF6-AE4DC803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5BA4F-02C7-4D15-A8C7-C4614713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211C2-A0EC-4EDC-9425-656C7300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E3111-DF74-4D0F-A42D-E002C914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5D0BD-325E-46C9-8A3E-131DE09C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CC71C-8B44-40A2-8864-469F42C2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6B182-B38B-4813-9CC8-E9C31A09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C639F-1339-4163-9CC5-41A8569F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3B39-1041-44F2-91DA-E3BA66D7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3EFF0-5994-4280-8713-B6AC47A0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928A4-D563-4F95-A734-ABCF06B3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06571-EA87-417F-B984-B3146F09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EE7C5-60F9-40E7-BB75-DFB2D782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CB33D-7619-4BE3-8AF7-02EA60DB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B22C66-F90F-4D16-BD3F-625998A6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C0E20E-1EFB-4F5D-9794-5BEFD751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A277A2-EF46-4F65-8CCE-2B5206C3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DFBE05-BABD-40D9-B699-43ECA603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F9BA2-FBED-4D11-9C9C-FBEB6966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E7ED-ABE8-4557-A6A8-F9794BC4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52A59D-3A13-4A4A-92B6-04169F7C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DFA58-B7C3-4461-98BA-C9EA8D81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751155-1941-4FD3-AC8F-C8CB06E9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E98CC-F1F5-4986-B290-21C51E76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34DDF1-6E2E-48D7-B40B-F717B445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8F4B21-F300-44B7-AFE8-30CB2A11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C41493-F2EB-490A-92AB-3F287179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A19B-3426-4281-AAC6-DBA10583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01A9-0DC8-4848-B781-9C07E62A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7B79-78F6-4CDA-8A4D-C9A4CD12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8924-CE03-495A-80DA-9D9B0635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CAD5-718D-4C71-AEA0-A9BED3ED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4A20-DAE8-413E-BA58-5366ED85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3A36-26B4-4EC7-9314-D27E7D8C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347E-F9DE-429D-85BA-387A47F7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24B3-8F36-45BB-8E6E-8064CE99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5AE0-E01B-4B6A-AAAF-4A72E71C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4141A-AB87-4585-A9F7-665D3F33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E4703-08B8-4D59-9755-A297B340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0C2FC-AB1C-43D9-9194-2674F3E1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04FB8-8CF6-4CEB-BFE4-954C54B7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43F96-A2AC-45DC-8C28-89EBCE34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AEE7-0CD2-4B79-B14E-1E8FB875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8AB3B-189B-4DC5-B340-2C2D7082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9767A-C191-4897-B502-D2BA7500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BFBF9-D4FB-4764-9D29-C4980CEF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D7B2E-E469-493E-8527-E2F4E850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8430F-7B76-4F63-B021-3CAEA920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AD84F-731C-4B97-BBE8-B64F00FF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E7A3C-6F86-4203-A6A4-B92623E3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4621F-C110-4A56-A719-9846AC6E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FCB41-E41C-4F99-8B5A-1FECA0C4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1E3F0-446C-443D-9BC8-4EE24161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5980-BA00-4BA2-B4BF-3F8F94EC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DAEC3-8622-43D8-82C1-1548F525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0F041-F9A8-4BD0-B167-4566F77F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7EC10-7FCE-4F57-9758-438CA7A3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E39B9-DBDF-4BED-A83D-9436201F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1D907-1810-4CA0-A4F3-14AE8364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581A2-0EC7-40B4-89FC-2D763DD5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CA0A6-6C5A-4307-ACC8-503D8623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1D8DF-EA3F-45F0-A047-A580BC0A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8F390-D034-4995-8FBB-0C12EF73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24662-ABA1-4241-AC8B-810716CA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BF71-52D2-4A0C-8246-4042E721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590DA-D3A6-41A9-AFDC-162491AA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7D599-385C-4068-8DF1-FF86511F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6E0BC-8DDE-4D97-8446-69496B45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8EBB4-D75D-4703-B824-EC423289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3DBB0-5DD8-4D76-9CB0-72B43D91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E7221-9366-4444-A319-02F3E948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A2DD1-1912-40B6-BE80-D80F96E2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B40DB-80D0-47AC-9563-34D24AF3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8C351-3B54-4EAD-8D29-49C0402B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1D72A-A578-4715-B6FE-88CDFB14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6963-9AB8-454F-855B-D6FD546E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2B5CF-D2F9-43A1-BBA2-2587255A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EC595-F437-40F3-933C-119327E5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AC4A6-1183-4CD8-BDE2-6EB3BC55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400A6-E916-48F2-B594-7943DB9E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2CBC2-CDC4-4BA7-B0CE-EFEF2AEC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16B92-A1F6-40E3-8FAA-1048C5B3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C680C-C5AA-47A2-8ABC-E1C522B9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353AB-A10A-4A83-B099-27AA1CE6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9996E-A37D-4CAE-B21E-2D80E1B2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5C3F1-D722-406D-88B7-2B1546F6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BEA-8477-4FFB-908E-7BE49B71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855AE-D096-4EA6-B098-51CC8185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20B02-AA7F-461F-B0FE-59969DFC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F92C4-48C5-4617-95B3-C065A51A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F4405-B95D-49EC-9C60-EA69CB50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B73BC-652C-4E81-9CCC-08324A85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448EE-B533-42A9-8004-C81AC784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F3E6A-7D9D-4EDE-B327-FFD593D6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F8E30-5071-4BB3-A070-4A5593BF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50730-78D3-4E10-93D3-19C98C51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8C5A4-884F-4445-BEFE-05E11592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4950-E7D4-4C57-A48A-D0B51419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35E28-11C4-44A2-83BC-23EB30DC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0CA9C-3741-41A5-8A6F-440FB7ED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13BF2-3870-4911-A825-1B8AB6A5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90FC4-C2F4-4AE3-9EC6-95CAAF87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2B6D9-4704-4AFD-BF03-8205C6DE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016D9-A6DE-406A-A457-8DE88D31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0DF26-4B89-44F6-A05A-D6AC0764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3CB8C-EE21-43E8-AAC2-27DDF8EC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23D1C-50CF-420F-BDA2-7DBFD687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4B08A-DE34-40B4-96A8-B3AFCB43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79D-DD59-4F43-B077-C966F959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4090C-59B7-483E-BD38-248A7BF3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03A92-68BB-4327-A90E-89675C0A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0C295-3ECD-42EA-BEB8-9B179AF5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C3CBC-3954-46AC-BDB9-1A3404D4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83D60-64FE-4A80-B7E1-1D304031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C34EB-B415-4927-9293-76E13990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AA7B4-0019-4C26-998D-5D987052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63DBA-E1ED-4EBE-929D-F705DCC1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21236-C250-4A17-96E6-71AC0C95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C9E58-CA61-48ED-BEC9-3BA56186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9D1D-64CC-4D1F-B438-CAD85E199E3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0034-FC42-40B9-9FFE-1C8E700E0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0A8D-AA51-44D3-B08F-65D8C75C7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D9AE-94A5-4B34-9DA0-A5D97D3366A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A22E-ED5D-4A0A-9E4E-33CF2E3472B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CD9F-7BC4-4488-9254-3270FFA0BD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03AF-60D2-41F2-9AC4-6208274BE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5766-18C1-429A-9B1A-F12C1E19749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4727-86B5-4A31-8884-A910DE8DC7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1196-2966-4030-AB71-A2158553C2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E5F3-D3D8-4078-9162-839EB830FD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8344-12BE-430A-90F7-38953F50A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BA04-31FA-455C-8358-7F76FD662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Quick Review -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eiosi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division of cells which results in the production of gamet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Gamete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lso known as sex cells, germ cells, or spores; cells of sexual reproduction, which contain only half the chromosomes of a normal cell highered.mcgraw-hill.com/sites/0072549238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tudent_view0/glossary.htm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Chromosomes -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Threadlike bodies found in the nucleus, or center part, of a cell that carry the information of hered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www.sharedexperience.org/Glossary.lasso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a female and male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Broadway"/>
              </a:rPr>
              <a:t>fertilization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- the combining of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Produces </a:t>
            </a:r>
            <a:r>
              <a:rPr b="0" i="1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genetic diversity</a:t>
            </a: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 - variation among and within species that is attributable to differences in hereditary material.</a:t>
            </a:r>
            <a:br>
              <a:rPr sz="3000"/>
            </a:br>
            <a:r>
              <a:rPr b="0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www.for.gov.bc.ca/hfd/library/documents/glossary/G.htm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4" descr="big_nose"/>
          <p:cNvPicPr/>
          <p:nvPr/>
        </p:nvPicPr>
        <p:blipFill>
          <a:blip r:embed="rId1"/>
          <a:stretch/>
        </p:blipFill>
        <p:spPr>
          <a:xfrm>
            <a:off x="3429000" y="3276720"/>
            <a:ext cx="106668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4" descr="bleak landscape"/>
          <p:cNvPicPr/>
          <p:nvPr/>
        </p:nvPicPr>
        <p:blipFill>
          <a:blip r:embed="rId1">
            <a:lum contrast="18000"/>
            <a:alphaModFix am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ossible Rea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EXTINCTION!!!!</a:t>
            </a: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	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ut, my sister does have a big nose.  So the human species is saved.  Kinda makes big noses pretty attractive now, doesn’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big nose girl"/>
          <p:cNvPicPr/>
          <p:nvPr/>
        </p:nvPicPr>
        <p:blipFill>
          <a:blip r:embed="rId1"/>
          <a:stretch/>
        </p:blipFill>
        <p:spPr>
          <a:xfrm>
            <a:off x="2286000" y="3657600"/>
            <a:ext cx="39625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roadway"/>
              </a:rPr>
              <a:t>So what can we conclude about Sexual Reproduction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43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it produces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iversity ensures survival of a species in an environment tha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Sexual Rep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cess in which two cells, termed gametes, come together to form one </a:t>
            </a:r>
            <a:r>
              <a:rPr b="0" lang="en-US" sz="1800" spc="-1" strike="noStrike">
                <a:solidFill>
                  <a:srgbClr val="0066ff"/>
                </a:solidFill>
                <a:latin typeface="Broadway"/>
              </a:rPr>
              <a:t>fertilized</a:t>
            </a: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 cell that contains genetic information from both parental cells.   ucbiotech.org/glossary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duction of offspring whose genetic constitution is a mixture of that of two potentially genetically different gamete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evolution.unibe.ch/teaching/GlossarE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Q:  How many of you have more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than one pa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" descr="man_woman_walking_holding_hands_lg_wm"/>
          <p:cNvPicPr/>
          <p:nvPr/>
        </p:nvPicPr>
        <p:blipFill>
          <a:blip r:embed="rId1"/>
          <a:stretch/>
        </p:blipFill>
        <p:spPr>
          <a:xfrm>
            <a:off x="2895480" y="4114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457200" y="2286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en, everyone in this room is a product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of 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6242760" y="636264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nimationFacto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a female and male parent (i.e. it takes two to tan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Q:  Why do we need more than 1 pa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6" descr="MCj03981910000[1]"/>
          <p:cNvPicPr/>
          <p:nvPr/>
        </p:nvPicPr>
        <p:blipFill>
          <a:blip r:embed="rId1"/>
          <a:stretch/>
        </p:blipFill>
        <p:spPr>
          <a:xfrm>
            <a:off x="1143000" y="3809880"/>
            <a:ext cx="1558800" cy="18147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MCj03981910000[1]"/>
          <p:cNvPicPr/>
          <p:nvPr/>
        </p:nvPicPr>
        <p:blipFill>
          <a:blip r:embed="rId2"/>
          <a:stretch/>
        </p:blipFill>
        <p:spPr>
          <a:xfrm>
            <a:off x="4724280" y="3809880"/>
            <a:ext cx="1559160" cy="181476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9"/>
          <p:cNvSpPr/>
          <p:nvPr/>
        </p:nvSpPr>
        <p:spPr>
          <a:xfrm>
            <a:off x="533520" y="4419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½                   +      ½                 </a:t>
            </a:r>
            <a:r>
              <a:rPr b="1" lang="en-US" sz="3600" spc="-1" strike="noStrike">
                <a:solidFill>
                  <a:srgbClr val="000000"/>
                </a:solidFill>
                <a:latin typeface="Broadway"/>
              </a:rPr>
              <a:t>=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Requires a female and male par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So, by what we’ve discussed, in sexual reproduction “mom” donates half, and “dad” donates half.  How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Fertilization"/>
          <p:cNvPicPr/>
          <p:nvPr/>
        </p:nvPicPr>
        <p:blipFill>
          <a:blip r:embed="rId1"/>
          <a:stretch/>
        </p:blipFill>
        <p:spPr>
          <a:xfrm>
            <a:off x="2666880" y="2590920"/>
            <a:ext cx="3276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equires a female and ma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</a:t>
            </a:r>
            <a:r>
              <a:rPr b="0" i="1" lang="en-US" sz="3200" spc="-1" strike="noStrike" u="sng">
                <a:solidFill>
                  <a:srgbClr val="0066ff"/>
                </a:solidFill>
                <a:uFillTx/>
                <a:latin typeface="Broadway"/>
              </a:rPr>
              <a:t>fertilization</a:t>
            </a: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 - the combining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7" descr="dancing baby 2"/>
          <p:cNvPicPr/>
          <p:nvPr/>
        </p:nvPicPr>
        <p:blipFill>
          <a:blip r:embed="rId1"/>
          <a:stretch/>
        </p:blipFill>
        <p:spPr>
          <a:xfrm>
            <a:off x="685800" y="2666880"/>
            <a:ext cx="2095560" cy="1905120"/>
          </a:xfrm>
          <a:prstGeom prst="rect">
            <a:avLst/>
          </a:prstGeom>
          <a:ln w="0">
            <a:noFill/>
          </a:ln>
        </p:spPr>
      </p:pic>
      <p:pic>
        <p:nvPicPr>
          <p:cNvPr id="562" name="disco baby music.mid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9" descr="disco baby"/>
          <p:cNvPicPr/>
          <p:nvPr/>
        </p:nvPicPr>
        <p:blipFill>
          <a:blip r:embed="rId3"/>
          <a:stretch/>
        </p:blipFill>
        <p:spPr>
          <a:xfrm>
            <a:off x="6019920" y="251460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0"/>
          <p:cNvSpPr/>
          <p:nvPr/>
        </p:nvSpPr>
        <p:spPr>
          <a:xfrm>
            <a:off x="898560" y="4305240"/>
            <a:ext cx="75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ake a moment to write down one trait that is different and in what way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s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1"/>
          <p:cNvSpPr/>
          <p:nvPr/>
        </p:nvSpPr>
        <p:spPr>
          <a:xfrm>
            <a:off x="228600" y="63626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*Dancing baby graphics and music courtesy of MegaBaby.co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RomaK</cp:lastModifiedBy>
  <dcterms:modified xsi:type="dcterms:W3CDTF">2015-09-04T11:08:30Z</dcterms:modified>
  <cp:revision>14</cp:revision>
  <dc:subject/>
  <dc:title>Sexual Reproduction</dc:title>
</cp:coreProperties>
</file>