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2.wmf" ContentType="image/x-wmf"/>
  <Override PartName="/ppt/media/image19.jpeg" ContentType="image/jpeg"/>
  <Override PartName="/ppt/media/image18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4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1.gif" ContentType="image/gif"/>
  <Override PartName="/ppt/media/image4.jpeg" ContentType="image/jpeg"/>
  <Override PartName="/ppt/media/image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AD9A-A4A2-4C93-B22E-2B71A4128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- division of cells which results in the product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 - also known as sex cells, germ cells, or spores; cells of sexual reproduction, which contain only half the chromosomes of a normal cell highered.mcgraw-hill.com/sites/007254923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_view0/glossary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Threadlike bodies found in the nucleus, or center part, of a cell that carry the information of heredit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haredexperience.org/Glossary.las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- division of cells which results in the product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 - also known as sex cells, germ cells, or spores; cells of sexual reproduction, which contain only half the chromosomes of a normal cell highered.mcgraw-hill.com/sites/007254923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_view0/glossary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Threadlike bodies found in the nucleus, or center part, of a cell that carry the information of heredit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haredexperience.org/Glossary.las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genetic diversity - variation among and within species that is attributable to differences in hereditary materia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or.gov.bc.ca/hfd/library/documents/glossary/G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genetic diversity - variation among and within species that is attributable to differences in hereditary materia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or.gov.bc.ca/hfd/library/documents/glossary/G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Rea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Rea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ION!!!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my sister does have a big nose.  So the human species is saved.  Kinda makes big noses pretty attractive now, doesn’t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ION!!!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my sister does have a big nose.  So the human species is saved.  Kinda makes big noses pretty attractive now, doesn’t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can we conclude about 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roduces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ersity ensures survival of a species in an environment that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can we conclude about 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roduces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ersity ensures survival of a species in an environment that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n which two cells, termed gametes, come together to form one fertilized cell that contains genetic information from both parental cells.   ucbiotech.org/glossary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offspring whose genetic constitution is a mixture of that of two potentially genetically different gamet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.unibe.ch/teaching/Glossar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n which two cells, termed gametes, come together to form one fertilized cell that contains genetic information from both parental cells.   ucbiotech.org/glossary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offspring whose genetic constitution is a mixture of that of two potentially genetically different gamet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.unibe.ch/teaching/Glossar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How many of you have mo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n one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everyone in this room is a produ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Facto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How many of you have mo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n one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everyone in this room is a produ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Facto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(i.e. it takes two to tan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(i.e. it takes two to tan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Why do we need more than 1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                  +      ½                 =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Why do we need more than 1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                  +      ½                 =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y what we’ve discussed, in sexual reproduction “mom” donates half, and “dad” donates half.  How does this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y what we’ve discussed, in sexual reproduction “mom” donates half, and “dad” donates half.  How does this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 moment to write down one trait that is different and in what way it is differ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ancing baby graphics and music courtesy of MegaBaby.com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 moment to write down one trait that is different and in what way it is differ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ancing baby graphics and music courtesy of MegaBaby.com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6528-E485-4936-8B46-822D673F8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4A5F-7F7D-4658-975F-68400F38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908AB-839E-47F2-A8D1-EDF18093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2D9B4F-D212-4040-9603-140AB6D4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4BEFA-6300-4448-BFAE-1C58294D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F0553A-EADC-4982-BDEF-C7CF6845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74D7D-6330-4CFA-BEE7-0A90F530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08630-A914-4A0E-915D-598D425C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3C1C89-287A-4664-9665-895BB606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13CFE-0D9E-4EDD-B22A-12DFD888D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1FC42-E001-40C2-A7C2-09383E75A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433DD7-F9B3-4B9A-A224-149F4414C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E822-32BA-4A81-8953-CAB56DFD8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80C765-8EEB-4AED-81D9-89D8D5A7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025A14-4882-42FB-8FFC-671A439F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4FF46-2635-4711-9F6E-C3B1D440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492FD4-5A6D-4799-8BD0-7D6B002A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4072CC-1B09-467A-9BFF-30C7DD05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877548-670E-4B64-B440-8DB95D67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CD3A3E-1FE3-4620-9724-8F408FB2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DE341B-84EB-4DE8-BF9C-6206F4F4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B29661-59D5-4D30-8CBA-CDF59EB9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8D6483-FDE8-4203-9AE3-ECE6B975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62E1-7ED6-48F2-9965-BC23E6874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427C71-FC96-4CA5-9487-C70E82864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96CA2-3793-4856-BFA0-8A1C7CE4C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8CBFB-3646-4EF6-8CE0-CC1354BE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EE0F0-C94E-41FE-B3E2-DE9CB9C5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E3F81F-F1A5-48E8-BC0B-DA394E23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1D8B9F-8E13-4543-AF3B-E9FC52AE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A3AE4-D316-40F0-B758-443E40E6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D1D6F-1D3E-4C7E-BB25-2F5AD2BD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E8C92-2933-484E-8F9A-33652308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B5477-D4C6-4E85-AAE6-EC386108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AF2E-63D3-482D-A6DF-570B9C4EB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08BF4-28EE-4C39-96C7-279DC4EB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12BE0-16E3-4DB0-986A-0D66EBA2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8925B-C1AC-4432-81AA-D49423891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AF2E5E-9159-46F2-B6C8-2CE77A1F8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8BFCC2-E356-4E8F-8897-4FDA7347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22BC2A-F3A7-43FF-B503-E7D128C3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F26AE3-8C5A-46D8-8C1C-D77C4340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7B7250-22BC-42EE-A22B-A430DAD8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A30946-83D1-4A89-9696-7DFE3854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867B71-E1A8-40C8-A717-AD754EF6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090E-4BF7-4B17-BE61-9CFE1AF3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36C41D-BE71-4A10-A160-41B68101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80F6D7-B625-42B5-9654-2AC1B9CB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3C04A9-F360-4DB9-8F9B-EB940583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E49B21-A61F-48FF-B6EC-9FDE82121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33E9E3-7B5D-4AF4-B051-C5A2FF2CD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EB9412-2C04-4CB0-978A-03C474211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62BAC3-4673-4A65-9270-BC1B520F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2E2924-140E-4092-9B8C-687D56D2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0841F7-2780-46B2-B26F-0CAB5EFC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82CF83-B908-4488-BDD4-BE38CD12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30E8-0E8B-4CAF-9FC4-FF4EAE9B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7A0DE5-FD64-454B-8650-6D56B436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04012A-5B10-4693-8431-7C364B61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27E574-2FAD-449F-9F4A-BCE26705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C07C4B-69AF-4ECD-AB39-A1D30BB4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4A3676-9495-4E6D-BB75-CADA20AF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D06932-75CE-43A0-BFCF-BBB5ED328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50FA54-D72D-4BD3-8B28-CD2578138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3221-D43D-4FF3-AF25-10ADEB46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97C3-66A9-4B60-9D18-5E3F0DBD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6231-49C0-4E7F-A9D2-48183FA8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6BF9-D25A-40DE-B6C9-AC3F7BF8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D17E-C422-42C2-B96D-90B33543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68A1-C22C-4B96-85C8-2A0F66B0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FD8E-1C92-4C38-9AAB-2A1579A6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CB3C-217E-4B58-BCCE-A92D04AA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1BFB-45C3-4CD0-B65B-AF538147D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1AB2-8273-4B1B-BA99-5736E8DB8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D0226-E03C-40A9-AE59-8159AF006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4CA9B-D830-46A6-A384-2CB9C31F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E3E64-3898-47ED-9A71-3A45F1E6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DD590-9403-4940-A4D4-E2656805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4ED1A-643D-41A1-895C-B8FD6A99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2027-C007-4451-B440-6D72784C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EC1A6-5C0D-477E-87DC-964C718D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B82BF-16AD-47CB-A50D-3765F813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42D11-78B9-4787-A555-BA95B34F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7AB56-A4E3-4596-8659-489E2798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24D29-77B6-4BD7-B454-159489A0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3D8D4-A8CE-4C86-8DF7-3E1CAA880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4B792-E147-4343-98F2-38AFA1FB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C6653-C5BF-41D4-A83F-00B42803A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CF724-9797-4D7C-829E-51AB084A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00594-F975-4AB7-9786-7267C3E5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CA28-3D06-46C2-B8F7-37EC11D9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8A18F-3D22-4B77-ACE6-6A23A26E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9E373-2FC2-49C5-BE2A-B7321216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A5E9D-6020-4C5D-AEA1-CC3C9858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38C62-6E06-40C9-B077-3EF514E0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175D9-5C7A-4D9B-BB0D-1B6FB32C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A01E9-94B4-4DD5-904F-BC78D541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D7AA7-AB94-4415-846F-7D929605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67350-9F32-4DA6-869B-4016F95A0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67A85-0524-4911-AA70-FB4636D1F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D1DE0-7C19-4C11-B3CD-FDB2DEAAA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F7DF-D912-48F8-8D4E-1BBDF2C6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9BFF0-CC8B-4FD5-95C2-BD36DBBC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21029-F2CC-4240-B554-E79BDDCE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3F9B1-952D-4D3E-82FC-C6B0A76A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1C49C-4128-43D4-B96F-B7F9CDDF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9B233-CF6E-442A-A217-0D242D09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27BA2-D579-463F-AAD8-7F3C55FB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CACFE-80DE-4746-87BA-07A847DD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986B4-E367-42CB-8429-A6537112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55CC6-B522-458D-923F-2AA0B2AC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84BB9-2729-4287-99B7-AF0A8FB80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BD62-B602-426D-A3EF-BF52639C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895B6-5F1C-4FA5-A82B-5892FC2E1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01B9A-CB12-4C00-90EC-647CE90D0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B1F71-64CB-49A1-BDC6-36B5B886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96269-1A21-4DB5-8FDA-EE910D77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DF657-8945-4575-ACE4-57501EA4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2711C-5CCF-4B37-9182-0A0511EF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7F0C0-5224-477A-9BAE-41F73B3D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43F5F-1893-4EFF-BF96-8EC74828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C91B5-C37B-451C-9956-4E1E9F5A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D63F8-90BA-4555-BA09-A5F14F74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3981-AAE4-4D5E-890A-5CE1C171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6D2A8-8795-48F3-9586-70292C78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F93E0-A510-4E11-A775-D19BD02E3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4F9A2-56FB-4410-80AF-4453C9C13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3175A-C550-4BEA-B630-C7ED2394F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8769C-CA8C-4162-AA28-515806DD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9A9A7-5DDD-4BFA-B7F6-A3079EE9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4F0B8-08F2-45DD-AE64-5AC9168D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A316F-6A6B-4357-AA03-4AB26A7D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C52CE-C005-4481-A1D7-0DE87C8A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5165F-2287-4624-9DA6-612EF31D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EBB2-02C1-4A2C-A0B4-7F00DAAE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D1BEA-5F01-440E-836C-1C03C265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353F2-1CFC-431F-A62D-36EEC248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F6EFA-13CE-4E46-BA0C-579E5B3E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A532E-8D29-48ED-9578-2C4983EE2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CF21F-0E89-4754-9356-D8590C921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1EB53-95EF-4740-8177-54EDC99F6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40006-7826-4978-8B38-EB5FF9D0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4D247-E2C6-4165-ADBD-61DBC8E8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87FFF-FFC7-40CA-BC31-7EBFF9C8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A15F3-3BCD-4CC1-9B10-CDFC633A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49EC-27D9-4D1F-B2DB-1FFF1797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A4916-9998-4393-B5C2-AA36F297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EFAFD-7782-4CF5-A362-B697B5FB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03CFB-8EB9-4897-AE43-B6122511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87270-6368-4C59-93B4-1D2B966C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067EB-60B2-4BF6-B53A-BEEA5AE3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52E90-0889-490E-AC43-67A685A50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A5B9B-07C0-42B0-AFFB-94DFDA7D0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EFF65-8E27-4E97-8730-AA57497E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1A4C7-5A30-4CA3-A8AB-177F9301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21C1D-D6A2-453B-91E7-FB1CED23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6E4C-D287-4676-81ED-B32501C5A08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F11D-87E7-438F-9D2D-D17779E22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005F-ABAD-48D5-9392-05069CA8F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4D2D-41F0-4C9A-8379-5D9E32DC2B6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7B68-ADED-4540-BF7E-2FC30A51BA0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0FE7-BFCB-4076-B4C5-78F5C2FF5E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0D80-D8BD-4C80-9B2F-4F1145C9E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71F1-C481-491E-8C3F-410398653C0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B005-91AA-4781-8010-7D0C5AA85E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6E26-CF62-4A43-88B4-1C252C80B5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81E1-7427-484F-B6F4-11FCA44FE9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7621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2485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5062-45A5-47D7-AA7A-032755E8E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8BF8-55EB-486D-8F56-E039C1363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Quick Review -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Meiosis - 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division of cells which results in the production of gamet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Gametes - 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also known as sex cells, germ cells, or spores; cells of sexual reproduction, which contain only half the chromosomes of a normal cell highered.mcgraw-hill.com/sites/0072549238/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student_view0/glossary.html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Chromosomes -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 Threadlike bodies found in the nucleus, or center part, of a cell that carry the information of heredity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www.sharedexperience.org/Glossary.lasso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Requires a female and male par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Each parent donates ½ of the Chromosomes/Genes/D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Requires 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Broadway"/>
              </a:rPr>
              <a:t>fertilization</a:t>
            </a: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 - the combining of game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Broadway"/>
              </a:rPr>
              <a:t>Produces </a:t>
            </a:r>
            <a:r>
              <a:rPr b="0" i="1" lang="en-US" sz="3000" spc="-1" strike="noStrike" u="sng">
                <a:solidFill>
                  <a:srgbClr val="0066ff"/>
                </a:solidFill>
                <a:uFillTx/>
                <a:latin typeface="Broadway"/>
              </a:rPr>
              <a:t>genetic diversity</a:t>
            </a:r>
            <a:r>
              <a:rPr b="0" lang="en-US" sz="3000" spc="-1" strike="noStrike">
                <a:solidFill>
                  <a:srgbClr val="0066ff"/>
                </a:solidFill>
                <a:latin typeface="Broadway"/>
              </a:rPr>
              <a:t> - variation among and within species that is attributable to differences in hereditary material.</a:t>
            </a:r>
            <a:br>
              <a:rPr sz="3000"/>
            </a:br>
            <a:r>
              <a:rPr b="0" lang="en-US" sz="3000" spc="-1" strike="noStrike" u="sng">
                <a:solidFill>
                  <a:srgbClr val="0066ff"/>
                </a:solidFill>
                <a:uFillTx/>
                <a:latin typeface="Broadway"/>
              </a:rPr>
              <a:t>www.for.gov.bc.ca/hfd/library/documents/glossary/G.htm</a:t>
            </a: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9" name="Picture 4" descr="big_nose"/>
          <p:cNvPicPr/>
          <p:nvPr/>
        </p:nvPicPr>
        <p:blipFill>
          <a:blip r:embed="rId1"/>
          <a:stretch/>
        </p:blipFill>
        <p:spPr>
          <a:xfrm>
            <a:off x="3429000" y="3276720"/>
            <a:ext cx="1066680" cy="10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4" descr="bleak landscape"/>
          <p:cNvPicPr/>
          <p:nvPr/>
        </p:nvPicPr>
        <p:blipFill>
          <a:blip r:embed="rId1">
            <a:lum contrast="18000"/>
            <a:alphaModFix am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Possible Reas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Broadway"/>
              </a:rPr>
              <a:t>EXTINCTION!!!!</a:t>
            </a:r>
            <a:r>
              <a:rPr b="0" lang="en-US" sz="4400" spc="-1" strike="noStrike">
                <a:solidFill>
                  <a:srgbClr val="1c1c1c"/>
                </a:solidFill>
                <a:latin typeface="Broadway"/>
              </a:rPr>
              <a:t>	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But, my sister does have a big nose.  So the human species is saved.  Kinda makes big noses pretty attractive now, doesn’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4" descr="big nose girl"/>
          <p:cNvPicPr/>
          <p:nvPr/>
        </p:nvPicPr>
        <p:blipFill>
          <a:blip r:embed="rId1"/>
          <a:stretch/>
        </p:blipFill>
        <p:spPr>
          <a:xfrm>
            <a:off x="2286000" y="3657600"/>
            <a:ext cx="396252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5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Broadway"/>
              </a:rPr>
              <a:t>So what can we conclude about Sexual Reproduction?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43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it produces 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diversity ensures survival of a species in an environment that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1000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roadway"/>
              </a:rPr>
              <a:t>Sexual Reproduction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0" y="16765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Definition:</a:t>
            </a:r>
            <a:r>
              <a:rPr b="0" lang="en-US" sz="1400" spc="-1" strike="noStrike">
                <a:solidFill>
                  <a:srgbClr val="ffffff"/>
                </a:solidFill>
                <a:latin typeface="Broadway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roadw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Process in which two cells, termed gametes, come together to form one </a:t>
            </a:r>
            <a:r>
              <a:rPr b="0" lang="en-US" sz="1800" spc="-1" strike="noStrike">
                <a:solidFill>
                  <a:srgbClr val="0066ff"/>
                </a:solidFill>
                <a:latin typeface="Broadway"/>
              </a:rPr>
              <a:t>fertilized</a:t>
            </a: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 cell that contains genetic information from both parental cells.   ucbiotech.org/glossary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roadw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Production of offspring whose genetic constitution is a mixture of that of two potentially genetically different gametes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evolution.unibe.ch/teaching/GlossarE.ht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914400" y="8380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Q:  How many of you have more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than one par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4" descr="man_woman_walking_holding_hands_lg_wm"/>
          <p:cNvPicPr/>
          <p:nvPr/>
        </p:nvPicPr>
        <p:blipFill>
          <a:blip r:embed="rId1"/>
          <a:stretch/>
        </p:blipFill>
        <p:spPr>
          <a:xfrm>
            <a:off x="2895480" y="411480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5"/>
          <p:cNvSpPr/>
          <p:nvPr/>
        </p:nvSpPr>
        <p:spPr>
          <a:xfrm>
            <a:off x="457200" y="22860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then, everyone in this room is a product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of sexual 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6242760" y="636264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AnimationFactor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Requires a female and male parent (i.e. it takes two to tan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Q:  Why do we need more than 1 par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Picture 6" descr="MCj03981910000[1]"/>
          <p:cNvPicPr/>
          <p:nvPr/>
        </p:nvPicPr>
        <p:blipFill>
          <a:blip r:embed="rId1"/>
          <a:stretch/>
        </p:blipFill>
        <p:spPr>
          <a:xfrm>
            <a:off x="1143000" y="3809880"/>
            <a:ext cx="1558800" cy="18147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8" descr="MCj03981910000[1]"/>
          <p:cNvPicPr/>
          <p:nvPr/>
        </p:nvPicPr>
        <p:blipFill>
          <a:blip r:embed="rId2"/>
          <a:stretch/>
        </p:blipFill>
        <p:spPr>
          <a:xfrm>
            <a:off x="4724280" y="3809880"/>
            <a:ext cx="1559160" cy="181476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9"/>
          <p:cNvSpPr/>
          <p:nvPr/>
        </p:nvSpPr>
        <p:spPr>
          <a:xfrm>
            <a:off x="533520" y="441972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½                   +      ½                 </a:t>
            </a:r>
            <a:r>
              <a:rPr b="1" lang="en-US" sz="3600" spc="-1" strike="noStrike">
                <a:solidFill>
                  <a:srgbClr val="000000"/>
                </a:solidFill>
                <a:latin typeface="Broadway"/>
              </a:rPr>
              <a:t>= 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Requires a female and male par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Each parent donates ½ of the Chromosomes/Genes/D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So, by what we’ve discussed, in sexual reproduction “mom” donates half, and “dad” donates half.  How does this happ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Picture 4" descr="Fertilization"/>
          <p:cNvPicPr/>
          <p:nvPr/>
        </p:nvPicPr>
        <p:blipFill>
          <a:blip r:embed="rId1"/>
          <a:stretch/>
        </p:blipFill>
        <p:spPr>
          <a:xfrm>
            <a:off x="2666880" y="2590920"/>
            <a:ext cx="32767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Requires a female and male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Each parent donates ½ of the Chromosomes/Genes/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Requires </a:t>
            </a:r>
            <a:r>
              <a:rPr b="0" i="1" lang="en-US" sz="3200" spc="-1" strike="noStrike" u="sng">
                <a:solidFill>
                  <a:srgbClr val="0066ff"/>
                </a:solidFill>
                <a:uFillTx/>
                <a:latin typeface="Broadway"/>
              </a:rPr>
              <a:t>fertilization</a:t>
            </a: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 - the combining of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7" descr="dancing baby 2"/>
          <p:cNvPicPr/>
          <p:nvPr/>
        </p:nvPicPr>
        <p:blipFill>
          <a:blip r:embed="rId1"/>
          <a:stretch/>
        </p:blipFill>
        <p:spPr>
          <a:xfrm>
            <a:off x="685800" y="2666880"/>
            <a:ext cx="2095560" cy="1905120"/>
          </a:xfrm>
          <a:prstGeom prst="rect">
            <a:avLst/>
          </a:prstGeom>
          <a:ln w="0">
            <a:noFill/>
          </a:ln>
        </p:spPr>
      </p:pic>
      <p:pic>
        <p:nvPicPr>
          <p:cNvPr id="562" name="disco baby music.mid" descr=""/>
          <p:cNvPicPr/>
          <p:nvPr/>
        </p:nvPicPr>
        <p:blipFill>
          <a:blip r:embed="rId2"/>
          <a:stretch/>
        </p:blipFill>
        <p:spPr>
          <a:xfrm>
            <a:off x="81532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9" descr="disco baby"/>
          <p:cNvPicPr/>
          <p:nvPr/>
        </p:nvPicPr>
        <p:blipFill>
          <a:blip r:embed="rId3"/>
          <a:stretch/>
        </p:blipFill>
        <p:spPr>
          <a:xfrm>
            <a:off x="6019920" y="2514600"/>
            <a:ext cx="2133360" cy="170640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10"/>
          <p:cNvSpPr/>
          <p:nvPr/>
        </p:nvSpPr>
        <p:spPr>
          <a:xfrm>
            <a:off x="898560" y="4305240"/>
            <a:ext cx="75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Take a moment to write down one trait that is different and in what way 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is differ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1"/>
          <p:cNvSpPr/>
          <p:nvPr/>
        </p:nvSpPr>
        <p:spPr>
          <a:xfrm>
            <a:off x="228600" y="636264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*Dancing baby graphics and music courtesy of MegaBaby.com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5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8:07:54Z</dcterms:created>
  <dc:creator>John Bojnowski</dc:creator>
  <dc:description/>
  <dc:language>en-US</dc:language>
  <cp:lastModifiedBy>RomaK</cp:lastModifiedBy>
  <dcterms:modified xsi:type="dcterms:W3CDTF">2015-09-04T11:08:30Z</dcterms:modified>
  <cp:revision>14</cp:revision>
  <dc:subject/>
  <dc:title>Sexual Reproduction</dc:title>
</cp:coreProperties>
</file>