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12.wmf" ContentType="image/x-wmf"/>
  <Override PartName="/ppt/media/image19.jpeg" ContentType="image/jpeg"/>
  <Override PartName="/ppt/media/image18.jpeg" ContentType="image/jpeg"/>
  <Override PartName="/ppt/media/image17.gif" ContentType="image/gif"/>
  <Override PartName="/ppt/media/image2.jpeg" ContentType="image/jpeg"/>
  <Override PartName="/ppt/media/image16.gif" ContentType="image/gif"/>
  <Override PartName="/ppt/media/image14.gif" ContentType="image/gif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1.gif" ContentType="image/gif"/>
  <Override PartName="/ppt/media/image4.jpeg" ContentType="image/jpeg"/>
  <Override PartName="/ppt/media/image6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EB0FE-7140-42FC-AA66-DEF3378C2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Review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- division of cells which results in the production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es - also known as sex cells, germ cells, or spores; cells of sexual reproduction, which contain only half the chromosomes of a normal cell highered.mcgraw-hill.com/sites/0072549238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_view0/glossary.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- Threadlike bodies found in the nucleus, or center part, of a cell that carry the information of heredit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haredexperience.org/Glossary.lass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Review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- division of cells which results in the production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es - also known as sex cells, germ cells, or spores; cells of sexual reproduction, which contain only half the chromosomes of a normal cell highered.mcgraw-hill.com/sites/0072549238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_view0/glossary.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- Threadlike bodies found in the nucleus, or center part, of a cell that carry the information of heredit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haredexperience.org/Glossary.lass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fertilization - the combining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s genetic diversity - variation among and within species that is attributable to differences in hereditary materia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or.gov.bc.ca/hfd/library/documents/glossary/G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fertilization - the combining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s genetic diversity - variation among and within species that is attributable to differences in hereditary materia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or.gov.bc.ca/hfd/library/documents/glossary/G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lets talk about this diversity.  My sister has a big nose.  She’s not too thrilled with having this big nose.  So let’s try to convince her it’s a good thing.  Write down a reason it might be good to have a big nos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lets talk about this diversity.  My sister has a big nose.  She’s not too thrilled with having this big nose.  So let’s try to convince her it’s a good thing.  Write down a reason it might be good to have a big nos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Reas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run with the answer that she would have a better ability to pick up the scent of food.  What would happen if the food supply suddenly decreased and no one, including my sister, had a big nose that could sense this food supp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Reas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run with the answer that she would have a better ability to pick up the scent of food.  What would happen if the food supply suddenly decreased and no one, including my sister, had a big nose that could sense this food supp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INCTION!!!!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my sister does have a big nose.  So the human species is saved.  Kinda makes big noses pretty attractive now, doesn’t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INCTION!!!!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my sister does have a big nose.  So the human species is saved.  Kinda makes big noses pretty attractive now, doesn’t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 can we conclude about Sexual Reprodu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produces d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ersity ensures survival of a species in an environment that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 can we conclude about Sexual Reprodu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produces d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ersity ensures survival of a species in an environment that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in which two cells, termed gametes, come together to form one fertilized cell that contains genetic information from both parental cells.   ucbiotech.org/glossary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offspring whose genetic constitution is a mixture of that of two potentially genetically different gamete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ution.unibe.ch/teaching/GlossarE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in which two cells, termed gametes, come together to form one fertilized cell that contains genetic information from both parental cells.   ucbiotech.org/glossary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offspring whose genetic constitution is a mixture of that of two potentially genetically different gamete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ution.unibe.ch/teaching/GlossarE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:  How many of you have mor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n one pa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everyone in this room is a produc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Facto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:  How many of you have mor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n one pa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everyone in this room is a produc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Facto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(i.e. it takes two to tang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(i.e. it takes two to tang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:  Why do we need more than 1 pa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                  +      ½                 = 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:  Why do we need more than 1 pa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                  +      ½                 = 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by what we’ve discussed, in sexual reproduction “mom” donates half, and “dad” donates half.  How does this happ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by what we’ve discussed, in sexual reproduction “mom” donates half, and “dad” donates half.  How does this happ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fertilization - the combining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fertilization - the combining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nine months later, you come out kicking and screaming (and dancing).  To which parent do you look exactly alike?  How about your siblings?  Do you look exactly alike th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a moment to write down one trait that is different and in what way it is differen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ancing baby graphics and music courtesy of MegaBaby.com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nine months later, you come out kicking and screaming (and dancing).  To which parent do you look exactly alike?  How about your siblings?  Do you look exactly alike th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a moment to write down one trait that is different and in what way it is differen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ancing baby graphics and music courtesy of MegaBaby.com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190B-3AE0-41EC-932B-B4A171D82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DD02-5A90-4089-BF25-2F034D6A3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1C169A-85ED-4D1D-8157-7DECDDA8C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B84DAF-4FD3-49F1-A395-1C2447AFF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5A141E-38B5-49F0-A229-2E3057C36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BE0BF8-0BA7-4EFD-95BA-74E3B1A3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B3DE27-69B7-4749-84E2-BE2F461B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D4333E-D73B-4EDD-A205-95F00910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D958DC-C6F3-4AAA-BC73-6775A1F41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AEC353-E05E-4536-9DC9-7428183A0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F03A38-660C-427D-B3E7-1BC903606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6AB5D8-2E5D-49D0-A9FE-CEE20D424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EE70-CBA8-4AC9-9829-7E8111628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1E7319-285E-4FE9-8044-EB6DCE710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2C421A-31E7-4EC8-AE4C-393086C47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D34917-C497-480F-B8DF-3EE3A8D7C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AEEE75-5D3F-4302-9221-8FB685852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1DC449-77E7-4303-879C-1C15015F3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563595-5009-4B64-A814-2989744F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113D59-C584-4E64-B77E-0AA3F48E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354971-A35E-4867-8471-8BCE2F32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4E65A4-52B6-4157-A283-5EF812975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E3FF34-6526-4AB0-925B-5DD54E846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493A-8E94-4DDF-BFA0-2043DB320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E2F0AA-B06C-417E-9913-0678B0DEA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A7C66E-7BA4-408E-A5CF-E77B70AA6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235CB5-6266-46E9-9556-B569B42EC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44126F-F61C-4FD6-80BA-49240552F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D95670-AB1A-4674-94B2-6227A678E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B7D9FC-8AD8-48D3-9A76-415CAB112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2FD2A3-224F-4B4B-98EF-CA3F57229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3F8436-BA48-41C5-B53A-B5916397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E3E4B4-C487-40E4-86B9-C6D1EB65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63A3BF-4344-4BFC-A504-B1F6DE96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7F4C2-724A-4064-B3FF-D9D1A1BD5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EF502B-60FD-443E-87C0-A7BAF7290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5B7986-BFFD-439B-A891-7BF9D61E2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E29B92-0DCA-4089-808F-82F70EC80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EE3997-8D95-4024-A040-EFD5775CC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688416-24CE-4345-B751-779BC9DE7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99174F-EFA1-4BD6-90AF-EC04FC1B5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B739EB-F611-461A-BE3A-5528FF6B9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AFC45F-4DEF-45A2-8792-07FB6F7C9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B39654-953B-474A-99BC-DA9D7CE3C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AC4540-193C-4535-BCCB-4F5B36A8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DFDC8-EF92-4E81-8CE0-D866E5C3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EFDE41-A7B2-4722-88B5-D5DD9DFE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F5B85B-A865-4C14-A7B7-E42B7C7F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B97BAE-1EB5-44DC-B087-B5C6E8FFD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305CBA-167A-4DF4-B712-E9EA623BB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44DAFF-BBC1-4C26-B174-EE0CD6377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47CA30-F611-4B49-844F-3F9903860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21564E-2442-4482-A0F0-F7DD9F173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F9A5AC-DC63-41E4-B1E9-51F055985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029387-80A0-4E9F-B439-62499F6B9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EFD804-FA1C-47B0-AEA8-04B835B52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3D6B4-7547-438D-AB02-DF8DA3227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52E5C2-A6E2-4440-AB43-D7E79FCE4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DEE3D7-4FD0-4939-8321-0E675015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081DD2-8475-4949-9EA2-E636A1E5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ED61B0-AB93-4A4C-A427-9C342C8D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18594D-1881-4751-B96A-EF477B56A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D160EF-D5BE-41B5-BD9C-A75AE3395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8B069D-9287-4834-A48D-DE7C6A28E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09D81-422F-4BA1-8C0E-5AA189A12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7D45E-148D-4316-94D7-E11C377E3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DFDA6-7CEC-4E45-AA3D-1FF37D521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82DE3-0E1D-4373-B1AE-7C9DE6B4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8F0F-9F5F-4317-9AAC-487FE0E0C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A3F98-42F4-4773-838A-0ACCF457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2AB84-C98A-47AF-BC8D-76B9B8CB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4EE18-A62D-43CE-8894-7D454CC77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F4530-80C4-4212-AEE3-8105561D9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F44C9-D556-4E7A-A3FC-3F7CF1163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B8C71-170C-4156-AB23-8E694B51D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EE35A-6161-4373-B081-2155D6FCF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95D84-C132-47C1-875E-923347B7A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FB36A-1431-490B-B60C-5776EA1F4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8029A-1251-452D-8286-8695CD536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79B9-D73E-42E7-968C-02F0702B4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FF04E-6CCC-4975-ACE1-2EFA8633A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358B4-354A-4106-9839-CFB0B953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46051-3B63-40CF-ABB0-93268E3B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2D816-2147-47BD-B4C4-4D9D3158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5E140-9948-4BC1-8303-24EAD7F3B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1EC0E-BB81-481F-8869-A93368381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EFEF3-45F9-4438-9603-3F17CE480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4D5D0-2492-44EB-9035-9B366D060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A0BF9-3523-4FA9-889F-040D0F41A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E34C6-56ED-44A9-AE47-30EC66A0C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A9CA-ABFC-4991-8D0C-1A08CAEF8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EFEC5-0F99-41CD-B25F-325454575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5DF58-0DDD-4113-9AFE-8BDFC70D9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35A51-4052-4637-82BA-B5027DD0E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AD3AE-52D2-4F4E-A09A-17A1DD96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23560-74E0-4B00-A67C-C01AD1B6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E4796-1D8E-4031-9C90-2EA11210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B589E-B76C-4C44-834A-BBF675320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2A3BB-A55B-4CC7-983B-C9A1105E8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40FDA-7F51-431C-8E95-D0CBA847D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F8464-E9AA-4EC9-8794-A0112DF91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98EC-B319-4255-91D5-7F293ACC0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E30FF-77A2-47BF-9CD6-CC164D2E6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9C172-34A0-4BA9-A5EB-E5BFB5555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88906-F357-4F09-8DEB-5256DE2AB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5E4D2-12BD-420E-9763-E3C22847C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6041F-73D1-4547-AA90-9CBE16650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F4698-7512-47CA-BE6E-CF509711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296AD-5347-4745-B50D-29C33082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A2454-62D4-475E-BD8C-A26EE994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8D6DE-FAC3-4FA1-B231-6789292A9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1F7C6-C55D-4649-B749-2154B1896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B28B-E360-4A20-9832-20D81A0C1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318B9-B7EE-4688-9D2D-9DA4F49B6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ED603-5D72-4FDB-864A-0C8675550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72A01-475D-4892-A7B4-F1CF578C1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72082-5DD9-40EE-8122-B6D8392B2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597867-F065-4307-81AE-C6E871388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51945E-7C79-452F-82BA-61C42992C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2658D-AE6A-47A0-A43F-F62304B95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249BF-92E2-4711-9247-8455DC20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2ED2B-D83A-441C-AC08-9B904CBA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19468-73BD-4A57-BD31-9390594F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2CE7-F579-4015-ADDC-3C2CA37D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98E590-6EB4-4B1D-9EFC-A07AA9487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FD5DDD-0EA3-46B3-A8F0-A7D508911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40E29-941E-41D1-8F67-FE0E3D0DD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B77D6B-FFDB-44AE-A4D1-E135C38FB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E17A6C-F318-46C7-8E37-D636EEFD7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B70A7E-B4D1-44FE-B0B1-589A57861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90AD50-BEB2-4247-9C43-CB2135DE1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49505D-679D-48ED-A193-9B60480EF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E27A4-5F22-4AA1-93A5-FBEA4D359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FBD11-E78C-45DE-9D99-278BDF52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DDB6-5B2A-458C-95D5-CCB5B63B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C964BD-7A41-4FAB-9F0B-D5E71679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086875-88C1-4B37-8009-886B79F2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8376C-9301-4DE5-A67C-E98F57DC4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2DB790-359F-493D-B485-5606C6D98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FDE22-EE95-44F8-8B64-F610AAEF1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9E2D83-65A2-4674-819A-BD80ABDE1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E4A6B1-2D48-4C09-9A91-09542E6C3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85BBC7-9C0D-4F4C-BB58-6CE9BF919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E1B44A-D190-4D2D-AD06-A7BEEE6B1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A8BC8F-2E3E-4F24-B8B6-51347227A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C5AD-9CBB-4822-ABCE-BE255337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9AA071-EE30-4EAE-9FA2-BD89F3F51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E485EC-F32B-43E2-AE19-C497BB64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FD801B-9326-481A-9D86-DCAD8E6A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1D260F-B3E5-4A03-A5CE-E263CC20F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35C2A3-9B50-4488-9575-555D430FB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F0C359-4278-4CF4-9B6C-0187C82B1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F6BB83-EAB0-490D-A43F-4DDBCC36D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F3880A-9113-4550-8A7F-0268399C6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41F223-8986-4D4A-B971-8EF53C28C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B87EB5-C82E-4D93-8805-AFA5F6D12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B5DD2-0AB4-4B45-8EB4-3170828DF205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62452-8161-4F80-9635-FB851340DD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134AE-72C9-4D97-93BF-F8A4798F13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20F3E-5E8A-4DAB-82FB-3E67E11A08B8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064A3-79B3-4951-B2B4-0D32D5669EC9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AF8F7-759A-45E3-AEE6-2D1901ADC6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3A2CF-04DB-44B3-A939-BA1A70DE25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55C20-9E77-4DA5-BAEC-B3D3F85BD145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5135C-4C38-4805-9D49-0616337B73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BBC9C-7FBC-4400-9C92-C3EC16F86B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C2C45-5936-434A-B2BD-033F1EB5FF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77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7621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2485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3B3FF-FB96-4E24-BA4F-8B85810577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1E1BB-DE6B-498F-8E13-7A974D23F3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pn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oadway"/>
              </a:rPr>
              <a:t>Quick Review -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Meiosis - </a:t>
            </a: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division of cells which results in the production of gamet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Gametes - </a:t>
            </a: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also known as sex cells, germ cells, or spores; cells of sexual reproduction, which contain only half the chromosomes of a normal cell highered.mcgraw-hill.com/sites/0072549238/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student_view0/glossary.html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Chromosomes -</a:t>
            </a: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 Threadlike bodies found in the nucleus, or center part, of a cell that carry the information of heredity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www.sharedexperience.org/Glossary.lasso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c1c1c"/>
                </a:solidFill>
                <a:uFillTx/>
                <a:latin typeface="Broadway"/>
              </a:rPr>
              <a:t>Characteristics of Sexual Reproduction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Requires a female and male pare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Each parent donates ½ of the Chromosomes/Genes/D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Requires </a:t>
            </a: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Broadway"/>
              </a:rPr>
              <a:t>fertilization</a:t>
            </a: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 - the combining of game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6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ff"/>
                </a:solidFill>
                <a:latin typeface="Broadway"/>
              </a:rPr>
              <a:t>Produces </a:t>
            </a:r>
            <a:r>
              <a:rPr b="0" i="1" lang="en-US" sz="3000" spc="-1" strike="noStrike" u="sng">
                <a:solidFill>
                  <a:srgbClr val="0066ff"/>
                </a:solidFill>
                <a:uFillTx/>
                <a:latin typeface="Broadway"/>
              </a:rPr>
              <a:t>genetic diversity</a:t>
            </a:r>
            <a:r>
              <a:rPr b="0" lang="en-US" sz="3000" spc="-1" strike="noStrike">
                <a:solidFill>
                  <a:srgbClr val="0066ff"/>
                </a:solidFill>
                <a:latin typeface="Broadway"/>
              </a:rPr>
              <a:t> - variation among and within species that is attributable to differences in hereditary material.</a:t>
            </a:r>
            <a:br>
              <a:rPr sz="3000"/>
            </a:br>
            <a:r>
              <a:rPr b="0" lang="en-US" sz="3000" spc="-1" strike="noStrike" u="sng">
                <a:solidFill>
                  <a:srgbClr val="0066ff"/>
                </a:solidFill>
                <a:uFillTx/>
                <a:latin typeface="Broadway"/>
              </a:rPr>
              <a:t>www.for.gov.bc.ca/hfd/library/documents/glossary/G.htm</a:t>
            </a: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Now, lets talk about this diversity.  My sister has a big nose.  She’s not too thrilled with having this big nose.  So let’s try to convince her it’s a good thing.  Write down a reason it might be good to have a big nose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9" name="Picture 4" descr="big_nose"/>
          <p:cNvPicPr/>
          <p:nvPr/>
        </p:nvPicPr>
        <p:blipFill>
          <a:blip r:embed="rId1"/>
          <a:stretch/>
        </p:blipFill>
        <p:spPr>
          <a:xfrm>
            <a:off x="3429000" y="3276720"/>
            <a:ext cx="1066680" cy="103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4" descr="bleak landscape"/>
          <p:cNvPicPr/>
          <p:nvPr/>
        </p:nvPicPr>
        <p:blipFill>
          <a:blip r:embed="rId1">
            <a:lum contrast="18000"/>
            <a:alphaModFix am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Possible Reas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Let’s run with the answer that she would have a better ability to pick up the scent of food.  What would happen if the food supply suddenly decreased and no one, including my sister, had a big nose that could sense this food suppl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Broadway"/>
              </a:rPr>
              <a:t>EXTINCTION!!!!</a:t>
            </a:r>
            <a:r>
              <a:rPr b="0" lang="en-US" sz="4400" spc="-1" strike="noStrike">
                <a:solidFill>
                  <a:srgbClr val="1c1c1c"/>
                </a:solidFill>
                <a:latin typeface="Broadway"/>
              </a:rPr>
              <a:t>	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But, my sister does have a big nose.  So the human species is saved.  Kinda makes big noses pretty attractive now, doesn’t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4" descr="big nose girl"/>
          <p:cNvPicPr/>
          <p:nvPr/>
        </p:nvPicPr>
        <p:blipFill>
          <a:blip r:embed="rId1"/>
          <a:stretch/>
        </p:blipFill>
        <p:spPr>
          <a:xfrm>
            <a:off x="2286000" y="3657600"/>
            <a:ext cx="396252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45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Broadway"/>
              </a:rPr>
              <a:t>So what can we conclude about Sexual Reproduction?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1430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it produces d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diversity ensures survival of a species in an environment that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1000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Broadway"/>
              </a:rPr>
              <a:t>Sexual Reproduction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0" y="16765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oadway"/>
              </a:rPr>
              <a:t>Definition:</a:t>
            </a:r>
            <a:r>
              <a:rPr b="0" lang="en-US" sz="1400" spc="-1" strike="noStrike">
                <a:solidFill>
                  <a:srgbClr val="ffffff"/>
                </a:solidFill>
                <a:latin typeface="Broadway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roadwa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Process in which two cells, termed gametes, come together to form one </a:t>
            </a:r>
            <a:r>
              <a:rPr b="0" lang="en-US" sz="1800" spc="-1" strike="noStrike">
                <a:solidFill>
                  <a:srgbClr val="0066ff"/>
                </a:solidFill>
                <a:latin typeface="Broadway"/>
              </a:rPr>
              <a:t>fertilized</a:t>
            </a: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 cell that contains genetic information from both parental cells.   ucbiotech.org/glossary/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roadwa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Production of offspring whose genetic constitution is a mixture of that of two potentially genetically different gametes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evolution.unibe.ch/teaching/GlossarE.ht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914400" y="8380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Q:  How many of you have more 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 than one par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4" descr="man_woman_walking_holding_hands_lg_wm"/>
          <p:cNvPicPr/>
          <p:nvPr/>
        </p:nvPicPr>
        <p:blipFill>
          <a:blip r:embed="rId1"/>
          <a:stretch/>
        </p:blipFill>
        <p:spPr>
          <a:xfrm>
            <a:off x="2895480" y="411480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546" name="Text Box 5"/>
          <p:cNvSpPr/>
          <p:nvPr/>
        </p:nvSpPr>
        <p:spPr>
          <a:xfrm>
            <a:off x="457200" y="228600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road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then, everyone in this room is a product 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of sexual re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6"/>
          <p:cNvSpPr/>
          <p:nvPr/>
        </p:nvSpPr>
        <p:spPr>
          <a:xfrm>
            <a:off x="6242760" y="6362640"/>
            <a:ext cx="26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AnimationFactor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3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c1c1c"/>
                </a:solidFill>
                <a:uFillTx/>
                <a:latin typeface="Broadway"/>
              </a:rPr>
              <a:t>Characteristics of Sexual Reproduction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Broadway"/>
              </a:rPr>
              <a:t>Requires a female and male parent (i.e. it takes two to tan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Q:  Why do we need more than 1 par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1" name="Picture 6" descr="MCj03981910000[1]"/>
          <p:cNvPicPr/>
          <p:nvPr/>
        </p:nvPicPr>
        <p:blipFill>
          <a:blip r:embed="rId1"/>
          <a:stretch/>
        </p:blipFill>
        <p:spPr>
          <a:xfrm>
            <a:off x="1143000" y="3809880"/>
            <a:ext cx="1558800" cy="181476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8" descr="MCj03981910000[1]"/>
          <p:cNvPicPr/>
          <p:nvPr/>
        </p:nvPicPr>
        <p:blipFill>
          <a:blip r:embed="rId2"/>
          <a:stretch/>
        </p:blipFill>
        <p:spPr>
          <a:xfrm>
            <a:off x="4724280" y="3809880"/>
            <a:ext cx="1559160" cy="181476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9"/>
          <p:cNvSpPr/>
          <p:nvPr/>
        </p:nvSpPr>
        <p:spPr>
          <a:xfrm>
            <a:off x="533520" y="441972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oadway"/>
              </a:rPr>
              <a:t>½                   +      ½                 </a:t>
            </a:r>
            <a:r>
              <a:rPr b="1" lang="en-US" sz="3600" spc="-1" strike="noStrike">
                <a:solidFill>
                  <a:srgbClr val="000000"/>
                </a:solidFill>
                <a:latin typeface="Broadway"/>
              </a:rPr>
              <a:t>=  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aeaea"/>
                </a:solidFill>
                <a:uFillTx/>
                <a:latin typeface="Broadway"/>
              </a:rPr>
              <a:t>Characteristics of Sexual Reproductio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Requires a female and male par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Broadway"/>
              </a:rPr>
              <a:t>Each parent donates ½ of the Chromosomes/Genes/D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304920" y="2282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So, by what we’ve discussed, in sexual reproduction “mom” donates half, and “dad” donates half.  How does this happ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7" name="Picture 4" descr="Fertilization"/>
          <p:cNvPicPr/>
          <p:nvPr/>
        </p:nvPicPr>
        <p:blipFill>
          <a:blip r:embed="rId1"/>
          <a:stretch/>
        </p:blipFill>
        <p:spPr>
          <a:xfrm>
            <a:off x="2666880" y="2590920"/>
            <a:ext cx="32767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c1c1c"/>
                </a:solidFill>
                <a:uFillTx/>
                <a:latin typeface="Broadway"/>
              </a:rPr>
              <a:t>Characteristics of Sexual Reproduction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Requires a female and male 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Each parent donates ½ of the Chromosomes/Genes/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Broadway"/>
              </a:rPr>
              <a:t>Requires </a:t>
            </a:r>
            <a:r>
              <a:rPr b="0" i="1" lang="en-US" sz="3200" spc="-1" strike="noStrike" u="sng">
                <a:solidFill>
                  <a:srgbClr val="0066ff"/>
                </a:solidFill>
                <a:uFillTx/>
                <a:latin typeface="Broadway"/>
              </a:rPr>
              <a:t>fertilization</a:t>
            </a:r>
            <a:r>
              <a:rPr b="0" lang="en-US" sz="3200" spc="-1" strike="noStrike">
                <a:solidFill>
                  <a:srgbClr val="0066ff"/>
                </a:solidFill>
                <a:latin typeface="Broadway"/>
              </a:rPr>
              <a:t> - the combining of game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Now, nine months later, you come out kicking and screaming (and dancing).  To which parent do you look exactly alike?  How about your siblings?  Do you look exactly alike th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7" descr="dancing baby 2"/>
          <p:cNvPicPr/>
          <p:nvPr/>
        </p:nvPicPr>
        <p:blipFill>
          <a:blip r:embed="rId1"/>
          <a:stretch/>
        </p:blipFill>
        <p:spPr>
          <a:xfrm>
            <a:off x="685800" y="2666880"/>
            <a:ext cx="2095560" cy="1905120"/>
          </a:xfrm>
          <a:prstGeom prst="rect">
            <a:avLst/>
          </a:prstGeom>
          <a:ln w="0">
            <a:noFill/>
          </a:ln>
        </p:spPr>
      </p:pic>
      <p:pic>
        <p:nvPicPr>
          <p:cNvPr id="562" name="disco baby music.mid" descr=""/>
          <p:cNvPicPr/>
          <p:nvPr/>
        </p:nvPicPr>
        <p:blipFill>
          <a:blip r:embed="rId2"/>
          <a:stretch/>
        </p:blipFill>
        <p:spPr>
          <a:xfrm>
            <a:off x="81532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9" descr="disco baby"/>
          <p:cNvPicPr/>
          <p:nvPr/>
        </p:nvPicPr>
        <p:blipFill>
          <a:blip r:embed="rId3"/>
          <a:stretch/>
        </p:blipFill>
        <p:spPr>
          <a:xfrm>
            <a:off x="6019920" y="2514600"/>
            <a:ext cx="2133360" cy="1706400"/>
          </a:xfrm>
          <a:prstGeom prst="rect">
            <a:avLst/>
          </a:prstGeom>
          <a:ln w="0">
            <a:noFill/>
          </a:ln>
        </p:spPr>
      </p:pic>
      <p:sp>
        <p:nvSpPr>
          <p:cNvPr id="564" name="Text Box 10"/>
          <p:cNvSpPr/>
          <p:nvPr/>
        </p:nvSpPr>
        <p:spPr>
          <a:xfrm>
            <a:off x="898560" y="4305240"/>
            <a:ext cx="759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Take a moment to write down one trait that is different and in what way 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is differen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11"/>
          <p:cNvSpPr/>
          <p:nvPr/>
        </p:nvSpPr>
        <p:spPr>
          <a:xfrm>
            <a:off x="228600" y="636264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*Dancing baby graphics and music courtesy of MegaBaby.com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1" fill="hold"/>
                                        <p:tgtEl>
                                          <p:spTgt spid="5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8:07:54Z</dcterms:created>
  <dc:creator>John Bojnowski</dc:creator>
  <dc:description/>
  <dc:language>en-US</dc:language>
  <cp:lastModifiedBy>RomaK</cp:lastModifiedBy>
  <dcterms:modified xsi:type="dcterms:W3CDTF">2015-09-04T11:08:30Z</dcterms:modified>
  <cp:revision>14</cp:revision>
  <dc:subject/>
  <dc:title>Sexual Reproduction</dc:title>
</cp:coreProperties>
</file>