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9681-197A-4AF0-AF21-28AB4EE950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9D6-6E6E-483C-989F-A59B2249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487-C4E1-4E2D-B2DA-B29EE4B2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D9A-58AC-4525-B389-0A9BBF7D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DD5-7EB4-4901-826D-9353F8A7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2CA6-FA98-4D6A-8BE5-1616F884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6162-21A5-436E-A297-A387F07A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BA5E-D724-430C-959B-DCA468E7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2641-41B4-4764-9A10-77FE05B3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734C-5EC2-4629-9707-AF37FF1A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BE00-66A9-4A61-8FF6-025068EB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9E73-DDE6-491A-A5B1-AAC71213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EE4-B905-4641-8BD1-2455E1DA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26BD-2A49-4973-BD71-4723CC09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C669-DB54-43B0-95E3-D1C5144B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8CE9-8188-489C-B6A7-FEEEE6A7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746F-58AE-4464-9729-137FCBC4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45D7-0B12-40A0-8708-1A4873BA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FFC-AFF5-43FD-99D5-274619EA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F87-8615-4208-9ABF-0C7AE5D2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CE4-8FBD-477B-9570-B323CA44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561-B45D-4397-9325-77BEC446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C36-C45B-4028-AB29-A027C949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CD2-B92F-40BD-8830-2DF26410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F6C-991F-44B7-88C4-A12ABAC1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D640-DD8D-448B-9679-F95F3DDF9BC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645F-EF71-49C6-A951-25D06ED074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23800" y="1359000"/>
            <a:ext cx="8315280" cy="2334960"/>
          </a:xfrm>
          <a:prstGeom prst="rect">
            <a:avLst/>
          </a:prstGeom>
          <a:ln w="0">
            <a:noFill/>
          </a:ln>
        </p:spPr>
      </p:pic>
      <p:pic>
        <p:nvPicPr>
          <p:cNvPr id="103" name="Subtitle 2" descr=""/>
          <p:cNvPicPr/>
          <p:nvPr/>
        </p:nvPicPr>
        <p:blipFill>
          <a:blip r:embed="rId2"/>
          <a:stretch/>
        </p:blipFill>
        <p:spPr>
          <a:xfrm>
            <a:off x="463680" y="3139920"/>
            <a:ext cx="813744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Spiders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have two body parts,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bdom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do not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Placeholder 4" descr="spider 2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Spiders are not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though they are small, spiders are not insect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fly, and spiders can’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Placeholder 5" descr="spider 3.jpg"/>
          <p:cNvPicPr/>
          <p:nvPr/>
        </p:nvPicPr>
        <p:blipFill>
          <a:blip r:embed="rId1"/>
          <a:srcRect l="0" t="18096" r="0" b="1809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ns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are many different kinds of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Placeholder 6" descr="insects2.jpg"/>
          <p:cNvPicPr/>
          <p:nvPr/>
        </p:nvPicPr>
        <p:blipFill>
          <a:blip r:embed="rId1"/>
          <a:srcRect l="20629" t="0" r="20629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ts are one of the most common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Placeholder 4" descr="ant 3.jpg"/>
          <p:cNvPicPr/>
          <p:nvPr/>
        </p:nvPicPr>
        <p:blipFill>
          <a:blip r:embed="rId1"/>
          <a:srcRect l="0" t="3050" r="0" b="305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Ants are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have three body parts and six le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do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Placeholder 4" descr="ants 2.jpg"/>
          <p:cNvPicPr/>
          <p:nvPr/>
        </p:nvPicPr>
        <p:blipFill>
          <a:blip r:embed="rId1"/>
          <a:stretch/>
        </p:blipFill>
        <p:spPr>
          <a:xfrm>
            <a:off x="2975040" y="63324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54:27Z</dcterms:created>
  <dc:creator>Ector County ISD Employee</dc:creator>
  <dc:description/>
  <dc:language>en-US</dc:language>
  <cp:lastModifiedBy>RomaK</cp:lastModifiedBy>
  <dcterms:modified xsi:type="dcterms:W3CDTF">2015-09-04T10:53:17Z</dcterms:modified>
  <cp:revision>7</cp:revision>
  <dc:subject/>
  <dc:title>Spiders and Insects</dc:title>
</cp:coreProperties>
</file>