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69BC-D784-474E-9319-CC81C99701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t 2: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eochemistry – The Structures of Molecu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we have seen molecules represented in 2-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lecules are actually 3 dimens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dict 3 dimensional molecular shapes we use VSEPR theory (Valence-Shell Electron-Pair Repul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electrostatic repulsion of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repulsion force is strongest between two lone pairs and the weakest between two bonded pairs, and the repulsion between a lone pair and a bonded pair is inter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pply the VSEPR theory to a central atom that has an octet of electrons in its valence shell, and there are three categories of shapes; linear, trigonal planar, and 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VSEPR, an electron group is a bond (single or multiple) or a lone p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when a central atom has two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is linear because the electron groups try to arrange themselves as far apart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 angle between the electron groups is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bonded to two other atoms by two double bonds or a combination of a single bond and a tripl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gonal Plan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three electron groups has a trigonal plan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 between the electron groups is 120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either bonded to three atoms(trigonal planar), or two atoms and a lone pair(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four electron groups has a tetrahedral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s between the electron groups is 109.5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can be bonded to four atoms (tetrahedral), three atoms and a lone pair (trigonal pyramidal), or two atoms and two lone pairs (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o Predicting Molecular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primary LDD of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otal number of electron groups around the central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ypes of electron groups (bonding pairs or lone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which shape will accommodate the combination of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 is a measure of the relative ability of an element’s atoms to attract the shared electrons in a chemical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lectronegativities mean a greater attraction for th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orine is the highest with a value of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and 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in group elements, electronegativity tends to increase with the group number (left to right on the periodic 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noble gases do not have electronegativities, why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ies also increase as you move vertically up a group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period in the periodic table, as you move right the size of the atom de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this trend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number of protons increases, the force attracting the electrons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s are pulled closer to the nucleus of the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of electronegativity between two bonding atoms can be measured by subtracting the smaller number from the larger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in the two electronegativities determines the nature of th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that are sharing electrons UNEQUALLY between two atoms are called 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toms are identical (equal electronegativity), the bond will not be polar. This is called NON-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 positive “pole” and a negative “pole” so they are also referred to as “bon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n electronegativity difference between 0 and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have an electronegativity difference between 1.7 and 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molecules that contain polar bonds necessarily po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H2O and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if a molecule is polar we need to look at the overall direction of 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in polarity arrows on your molecule and determine if the molecules are polar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form from the electrostatic attraction between oppositely charged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become ionic by losing or gaining electrons from the atom it is bonding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n atom will lose its electrons to fill its outer level if its valence level is less than half full, as it is with 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Exchange and Ionic Bond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between atoms are formed through the sharing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form between two non-metal atoms through sharing of pairs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have a “desire” to have their outer energy levels filled (Octet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 can be represented with Lewis Dot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 form bonds with other metals, but it is neither covalent or ion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not share electrons to form an octet of electrons around each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8 sodium atoms all trying to share the same 8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etal atoms do not form covalent or ionic bonds with each other, there must be relatively strong attractive forces holding the atoms together or else the metals would be in a gaseous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etallic bonding, the valence electrons are delocalized, which means they are free to move from one atom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electrons are free to move, all of the atoms share all of the valenc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lectrostatic force between the positively charged metal ions and the negative electrons that make the metallic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one metal bonding to one non-metal, ionic substances have their ions packed together in a crystal lat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ystals can also be represented in a ball and stick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icks represent the attractive forces between the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ll the attractions are equal, there are no pairs of ions to be identified as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formula only represents the ratio of the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ratio of ions in the crystal is called a formula unit, not a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of the macroscopic crystals is determined by the way their ions pack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set of ions in a crystal needed to make the pattern is called a unit c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ble Salt              Sucrose        Uncut Diamond</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of each ion influences the pattern of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fluence is the relative charge of the ions, and therefore the ratio of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stal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beautiful crystal formations can be found in nature as well as in the labor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show the sharing of electrons between atoms and where the bonds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share electrons to fill their outer energy levels (8 electrons in their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ception is hydrogen (2 electrons in its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ionic crystals, but they are held together with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le elements can form an array of different 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Carbon forms graphite, diamond, nanotubes (pg.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ifferent network solid of the same element just has different arrangement of the a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ontain two different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ilicon Dioxide (sand, quar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exist between atoms within a molecular comp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valent bonds are called intra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holding entire molecules together are called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s between 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 have a positive pole and a negative pole so they are calle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wo dipoles come close to each other, the positive pole of one is attracted to the negative pole of the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olecule can be attracted to four or more other polar molecules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Dipole-Dipole At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s strong as ionic attraction, but can be strong enough to stabilize a solid crys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Table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dipole-dipole attraction that occurs between hydrogen and highly electronegative atoms such as oxygen, nitrogen, or fluor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nucleus of the hydrogen atom is attracted to the slightly negative charge on the other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stronger than other 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for Hydrogen and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ow shows the atoms before they are bo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ow shows the sharing of electrons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ow has circles around the electrons  to show those that belong to each atom. Where the circles overlap  represents a covalent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s an important factor that influences the structure and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xygen atom can be hydrogen bonded to as many as 6 other hydrogen atoms in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in 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water molecule is hydrogen bonded to four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molecules in ice are farther apart than in liquid water, therefore ice is less dense than liqui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are the strongest in the form shown in the next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que Properties 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handout on the unique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ion forces act between all molecules, but in non-polar molecules they are the only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permanent dipoles in non-polar molecules, it is possible to induce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also spontaneously form temporary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in constant, rapid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brief moment the electron distribution can be un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form a positive pole and a negative pole in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orary dipole in the molecule can induce a temporary dipole in the next molecule, like the balloon and the w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disperses through the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s Affecting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factors affect LD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electrons = increased probability of a temporary dipole for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shapes have greater 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s and Properties of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a substance (solid, liquid or gas) depends on the strength of the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icles gain kinetic energy (heat) they break their intermolecular bonds and change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and triple bonds can form between atoms in order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ccurs when two atoms share more than one pair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of 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YI – hydrogen bonds in liquid water break and reform 100 000 000 000 (1011) times every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ionic substances and metals are about the same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molecular substances are much l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at tell us about th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are much stronger if the ions have a large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onic compounds that have ions with large charges will have higher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molecular compounds,  dipoles that form hydrogen bonds are the stron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 are weaker than hydrogen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that have London dispersion forces are the weak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hydrogen bonded substances have the highest melting/boiling points, dipole-dipole have lower melting/boiling points, and non-polar substances have the lowest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al Properties of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malleable because of the nature of metallic bonds (positive ions in a sea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are brittle because if a layer of the crystal is shifted down one position,  like ions will be aligned and rep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ar substances are usually soft and easily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of a substance to transfer electrical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to occur, charged particles (ions or electrons) must be able to move fre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good conductors because their electrons are free to move throughout the metallic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olids do not conduct electric current because the ions are held together in a rigid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that are dissolved in water are good conductors because the charged ions are free to move in th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an conduct electricity because of delocalized electrons (grap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compounds cannot conduct electricity in pure form or dissolv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ew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g. 1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4,6-14, 16, 19, 21, 22, 25-29, 31, 34-39, 41, 43, 47, 48, 51, 57,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debenham@cbe.ab.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lecules can have more than one possible Lewis structure, usually when one single bond and one double bond can be exchanged within the rules of drawing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SO2 (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iagrams can be converted to structural diagrams for conven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 use lines to represent a bond, or a pair of electrons, but it does not show lone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 Work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ules for drawing Lewis dot diagrams, complete the worksheet (LDD and structu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tra practice, try the Lewis Structures Thought L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7390A-1576-4435-986B-ABC4F9D6C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6545F-248A-4DFA-B420-13C3FE8EC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8279D-5D53-431B-A721-1D6CE1006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EE35A-D56B-4563-A510-E8D710EDD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AE45F-E5A5-411B-AB79-9220F0E7A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0A28B-D123-4859-9EFA-AD4A17203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6B12F-ECC8-4961-B141-5133EF618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C063B-0C34-444D-9A34-AE79D6E3C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56A43-7ED1-486D-BA21-3C0A26D9B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2A1A-0C61-4039-95AF-C5FC871FC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7E9C6-67B9-465F-BB9E-AD7416A67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CDE5C-9567-4D7D-9C9C-259351B82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6443-35FB-40B9-83A8-1ED53D1824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t 2: Bond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reochemistry – The Structures of Molecular Compounds</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far we have seen molecules represented in 2-D</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ever, molecules are actually 3 dimensiona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predict 3 dimensional molecular shapes we use VSEPR theory (Valence-Shell Electron-Pair Repulsion)</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sed on the electrostatic repulsion of electro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e that the repulsion force is strongest between two lone pairs and the weakest between two bonded pairs, and the repulsion between a lone pair and a bonded pair is intermedi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 apply the VSEPR theory to a central atom that has an octet of electrons in its valence shell, and there are three categories of shapes; linear, trigonal planar, and tetrahed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VSEPR, an electron group is a bond (single or multiple) or a lone pa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near</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rms when a central atom has two electron groups</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shape is linear because the electron groups try to arrange themselves as far apart as possible</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bond angle between the electron groups is 180</a:t>
            </a:r>
            <a:r>
              <a:rPr b="0" lang="en-US" sz="3000" spc="-1" strike="noStrike" baseline="30000">
                <a:solidFill>
                  <a:srgbClr val="ffffff"/>
                </a:solidFill>
                <a:latin typeface="Calibri"/>
              </a:rPr>
              <a:t>0</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central atom is bonded to two other atoms by two double bonds or a combination of a single bond and a triple bon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igonal Planar</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three electron groups has a trigonal planar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 between the electron groups is 120</a:t>
            </a:r>
            <a:r>
              <a:rPr b="0" lang="en-US" sz="3200" spc="-1" strike="noStrike" baseline="30000">
                <a:solidFill>
                  <a:srgbClr val="ffffff"/>
                </a:solidFill>
                <a:latin typeface="Calibri"/>
              </a:rPr>
              <a:t>o</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is either bonded to three atoms(trigonal planar), or two atoms and a lone pair(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trahedral</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four electron groups has a tetrahedral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s between the electron groups is 109.5</a:t>
            </a:r>
            <a:r>
              <a:rPr b="0" lang="en-US" sz="3200" spc="-1" strike="noStrike" baseline="30000">
                <a:solidFill>
                  <a:srgbClr val="ffffff"/>
                </a:solidFill>
                <a:latin typeface="Calibri"/>
              </a:rPr>
              <a:t>o</a:t>
            </a:r>
            <a:r>
              <a:rPr b="0" lang="en-US" sz="3200" spc="-1" strike="noStrike">
                <a:solidFill>
                  <a:srgbClr val="ffffff"/>
                </a:solidFill>
                <a:latin typeface="Calibri"/>
              </a:rPr>
              <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can be bonded to four atoms (tetrahedral), three atoms and a lone pair (trigonal pyramidal), or two atoms and two lone pairs (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ormation Summary</a:t>
            </a:r>
            <a:endParaRPr b="0" lang="en-US" sz="4400" spc="-1" strike="noStrike">
              <a:solidFill>
                <a:srgbClr val="000000"/>
              </a:solidFill>
              <a:latin typeface="Calibri"/>
            </a:endParaRPr>
          </a:p>
        </p:txBody>
      </p:sp>
      <p:graphicFrame>
        <p:nvGraphicFramePr>
          <p:cNvPr id="84" name=""/>
          <p:cNvGraphicFramePr/>
          <p:nvPr/>
        </p:nvGraphicFramePr>
        <p:xfrm>
          <a:off x="457200" y="1600200"/>
          <a:ext cx="8229600" cy="3139920"/>
        </p:xfrm>
        <a:graphic>
          <a:graphicData uri="http://schemas.openxmlformats.org/drawingml/2006/table">
            <a:tbl>
              <a:tblPr/>
              <a:tblGrid>
                <a:gridCol w="2057400"/>
                <a:gridCol w="2057400"/>
                <a:gridCol w="2057400"/>
                <a:gridCol w="2057400"/>
              </a:tblGrid>
              <a:tr h="914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lone electron pair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bond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hape of the molecu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nd angle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hed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gonal Pla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yramid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ps to Predicting Molecular Shapes</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a primary LDD of the molecule</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otal number of electron groups around the central atom</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ypes of electron groups (bonding pairs or lone pairs)</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which shape will accommodate the combination of electron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ctronegativity</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 is a measure of the relative ability of an element’s atoms to attract the shared electrons in a chemical bo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electronegativities mean a greater attraction for th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uorine is the highest with a value of 4.0</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Picture 4" descr=""/>
          <p:cNvPicPr/>
          <p:nvPr/>
        </p:nvPicPr>
        <p:blipFill>
          <a:blip r:embed="rId1"/>
          <a:stretch/>
        </p:blipFill>
        <p:spPr>
          <a:xfrm>
            <a:off x="0" y="3808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2" name="Picture 4" descr=""/>
          <p:cNvPicPr/>
          <p:nvPr/>
        </p:nvPicPr>
        <p:blipFill>
          <a:blip r:embed="rId1"/>
          <a:stretch/>
        </p:blipFill>
        <p:spPr>
          <a:xfrm>
            <a:off x="304920" y="304920"/>
            <a:ext cx="84582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and Metallic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Shape</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Crystal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twork Solid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ectronegativity</a:t>
            </a:r>
            <a:br>
              <a:rPr sz="4000"/>
            </a:b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main group elements, electronegativity tends to increase with the group number (left to right on the periodic tab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ice the noble gases do not have electronegativities, why is tha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ies also increase as you move vertically up a group numbe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 Size</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For any period in the periodic table, as you move right the size of the atom de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Why does this trend exis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a:t>
            </a:r>
            <a:r>
              <a:rPr b="0" lang="en-US" sz="4400" spc="-1" strike="noStrike">
                <a:solidFill>
                  <a:srgbClr val="000000"/>
                </a:solidFill>
                <a:latin typeface="Calibri"/>
              </a:rPr>
              <a:t> </a:t>
            </a:r>
            <a:r>
              <a:rPr b="0" lang="en-US" sz="4400" spc="-1" strike="noStrike">
                <a:solidFill>
                  <a:srgbClr val="ffffff"/>
                </a:solidFill>
                <a:latin typeface="Calibri"/>
              </a:rPr>
              <a:t>size</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s the number of protons increases, the force attracting the electrons in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electrons are pulled closer to the nucleus of the at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2"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of electronegativity between two bonding atoms can be measured by subtracting the </a:t>
            </a:r>
            <a:r>
              <a:rPr b="0" lang="en-US" sz="3200" spc="-1" strike="noStrike" u="sng">
                <a:solidFill>
                  <a:srgbClr val="ffffff"/>
                </a:solidFill>
                <a:uFillTx/>
                <a:latin typeface="Calibri"/>
              </a:rPr>
              <a:t>smaller</a:t>
            </a:r>
            <a:r>
              <a:rPr b="0" lang="en-US" sz="3200" spc="-1" strike="noStrike">
                <a:solidFill>
                  <a:srgbClr val="ffffff"/>
                </a:solidFill>
                <a:latin typeface="Calibri"/>
              </a:rPr>
              <a:t> number from the </a:t>
            </a:r>
            <a:r>
              <a:rPr b="0" lang="en-US" sz="3200" spc="-1" strike="noStrike" u="sng">
                <a:solidFill>
                  <a:srgbClr val="ffffff"/>
                </a:solidFill>
                <a:uFillTx/>
                <a:latin typeface="Calibri"/>
              </a:rPr>
              <a:t>larger</a:t>
            </a:r>
            <a:r>
              <a:rPr b="0" lang="en-US" sz="3200" spc="-1" strike="noStrike">
                <a:solidFill>
                  <a:srgbClr val="ffffff"/>
                </a:solidFill>
                <a:latin typeface="Calibri"/>
              </a:rPr>
              <a:t> num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in the two electronegativities determines the nature of the bond</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6" name="Rectangle 3"/>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that are sharing electrons </a:t>
            </a:r>
            <a:r>
              <a:rPr b="0" lang="en-US" sz="3200" spc="-1" strike="noStrike">
                <a:solidFill>
                  <a:srgbClr val="ffff00"/>
                </a:solidFill>
                <a:latin typeface="Calibri"/>
              </a:rPr>
              <a:t>UNEQUALLY</a:t>
            </a:r>
            <a:r>
              <a:rPr b="0" lang="en-US" sz="3200" spc="-1" strike="noStrike">
                <a:solidFill>
                  <a:srgbClr val="ffffff"/>
                </a:solidFill>
                <a:latin typeface="Calibri"/>
              </a:rPr>
              <a:t> between two atoms are called </a:t>
            </a:r>
            <a:r>
              <a:rPr b="0" lang="en-US" sz="3200" spc="-1" strike="noStrike">
                <a:solidFill>
                  <a:srgbClr val="ffff00"/>
                </a:solidFill>
                <a:latin typeface="Calibri"/>
              </a:rPr>
              <a:t>POLAR COVALENT BON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the atoms are identical (equal electronegativity), the bond will not be polar. This is called </a:t>
            </a:r>
            <a:r>
              <a:rPr b="0" lang="en-US" sz="3200" spc="-1" strike="noStrike">
                <a:solidFill>
                  <a:srgbClr val="ffff00"/>
                </a:solidFill>
                <a:latin typeface="Calibri"/>
              </a:rPr>
              <a:t>NON-POLAR COVALENT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 positive “pole” and a negative “pole” so they are also referred to as “bond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n electronegativity difference between 0 and 1.7</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Ionic bonds have an electronegativity difference between 1.7 and 3.3</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Picture 4" descr=""/>
          <p:cNvPicPr/>
          <p:nvPr/>
        </p:nvPicPr>
        <p:blipFill>
          <a:blip r:embed="rId1"/>
          <a:stretch/>
        </p:blipFill>
        <p:spPr>
          <a:xfrm>
            <a:off x="228600" y="1704960"/>
            <a:ext cx="8915400" cy="420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 Molecules</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e molecules that contain polar bonds necessarily pola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s of H</a:t>
            </a:r>
            <a:r>
              <a:rPr b="0" lang="en-US" sz="3200" spc="-1" strike="noStrike" baseline="-25000">
                <a:solidFill>
                  <a:srgbClr val="ffffff"/>
                </a:solidFill>
                <a:latin typeface="Calibri"/>
              </a:rPr>
              <a:t>2</a:t>
            </a:r>
            <a:r>
              <a:rPr b="0" lang="en-US" sz="3200" spc="-1" strike="noStrike">
                <a:solidFill>
                  <a:srgbClr val="ffffff"/>
                </a:solidFill>
                <a:latin typeface="Calibri"/>
              </a:rPr>
              <a:t>O and CO</a:t>
            </a:r>
            <a:r>
              <a:rPr b="0" lang="en-US" sz="3200" spc="-1" strike="noStrike" baseline="-25000">
                <a:solidFill>
                  <a:srgbClr val="ffffff"/>
                </a:solidFill>
                <a:latin typeface="Calibri"/>
              </a:rPr>
              <a:t>2</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determine if a molecule is polar we need to look at the overall direction of polarit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in polarity arrows on your molecule and determine if the molecules are polar or n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Bond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form from the electrostatic attraction between oppositely charged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become ionic by losing or gaining electrons from the atom it is bonding with</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member that an atom will lose its electrons to fill its outer level if its valence level is less than half full, as it is with 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ron Exchange and Ionic Bond Formation</a:t>
            </a:r>
            <a:endParaRPr b="0" lang="en-US" sz="4000" spc="-1" strike="noStrike">
              <a:solidFill>
                <a:srgbClr val="000000"/>
              </a:solidFill>
              <a:latin typeface="Calibri"/>
            </a:endParaRPr>
          </a:p>
        </p:txBody>
      </p:sp>
      <p:pic>
        <p:nvPicPr>
          <p:cNvPr id="116" name="Picture 2" descr=""/>
          <p:cNvPicPr/>
          <p:nvPr/>
        </p:nvPicPr>
        <p:blipFill>
          <a:blip r:embed="rId1"/>
          <a:stretch/>
        </p:blipFill>
        <p:spPr>
          <a:xfrm>
            <a:off x="1600200" y="2281320"/>
            <a:ext cx="5943600" cy="316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valent Bonding</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between atoms are formed through the sharing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form between two non-metal atoms through sharing of pairs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have a “desire” to have their outer energy levels filled (Octet R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 can be represented with Lewis Dot Dia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allic Bonding</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 form bonds with other metals, but it is neither covalent or ionic</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not share electrons to form an octet of electrons around each atom</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magine 8 sodium atoms all trying to share the same 8 electr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
          <p:cNvSpPr txBox="1"/>
          <p:nvPr/>
        </p:nvSpPr>
        <p:spPr>
          <a:xfrm>
            <a:off x="457200" y="1676520"/>
            <a:ext cx="8229600" cy="4449600"/>
          </a:xfrm>
          <a:prstGeom prst="rect">
            <a:avLst/>
          </a:prstGeom>
          <a:noFill/>
          <a:ln w="0">
            <a:noFill/>
          </a:ln>
        </p:spPr>
        <p:txBody>
          <a:bodyPr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though metal atoms do not form covalent or ionic bonds with each other, there must be relatively strong attractive forces holding the atoms together or else the metals would be in a gaseous st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metallic bonding, the valence electrons are delocalized, which means they are free to move from one atom to the nex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the electrons are free to move, all of the atoms share all of the valenc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the electrostatic force between the positively charged metal ions and the negative electrons that make the metallic b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rysta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her than one metal bonding to one non-metal, ionic substances have their ions packed together in a crystal latti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rystals can also be represented in a ball and stick mod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2" descr=""/>
          <p:cNvPicPr/>
          <p:nvPr/>
        </p:nvPicPr>
        <p:blipFill>
          <a:blip r:embed="rId2"/>
          <a:stretch/>
        </p:blipFill>
        <p:spPr>
          <a:xfrm>
            <a:off x="609480" y="3124080"/>
            <a:ext cx="2009880" cy="676440"/>
          </a:xfrm>
          <a:prstGeom prst="rect">
            <a:avLst/>
          </a:prstGeom>
          <a:ln w="0">
            <a:noFill/>
          </a:ln>
        </p:spPr>
      </p:pic>
      <p:pic>
        <p:nvPicPr>
          <p:cNvPr id="128" name="Picture 3" descr=""/>
          <p:cNvPicPr/>
          <p:nvPr/>
        </p:nvPicPr>
        <p:blipFill>
          <a:blip r:embed="rId3"/>
          <a:stretch/>
        </p:blipFill>
        <p:spPr>
          <a:xfrm>
            <a:off x="3429000" y="2514600"/>
            <a:ext cx="2104920" cy="2162160"/>
          </a:xfrm>
          <a:prstGeom prst="rect">
            <a:avLst/>
          </a:prstGeom>
          <a:ln w="0">
            <a:noFill/>
          </a:ln>
        </p:spPr>
      </p:pic>
      <p:pic>
        <p:nvPicPr>
          <p:cNvPr id="129" name="Picture 4" descr=""/>
          <p:cNvPicPr/>
          <p:nvPr/>
        </p:nvPicPr>
        <p:blipFill>
          <a:blip r:embed="rId4"/>
          <a:stretch/>
        </p:blipFill>
        <p:spPr>
          <a:xfrm>
            <a:off x="6172200" y="2514600"/>
            <a:ext cx="2124000" cy="194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icks represent the attractive forces between the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ce all the attractions are equal, there are no pairs of ions to be identified as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the formula only represents the </a:t>
            </a:r>
            <a:r>
              <a:rPr b="0" i="1" lang="en-US" sz="3200" spc="-1" strike="noStrike">
                <a:solidFill>
                  <a:srgbClr val="ffff00"/>
                </a:solidFill>
                <a:latin typeface="Calibri"/>
              </a:rPr>
              <a:t>ratio </a:t>
            </a:r>
            <a:r>
              <a:rPr b="0" lang="en-US" sz="3200" spc="-1" strike="noStrike">
                <a:solidFill>
                  <a:srgbClr val="ffffff"/>
                </a:solidFill>
                <a:latin typeface="Calibri"/>
              </a:rPr>
              <a:t>of the ions in the crys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ratio of ions in the crystal is called a formula unit, not a molec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ape of the macroscopic crystals is determined by the way their ions pack togeth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set of ions in a crystal needed to make the pattern is called a </a:t>
            </a:r>
            <a:r>
              <a:rPr b="0" i="1" lang="en-US" sz="3200" spc="-1" strike="noStrike">
                <a:solidFill>
                  <a:srgbClr val="ffc000"/>
                </a:solidFill>
                <a:latin typeface="Calibri"/>
              </a:rPr>
              <a:t>unit c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able Salt              Sucrose        Uncut Diamond</a:t>
            </a: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838080" y="2057400"/>
            <a:ext cx="2592360" cy="2362320"/>
          </a:xfrm>
          <a:prstGeom prst="rect">
            <a:avLst/>
          </a:prstGeom>
          <a:ln w="0">
            <a:noFill/>
          </a:ln>
        </p:spPr>
      </p:pic>
      <p:pic>
        <p:nvPicPr>
          <p:cNvPr id="137" name="Picture 3" descr=""/>
          <p:cNvPicPr/>
          <p:nvPr/>
        </p:nvPicPr>
        <p:blipFill>
          <a:blip r:embed="rId2"/>
          <a:stretch/>
        </p:blipFill>
        <p:spPr>
          <a:xfrm>
            <a:off x="3657600" y="2133720"/>
            <a:ext cx="2362320" cy="2286000"/>
          </a:xfrm>
          <a:prstGeom prst="rect">
            <a:avLst/>
          </a:prstGeom>
          <a:ln w="0">
            <a:noFill/>
          </a:ln>
        </p:spPr>
      </p:pic>
      <p:pic>
        <p:nvPicPr>
          <p:cNvPr id="138" name="Picture 4" descr=""/>
          <p:cNvPicPr/>
          <p:nvPr/>
        </p:nvPicPr>
        <p:blipFill>
          <a:blip r:embed="rId3"/>
          <a:stretch/>
        </p:blipFill>
        <p:spPr>
          <a:xfrm>
            <a:off x="6172200" y="2057400"/>
            <a:ext cx="234324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ize of each ion influences the pattern of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other influence is the relative charge of the ions, and therefore the ratio of ions in the cryst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ystal formation</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beautiful crystal formations can be found in nature as well as in the labora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ot Diagrams show the sharing of electrons between atoms and where the bonds form</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share electrons to fill their outer energy levels (8 electrons in their outer shel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exception is hydrogen (2 electrons in its outer 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4" name="Picture 2" descr=""/>
          <p:cNvPicPr/>
          <p:nvPr/>
        </p:nvPicPr>
        <p:blipFill>
          <a:blip r:embed="rId1"/>
          <a:stretch/>
        </p:blipFill>
        <p:spPr>
          <a:xfrm>
            <a:off x="304920" y="380880"/>
            <a:ext cx="3781440" cy="4705560"/>
          </a:xfrm>
          <a:prstGeom prst="rect">
            <a:avLst/>
          </a:prstGeom>
          <a:ln w="0">
            <a:noFill/>
          </a:ln>
        </p:spPr>
      </p:pic>
      <p:pic>
        <p:nvPicPr>
          <p:cNvPr id="145" name="Picture 3" descr=""/>
          <p:cNvPicPr/>
          <p:nvPr/>
        </p:nvPicPr>
        <p:blipFill>
          <a:blip r:embed="rId2"/>
          <a:stretch/>
        </p:blipFill>
        <p:spPr>
          <a:xfrm>
            <a:off x="4419720" y="380880"/>
            <a:ext cx="3963960" cy="2971800"/>
          </a:xfrm>
          <a:prstGeom prst="rect">
            <a:avLst/>
          </a:prstGeom>
          <a:ln w="0">
            <a:noFill/>
          </a:ln>
        </p:spPr>
      </p:pic>
      <p:pic>
        <p:nvPicPr>
          <p:cNvPr id="146" name="Picture 4" descr=""/>
          <p:cNvPicPr/>
          <p:nvPr/>
        </p:nvPicPr>
        <p:blipFill>
          <a:blip r:embed="rId3"/>
          <a:stretch/>
        </p:blipFill>
        <p:spPr>
          <a:xfrm>
            <a:off x="4572000" y="3429000"/>
            <a:ext cx="3198960" cy="3278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ike ionic crystals, but they are held together with covalent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gle elements can form an array of different network soli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Carbon forms graphite, diamond, nanotubes (pg. 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different network solid of the same element just has different arrangement of the atom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ontain two different elem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Silicon Dioxide (sand, quart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molecular Forces</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exist between atoms within a molecular compou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se covalent bonds are called </a:t>
            </a:r>
            <a:r>
              <a:rPr b="0" lang="en-US" sz="3200" spc="-1" strike="noStrike">
                <a:solidFill>
                  <a:srgbClr val="ffff00"/>
                </a:solidFill>
                <a:latin typeface="Calibri"/>
              </a:rPr>
              <a:t>intra</a:t>
            </a:r>
            <a:r>
              <a:rPr b="0" lang="en-US" sz="3200" spc="-1" strike="noStrike">
                <a:solidFill>
                  <a:srgbClr val="ffffff"/>
                </a:solidFill>
                <a:latin typeface="Calibri"/>
              </a:rPr>
              <a:t>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ces holding entire molecules together are called </a:t>
            </a:r>
            <a:r>
              <a:rPr b="0" lang="en-US" sz="3200" spc="-1" strike="noStrike">
                <a:solidFill>
                  <a:srgbClr val="ffff00"/>
                </a:solidFill>
                <a:latin typeface="Calibri"/>
              </a:rPr>
              <a:t>inter</a:t>
            </a:r>
            <a:r>
              <a:rPr b="0" lang="en-US" sz="3200" spc="-1" strike="noStrike">
                <a:solidFill>
                  <a:srgbClr val="ffffff"/>
                </a:solidFill>
                <a:latin typeface="Calibri"/>
              </a:rPr>
              <a:t>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Force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ccurs between pola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 molecules have a positive pole and a negative pole so they are called </a:t>
            </a:r>
            <a:r>
              <a:rPr b="0" i="1" lang="en-US" sz="3200" spc="-1" strike="noStrike">
                <a:solidFill>
                  <a:srgbClr val="ffff00"/>
                </a:solidFill>
                <a:latin typeface="Calibri"/>
              </a:rPr>
              <a:t>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two dipoles come close to each other, the positive pole of one is attracted to the negative pole of the o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Attractions</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2743200" y="1600200"/>
            <a:ext cx="368604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molecule can be attracted to four or more other polar molecules at the same tim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is called </a:t>
            </a:r>
            <a:r>
              <a:rPr b="0" i="1" lang="en-US" sz="3200" spc="-1" strike="noStrike">
                <a:solidFill>
                  <a:srgbClr val="ffff00"/>
                </a:solidFill>
                <a:latin typeface="Calibri"/>
              </a:rPr>
              <a:t>Dipole-Dipole Attrac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 as strong as ionic attraction, but can be strong enough to stabilize a solid crystal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Table sug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pecial dipole-dipole attraction that occurs between hydrogen and highly electronegative atoms such as oxygen, nitrogen, or fluorin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ositive nucleus of the hydrogen atom is attracted to the slightly negative charge on the other atom</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uch stronger than other dipole-dipole att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2495520" y="2021040"/>
            <a:ext cx="4152960" cy="36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41148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wis Dot Diagrams for Hydrogen and Chlorine Gas</a:t>
            </a:r>
            <a:endParaRPr b="0" lang="en-US" sz="1800" spc="-1" strike="noStrike">
              <a:solidFill>
                <a:srgbClr val="000000"/>
              </a:solidFill>
              <a:latin typeface="Calibri"/>
            </a:endParaRPr>
          </a:p>
        </p:txBody>
      </p:sp>
      <p:pic>
        <p:nvPicPr>
          <p:cNvPr id="57" name="" descr=""/>
          <p:cNvPicPr/>
          <p:nvPr/>
        </p:nvPicPr>
        <p:blipFill>
          <a:blip r:embed="rId1"/>
          <a:stretch/>
        </p:blipFill>
        <p:spPr>
          <a:xfrm>
            <a:off x="1792440" y="612720"/>
            <a:ext cx="5486400" cy="4114800"/>
          </a:xfrm>
          <a:prstGeom prst="rect">
            <a:avLst/>
          </a:prstGeom>
          <a:ln w="0">
            <a:noFill/>
          </a:ln>
        </p:spPr>
      </p:pic>
      <p:sp>
        <p:nvSpPr>
          <p:cNvPr id="58" name="PlaceHolder 2"/>
          <p:cNvSpPr>
            <a:spLocks noGrp="1"/>
          </p:cNvSpPr>
          <p:nvPr>
            <p:ph/>
          </p:nvPr>
        </p:nvSpPr>
        <p:spPr>
          <a:xfrm>
            <a:off x="1792440" y="4876920"/>
            <a:ext cx="5486400" cy="12952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row shows the atoms before they are bonded</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econd row shows the sharing of electrons to fill the outer energy level</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ird row has circles around the electrons  to show those that belong to each atom. Where the circles overlap  represents a covalent bond</a:t>
            </a:r>
            <a:endParaRPr b="0" lang="en-US" sz="1400" spc="-1" strike="noStrike">
              <a:solidFill>
                <a:srgbClr val="000000"/>
              </a:solidFill>
              <a:latin typeface="Calibri"/>
            </a:endParaRPr>
          </a:p>
        </p:txBody>
      </p:sp>
      <p:sp>
        <p:nvSpPr>
          <p:cNvPr id="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1"/>
          <p:cNvGrpSpPr/>
          <p:nvPr/>
        </p:nvGrpSpPr>
        <p:grpSpPr>
          <a:xfrm>
            <a:off x="1371600" y="1447920"/>
            <a:ext cx="6058080" cy="2628720"/>
            <a:chOff x="1371600" y="1447920"/>
            <a:chExt cx="6058080" cy="2628720"/>
          </a:xfrm>
        </p:grpSpPr>
        <p:sp>
          <p:nvSpPr>
            <p:cNvPr id="61" name="AutoShape 4"/>
            <p:cNvSpPr/>
            <p:nvPr/>
          </p:nvSpPr>
          <p:spPr>
            <a:xfrm>
              <a:off x="1371600" y="1447920"/>
              <a:ext cx="6058080" cy="262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3" descr="F1"/>
            <p:cNvPicPr/>
            <p:nvPr/>
          </p:nvPicPr>
          <p:blipFill>
            <a:blip r:embed="rId2">
              <a:grayscl/>
            </a:blip>
            <a:stretch/>
          </p:blipFill>
          <p:spPr>
            <a:xfrm>
              <a:off x="1371600" y="1447920"/>
              <a:ext cx="5900400" cy="2379600"/>
            </a:xfrm>
            <a:prstGeom prst="rect">
              <a:avLst/>
            </a:prstGeom>
            <a:ln w="0">
              <a:noFill/>
            </a:ln>
          </p:spPr>
        </p:pic>
        <p:sp>
          <p:nvSpPr>
            <p:cNvPr id="63" name="Oval 2"/>
            <p:cNvSpPr/>
            <p:nvPr/>
          </p:nvSpPr>
          <p:spPr>
            <a:xfrm>
              <a:off x="2262240" y="3087000"/>
              <a:ext cx="685800" cy="68544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 in Water</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ing is an important factor that influences the structure and properties of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oxygen atom can be hydrogen bonded to as many as 6 other hydrogen atoms in other water molec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s in Ice</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water molecule is hydrogen bonded to four other wate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water molecules in ice are farther apart than in liquid water, therefore ice is </a:t>
            </a:r>
            <a:r>
              <a:rPr b="0" i="1" lang="en-US" sz="3200" spc="-1" strike="noStrike">
                <a:solidFill>
                  <a:srgbClr val="ffff00"/>
                </a:solidFill>
                <a:latin typeface="Calibri"/>
              </a:rPr>
              <a:t>less dense</a:t>
            </a:r>
            <a:r>
              <a:rPr b="0" lang="en-US" sz="3200" spc="-1" strike="noStrike">
                <a:solidFill>
                  <a:srgbClr val="ffff00"/>
                </a:solidFill>
                <a:latin typeface="Calibri"/>
              </a:rPr>
              <a:t> </a:t>
            </a:r>
            <a:r>
              <a:rPr b="0" lang="en-US" sz="3200" spc="-1" strike="noStrike">
                <a:solidFill>
                  <a:srgbClr val="ffffff"/>
                </a:solidFill>
                <a:latin typeface="Calibri"/>
              </a:rPr>
              <a:t>than liquid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s are the strongest in the form shown in the next diagr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0" name="Picture 2" descr=""/>
          <p:cNvPicPr/>
          <p:nvPr/>
        </p:nvPicPr>
        <p:blipFill>
          <a:blip r:embed="rId1"/>
          <a:stretch/>
        </p:blipFill>
        <p:spPr>
          <a:xfrm>
            <a:off x="457200" y="1771560"/>
            <a:ext cx="8229600" cy="4183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que Properties Reading</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d the handout on the unique properties of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ondon Dispersion Forc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ersion forces act between all molecules, but in non-polar molecules they are the only for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en though there are no permanent dipoles in non-polar molecules, it is possible to </a:t>
            </a:r>
            <a:r>
              <a:rPr b="0" i="1" lang="en-US" sz="3200" spc="-1" strike="noStrike">
                <a:solidFill>
                  <a:srgbClr val="ffff00"/>
                </a:solidFill>
                <a:latin typeface="Calibri"/>
              </a:rPr>
              <a:t>induce</a:t>
            </a:r>
            <a:r>
              <a:rPr b="0" lang="en-US" sz="3200" spc="-1" strike="noStrike">
                <a:solidFill>
                  <a:srgbClr val="ffffff"/>
                </a:solidFill>
                <a:latin typeface="Calibri"/>
              </a:rPr>
              <a:t> dip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6" name="Picture 2" descr=""/>
          <p:cNvPicPr/>
          <p:nvPr/>
        </p:nvPicPr>
        <p:blipFill>
          <a:blip r:embed="rId1"/>
          <a:stretch/>
        </p:blipFill>
        <p:spPr>
          <a:xfrm>
            <a:off x="1351080" y="1600200"/>
            <a:ext cx="644184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also spontaneously form temporary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s are in constant, rapid mo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brief moment the electron distribution can be uneve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can form a positive pole and a negative pole in the molec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mporary dipole in the molecule can induce a temporary dipole in the next molecule, like the balloon and the wal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ocess disperses through the sub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actors Affecting Magnitude</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wo factors affect LD forc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creased electrons = increased probability of a temporary dipole forming</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near shapes have greater London dispersion fo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es and Properties of Compound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ate of a substance (solid, liquid or gas) depends on the strength of the inter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 particles gain kinetic energy (heat) they break their intermolecular bonds and chang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Bond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uble and triple bonds can form between atoms in order to fill the outer energy lev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occurs when two atoms share more than one pair of electr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362320" y="4038480"/>
            <a:ext cx="4114800" cy="2468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me of Hydrogen Bonding</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YI – hydrogen bonds in liquid water break and reform 100 000 000 000 (10</a:t>
            </a:r>
            <a:r>
              <a:rPr b="0" lang="en-US" sz="3200" spc="-1" strike="noStrike" baseline="30000">
                <a:solidFill>
                  <a:srgbClr val="ffffff"/>
                </a:solidFill>
                <a:latin typeface="Calibri"/>
              </a:rPr>
              <a:t>11</a:t>
            </a:r>
            <a:r>
              <a:rPr b="0" lang="en-US" sz="3200" spc="-1" strike="noStrike">
                <a:solidFill>
                  <a:srgbClr val="ffffff"/>
                </a:solidFill>
                <a:latin typeface="Calibri"/>
              </a:rPr>
              <a:t>) times every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lting and Boiling Points</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ionic substances and metals are about the same magnitud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molecular substances are much low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does that tell us about the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are much stronger if the ions have a large charg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ionic compounds that have ions with large charges will have higher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Forces</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f the molecular compounds,  dipoles that form hydrogen bonds are the stronges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pole-dipole forces are weaker than hydrogen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that have London dispersion forces are the weak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hydrogen bonded substances have the highest melting/boiling points, dipole-dipole have lower melting/boiling points, and non-polar substances have the lowest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chanical Properties of Solid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malleable because of the nature of metallic bonds (positive ions in a sea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are brittle because if a layer of the crystal is shifted down one position,  like ions will be aligned and rep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ar substances are usually soft and easily bro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ductivity</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ability of a substance to transfer electrical curren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this to occur, charged particles (ions or electrons) must be able to move fre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good conductors because their electrons are free to move throughout the metallic structu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olids do not conduct electric current because the ions are held together in a rigid struc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that are dissolved in water are good conductors because the charged ions are free to move in the solu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an conduct electricity because of delocalized electrons (graphi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compounds cannot conduct electricity in pure form or dissolved in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Review Questions</a:t>
            </a: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g. 137</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3,4,6-14, 16, 19, 21, 22, 25-29, 31, 34-39, 41, 43, 47, 48, 51, 57, 60</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rdebenham@cbe.ab.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Lewis Structure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molecules can have more than one possible Lewis structure, usually when one single bond and one double bond can be exchanged within the rules of drawing Lewis structur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of SO</a:t>
            </a:r>
            <a:r>
              <a:rPr b="0" lang="en-US" sz="3200" spc="-1" strike="noStrike" baseline="-25000">
                <a:solidFill>
                  <a:srgbClr val="ffffff"/>
                </a:solidFill>
                <a:latin typeface="Calibri"/>
              </a:rPr>
              <a:t>2</a:t>
            </a:r>
            <a:r>
              <a:rPr b="0" lang="en-US" sz="3200" spc="-1" strike="noStrike">
                <a:solidFill>
                  <a:srgbClr val="ffffff"/>
                </a:solidFill>
                <a:latin typeface="Calibri"/>
              </a:rPr>
              <a:t> (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al Diagram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iagrams can be converted to structural diagrams for convenien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uctural diagrams use lines to represent a bond, or a pair of electrons, but it does not show lone electron pai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Chlorine G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 Workshee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the rules for drawing Lewis dot diagrams, complete the worksheet (LDD and structu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extra practice, try the Lewis Structures Thought 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22:22:48Z</dcterms:created>
  <dc:creator>Brian Dedenham</dc:creator>
  <dc:description/>
  <dc:language>en-US</dc:language>
  <cp:lastModifiedBy>RomaK</cp:lastModifiedBy>
  <dcterms:modified xsi:type="dcterms:W3CDTF">2015-09-01T16:20:38Z</dcterms:modified>
  <cp:revision>97</cp:revision>
  <dc:subject/>
  <dc:title>Chemical Bonding</dc:title>
</cp:coreProperties>
</file>