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2.png" ContentType="image/png"/>
  <Override PartName="/ppt/media/image3.jpeg" ContentType="image/jpeg"/>
  <Override PartName="/ppt/media/image1.jpeg" ContentType="image/jpeg"/>
  <Override PartName="/ppt/media/image4.gif" ContentType="image/gif"/>
  <Override PartName="/ppt/media/image6.jpeg" ContentType="image/jpeg"/>
  <Override PartName="/ppt/media/image14.jpeg" ContentType="image/jpeg"/>
  <Override PartName="/ppt/media/image8.png" ContentType="image/png"/>
  <Override PartName="/ppt/media/image11.jpeg" ContentType="image/jpeg"/>
  <Override PartName="/ppt/media/image13.png" ContentType="image/png"/>
  <Override PartName="/ppt/media/image5.jpeg" ContentType="image/jpeg"/>
  <Override PartName="/ppt/media/image10.jpeg" ContentType="image/jpeg"/>
  <Override PartName="/ppt/media/image7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A5D9E-0716-4F48-9823-8E19C1B9CD2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Temperature Regulation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By the end of the lesson you should know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How the body corrects overheating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How the body corrects overcooling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What thermocreceptors do?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What volutary responses are carried out to control temperature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mperature Reg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the end of the lesson you should kn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the body corrects overhea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the body corrects overcoo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thermocreceptors d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volutary responses are carried out to control temper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Arial"/>
              </a:rPr>
              <a:t>Vasoconstriction and Vasodilatation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asoconstriction and Vasodila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Correction of overheating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Detected by thermoreceptors in the hypothalamus.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Causes vasodilation.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Sweating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rection of overhea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tected by thermoreceptors in the hypothalam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ses vasodil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wea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Cooling down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When it's hot and you need to cool down, muscles at each hair  relax. 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Hairs lie close to the skin.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Air does not act as an insulating layer.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oling d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it's hot and you need to cool down, muscles at each hair  relax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rs lie close to the sk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r does not act as an insulating lay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Sweating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How does it work?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Heat energy in the body is used to convert the water in sweat to vapour cooling down the body.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wea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es it work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 energy in the body is used to convert the water in sweat to vapour cooling down the bod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Correction of overcooling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Detected by thermoreceptors in the hypothalamus.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Causes vasoconstriction.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Decreased sweating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Shivering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rection of overcoo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tected by thermoreceptors in the hypothalam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ses vasoconstri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ed swea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ive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Keeping warm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When it's cold, the muscle contracts pulls the hair up. 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A layer of warm air accumulates around the hair and insulates the organism.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Heat retained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eping wa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it's cold, the muscle contracts pulls the hair up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layer of warm air accumulates around the hair and insulates the organis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 reta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Shivering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How does it work?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ive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es it work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Voluntary responses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In humans the cerebrum “makes” people feel cold or hot.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They can then e.g. put on more clothes, eat a hot meal, exercise etc as appropriate.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luntary respon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humans the cerebrum “makes” people feel cold or ho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can then e.g. put on more clothes, eat a hot meal, exercise etc as appropria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To provide the optimum conditions for enzyme-catalysed reactions to be carried out.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Why do we need to regulate:</a:t>
            </a:r>
            <a:br>
              <a:rPr sz="1200"/>
            </a:b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Internal body temperature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provide the optimum conditions for enzyme-catalysed reactions to be carried ou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do we need to regulate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nal body temper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Body Temperature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Normal internal body temperature is 370C.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Temperatures above this: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denature enzymes and block metabolic pathways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Temperatures below this: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slow down metabolism and affect the brain.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 Temper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l internal body temperature is 370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mperatures above thi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nature enzymes and block metabolic pathw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mperatures below thi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ow down metabolism and affect the bra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Water Bath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Temperature set on thermostat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Too cool? Heater kicks on and temperature goes up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Too warm? Heater stays off until bath cools down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Constant checking and turning on and off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 Ba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mperature set on thermost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o cool? Heater kicks on and temperature goes 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o warm? Heater stays off until bath cools d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ant checking and turning on and of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Control of homeostasis through feedback 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Feedback system- cycle of events in which the status of a body condition is continually monitored, evaluated, changed, re-monitored, re-evaluated, etc.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 of homeostasis through feedbac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edback system- cycle of events in which the status of a body condition is continually monitored, evaluated, changed, re-monitored, re-evaluated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1) receptor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sensor that responds to changes (stimuli)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2) control centre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sets range of values, evaluates input and sends output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3) effector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receives output from control centre and produces a response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3 basic components of a feedback system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recep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sor that responds to changes (stimul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control cent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s range of values, evaluates input and sends outp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effe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eives output from control centre and produces a respon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basic components of a feedback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Body Temperature Control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The hypothalamus acts as a thermostat and receives nerve impulses from heat and cold thermoreceptors in the skin.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There are also receptors in the hypothalamus- called central thermoreceptors.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These detect changes in blood temperature.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 Temperature Cont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ypothalamus acts as a thermostat and receives nerve impulses from heat and cold thermoreceptors in the sk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also receptors in the hypothalamus- called central thermorecepto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detect changes in blood temperat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E4022-8174-4178-9BE5-73FA3F0B1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C73B6-14F2-4494-A2E0-BF7BBF9D9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BDB59-25E8-41B7-9932-15C70B2D8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FAA77-0E5E-48AF-9861-A60F53822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802D1-D489-4DC6-8607-51943913B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33A64-BA91-4590-81D8-45CAA50AF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D75B6-98FE-45A1-B15B-DDBCF0C7B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71B4F-E9EF-45A9-A761-0FD2C2C8C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0B38C-D3E7-40A9-9AA2-45DF39C5D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DDDE4-3212-4F9F-B4B3-95E064415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D4FFE-A9DB-477F-9986-DE97546F2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72046-3636-48A5-BE70-F34E048DE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185B7-4245-43FD-BA24-CBCB622A2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84C8A-24F8-42A6-9767-88BD56524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C987E-4BEE-4E2A-AE15-6B4AD3EF9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13E63-4390-4DA3-8BDE-B66B74A8D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15CA8-AFDE-4228-933E-75DC3DDFC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E1DF0-507E-4F16-9F16-75A3B20A3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5147B-CC3E-406C-B642-6988445C9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58D27-6F51-4BE0-9DF1-7BBD890C4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109D6-1591-41B5-907C-3899D6B0E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5FF55-358F-42F2-ADF3-282EBD049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E465F-7E65-436A-AF80-69F5B9732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8348D-63A4-4062-B7BE-650115492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FC97B-1E34-475A-8A69-004216314F9F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BF1F7-E57E-4603-9C86-BF50CF4F527D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beakman.com/beakman/haircurl/haircurl.html" TargetMode="External"/><Relationship Id="rId2" Type="http://schemas.openxmlformats.org/officeDocument/2006/relationships/hyperlink" Target="http://www.beakman.com/beakman/haircurl/haircurl.html" TargetMode="External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beakman.com/beakman/haircurl/haircurl.html" TargetMode="External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cc"/>
                </a:solidFill>
                <a:latin typeface="Comic Sans MS"/>
              </a:rPr>
              <a:t>Temperature Regulation</a:t>
            </a:r>
            <a:endParaRPr b="1" lang="en-US" sz="4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Comic Sans MS"/>
              </a:rPr>
              <a:t>By the end of the lesson you should know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Comic Sans MS"/>
              </a:rPr>
              <a:t>How the body corrects overheating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Comic Sans MS"/>
              </a:rPr>
              <a:t>How the body corrects overcooling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Comic Sans MS"/>
              </a:rPr>
              <a:t>What thermocreceptors do?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Comic Sans MS"/>
              </a:rPr>
              <a:t>What volutary responses are carried out to control temperature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708840" y="834120"/>
            <a:ext cx="836280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cc"/>
                </a:solidFill>
                <a:latin typeface="Comic Sans MS"/>
              </a:rPr>
              <a:t>Vasoconstriction and Vasodilatation</a:t>
            </a:r>
            <a:endParaRPr b="1" lang="en-US" sz="44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124" name="Picture 3" descr="Skin_tws_41_02"/>
          <p:cNvPicPr/>
          <p:nvPr/>
        </p:nvPicPr>
        <p:blipFill>
          <a:blip r:embed="rId1"/>
          <a:stretch/>
        </p:blipFill>
        <p:spPr>
          <a:xfrm>
            <a:off x="1763640" y="1693800"/>
            <a:ext cx="6121440" cy="47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834120" y="5292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Comic Sans MS"/>
                <a:ea typeface="Arial"/>
              </a:rPr>
              <a:t>Correction of overheating</a:t>
            </a:r>
            <a:endParaRPr b="1" lang="en-US" sz="4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6554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76280" indent="-4762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mic Sans MS"/>
              </a:rPr>
              <a:t>Detected by thermoreceptors in the hypothalamus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76280" indent="-4762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mic Sans MS"/>
              </a:rPr>
              <a:t>Causes vasodilation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76280" indent="-4762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mic Sans MS"/>
              </a:rPr>
              <a:t>Sweating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27" name="Picture 4" descr="Vasodilation"/>
          <p:cNvPicPr/>
          <p:nvPr/>
        </p:nvPicPr>
        <p:blipFill>
          <a:blip r:embed="rId1"/>
          <a:stretch/>
        </p:blipFill>
        <p:spPr>
          <a:xfrm>
            <a:off x="3733920" y="2984400"/>
            <a:ext cx="5410080" cy="38736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5" descr="sweating 2"/>
          <p:cNvPicPr/>
          <p:nvPr/>
        </p:nvPicPr>
        <p:blipFill>
          <a:blip r:embed="rId2"/>
          <a:stretch/>
        </p:blipFill>
        <p:spPr>
          <a:xfrm>
            <a:off x="228600" y="3581280"/>
            <a:ext cx="3086280" cy="27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2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cc"/>
                </a:solidFill>
                <a:latin typeface="Comic Sans MS"/>
              </a:rPr>
              <a:t>Cooling down</a:t>
            </a:r>
            <a:endParaRPr b="1" lang="en-US" sz="4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756320" y="2361960"/>
            <a:ext cx="377496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Comic Sans MS"/>
              </a:rPr>
              <a:t>When it's hot and you need to cool down, muscles at each </a:t>
            </a:r>
            <a:r>
              <a:rPr b="0" lang="en-GB" sz="2400" spc="-1" strike="noStrike" u="sng">
                <a:solidFill>
                  <a:srgbClr val="0099ff"/>
                </a:solidFill>
                <a:uFillTx/>
                <a:latin typeface="Comic Sans MS"/>
                <a:hlinkClick r:id="rId1"/>
              </a:rPr>
              <a:t>hair</a:t>
            </a:r>
            <a:r>
              <a:rPr b="0" lang="en-GB" sz="2400" spc="-1" strike="noStrike">
                <a:solidFill>
                  <a:srgbClr val="000066"/>
                </a:solidFill>
                <a:latin typeface="Comic Sans MS"/>
              </a:rPr>
              <a:t>  relax.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Comic Sans MS"/>
              </a:rPr>
              <a:t>Hairs lie close to the skin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Comic Sans MS"/>
              </a:rPr>
              <a:t>Air does not act as an insulating layer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31" name="Picture 4" descr="cool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24000" y="2349360"/>
            <a:ext cx="4319280" cy="30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540720" y="72000"/>
            <a:ext cx="808488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cc"/>
                </a:solidFill>
                <a:latin typeface="Comic Sans MS"/>
              </a:rPr>
              <a:t>Sweating</a:t>
            </a:r>
            <a:endParaRPr b="1" lang="en-US" sz="44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133" name="Picture 3" descr="sweating_it_out"/>
          <p:cNvPicPr/>
          <p:nvPr/>
        </p:nvPicPr>
        <p:blipFill>
          <a:blip r:embed="rId1"/>
          <a:stretch/>
        </p:blipFill>
        <p:spPr>
          <a:xfrm>
            <a:off x="539640" y="981000"/>
            <a:ext cx="4176720" cy="561672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4"/>
          <p:cNvSpPr/>
          <p:nvPr/>
        </p:nvSpPr>
        <p:spPr>
          <a:xfrm>
            <a:off x="5292720" y="3500280"/>
            <a:ext cx="3600360" cy="33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Comic Sans MS"/>
              </a:rPr>
              <a:t>How does it work?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Comic Sans MS"/>
              </a:rPr>
              <a:t>Heat energy in the body is used to convert the water in sweat to vapour cooling down the body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986400" y="7578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Comic Sans MS"/>
                <a:ea typeface="Arial"/>
              </a:rPr>
              <a:t>Correction of overcooling</a:t>
            </a:r>
            <a:endParaRPr b="1" lang="en-US" sz="4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304560" y="1676520"/>
            <a:ext cx="6554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76280" indent="-4762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mic Sans MS"/>
              </a:rPr>
              <a:t>Detected by thermoreceptors in the hypothalamus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76280" indent="-4762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mic Sans MS"/>
              </a:rPr>
              <a:t>Causes vasoconstriction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76280" indent="-4762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mic Sans MS"/>
              </a:rPr>
              <a:t>Decreased sweating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76280" indent="-4762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mic Sans MS"/>
              </a:rPr>
              <a:t>Shivering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76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37" name="Picture 4" descr="Vasoconstriction"/>
          <p:cNvPicPr/>
          <p:nvPr/>
        </p:nvPicPr>
        <p:blipFill>
          <a:blip r:embed="rId1"/>
          <a:stretch/>
        </p:blipFill>
        <p:spPr>
          <a:xfrm>
            <a:off x="4114800" y="2971800"/>
            <a:ext cx="5029200" cy="35542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5" descr="shivering"/>
          <p:cNvPicPr/>
          <p:nvPr/>
        </p:nvPicPr>
        <p:blipFill>
          <a:blip r:embed="rId2"/>
          <a:stretch/>
        </p:blipFill>
        <p:spPr>
          <a:xfrm>
            <a:off x="965160" y="4038480"/>
            <a:ext cx="2171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6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5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1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cc"/>
                </a:solidFill>
                <a:latin typeface="Comic Sans MS"/>
              </a:rPr>
              <a:t>Keeping warm</a:t>
            </a:r>
            <a:endParaRPr b="1" lang="en-US" sz="4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756320" y="2361960"/>
            <a:ext cx="377496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Comic Sans MS"/>
              </a:rPr>
              <a:t>When it's cold, the muscle contracts pulls the hair up.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Comic Sans MS"/>
              </a:rPr>
              <a:t>A layer of warm air accumulates around the hair and insulates the organism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Comic Sans MS"/>
              </a:rPr>
              <a:t>Heat retained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41" name="Picture 4" descr="warm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72880" y="1628640"/>
            <a:ext cx="433404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" dur="5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 u="sng">
                <a:solidFill>
                  <a:srgbClr val="0000cc"/>
                </a:solidFill>
                <a:uFillTx/>
                <a:latin typeface="Arial"/>
              </a:rPr>
              <a:t>Shivering</a:t>
            </a: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143" name="Picture 3" descr="shivering-at-the-gap"/>
          <p:cNvPicPr/>
          <p:nvPr/>
        </p:nvPicPr>
        <p:blipFill>
          <a:blip r:embed="rId1"/>
          <a:stretch/>
        </p:blipFill>
        <p:spPr>
          <a:xfrm>
            <a:off x="395280" y="1268280"/>
            <a:ext cx="5905440" cy="4902480"/>
          </a:xfrm>
          <a:prstGeom prst="rect">
            <a:avLst/>
          </a:prstGeom>
          <a:ln w="0">
            <a:noFill/>
          </a:ln>
        </p:spPr>
      </p:pic>
      <p:sp>
        <p:nvSpPr>
          <p:cNvPr id="144" name="Rectangle 4"/>
          <p:cNvSpPr/>
          <p:nvPr/>
        </p:nvSpPr>
        <p:spPr>
          <a:xfrm>
            <a:off x="6300720" y="2637000"/>
            <a:ext cx="284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How does it work?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Comic Sans MS"/>
                <a:ea typeface="Arial"/>
              </a:rPr>
              <a:t>Voluntary responses</a:t>
            </a:r>
            <a:endParaRPr b="1" lang="en-US" sz="4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6091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76280" indent="-47628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Comic Sans MS"/>
              </a:rPr>
              <a:t>In humans the cerebrum “makes” people feel cold or hot.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476280" indent="-47628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Comic Sans MS"/>
              </a:rPr>
              <a:t>They can then e.g. put on more clothes, eat a hot meal, exercise etc as appropriate.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476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'cutaway' skin diagram view showing sweat ducts, epidermis, dermis, hair shafts, rete pegs, sebaceous glands, dermal nerve fiber, muscle, subcutaneous fat, and hair follicles"/>
          <p:cNvPicPr/>
          <p:nvPr/>
        </p:nvPicPr>
        <p:blipFill>
          <a:blip r:embed="rId1"/>
          <a:stretch/>
        </p:blipFill>
        <p:spPr>
          <a:xfrm>
            <a:off x="611280" y="260280"/>
            <a:ext cx="85327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CLP102_Pic1"/>
          <p:cNvPicPr/>
          <p:nvPr/>
        </p:nvPicPr>
        <p:blipFill>
          <a:blip r:embed="rId1"/>
          <a:stretch/>
        </p:blipFill>
        <p:spPr>
          <a:xfrm>
            <a:off x="250920" y="476280"/>
            <a:ext cx="864216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7720" y="274320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526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552600" indent="-55260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Comic Sans MS"/>
              </a:rPr>
              <a:t>To provide the optimum conditions for enzyme-catalysed reactions to be carried out.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834120" y="834120"/>
            <a:ext cx="82371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Comic Sans MS"/>
              </a:rPr>
              <a:t>Why do we need to regulate:</a:t>
            </a:r>
            <a:br>
              <a:rPr sz="4400"/>
            </a:br>
            <a:r>
              <a:rPr b="1" lang="en-US" sz="4400" spc="-1" strike="noStrike">
                <a:solidFill>
                  <a:srgbClr val="0000cc"/>
                </a:solidFill>
                <a:latin typeface="Comic Sans MS"/>
              </a:rPr>
              <a:t>Internal body temperature</a:t>
            </a:r>
            <a:endParaRPr b="1" lang="en-US" sz="4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910440" y="452880"/>
            <a:ext cx="716904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Comic Sans MS"/>
                <a:ea typeface="Arial"/>
              </a:rPr>
              <a:t>Body Temperature</a:t>
            </a:r>
            <a:endParaRPr b="1" lang="en-US" sz="4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762120" y="175248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00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Normal internal body temperature is 37</a:t>
            </a:r>
            <a:r>
              <a:rPr b="0" lang="en-US" sz="3100" spc="-1" strike="noStrike" baseline="30000">
                <a:solidFill>
                  <a:srgbClr val="000066"/>
                </a:solidFill>
                <a:latin typeface="Comic Sans MS"/>
                <a:ea typeface="Times New Roman"/>
              </a:rPr>
              <a:t>0</a:t>
            </a:r>
            <a:r>
              <a:rPr b="0" lang="en-US" sz="31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C.</a:t>
            </a:r>
            <a:endParaRPr b="0" lang="en-US" sz="31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00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Temperatures </a:t>
            </a:r>
            <a:r>
              <a:rPr b="0" lang="en-US" sz="31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above</a:t>
            </a:r>
            <a:r>
              <a:rPr b="0" lang="en-US" sz="31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 this:</a:t>
            </a:r>
            <a:endParaRPr b="0" lang="en-US" sz="31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	</a:t>
            </a:r>
            <a:r>
              <a:rPr b="0" lang="en-US" sz="31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denature enzymes and block metabolic pathways</a:t>
            </a:r>
            <a:endParaRPr b="0" lang="en-US" sz="31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00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Temperatures </a:t>
            </a:r>
            <a:r>
              <a:rPr b="0" lang="en-US" sz="31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below</a:t>
            </a:r>
            <a:r>
              <a:rPr b="0" lang="en-US" sz="31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 this:</a:t>
            </a:r>
            <a:endParaRPr b="0" lang="en-US" sz="31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	</a:t>
            </a:r>
            <a:r>
              <a:rPr b="0" lang="en-US" sz="31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slow down metabolism and affect the brain.</a:t>
            </a:r>
            <a:endParaRPr b="0" lang="en-US" sz="31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748440" y="62640"/>
            <a:ext cx="7647120" cy="865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Comic Sans MS"/>
              </a:rPr>
              <a:t>Water Bath</a:t>
            </a: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11" name="Text Box 3"/>
          <p:cNvSpPr/>
          <p:nvPr/>
        </p:nvSpPr>
        <p:spPr>
          <a:xfrm>
            <a:off x="812880" y="4805280"/>
            <a:ext cx="7562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mic Sans MS"/>
              </a:rPr>
              <a:t>Temperature set on thermosta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mic Sans MS"/>
              </a:rPr>
              <a:t>Too cool? Heater kicks on and temperature goes up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mic Sans MS"/>
              </a:rPr>
              <a:t>Too warm? Heater stays off until bath cools dow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mic Sans MS"/>
              </a:rPr>
              <a:t>Constant checking and turning on and off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12" name="Picture 4" descr="S-2058-1"/>
          <p:cNvPicPr/>
          <p:nvPr/>
        </p:nvPicPr>
        <p:blipFill>
          <a:blip r:embed="rId1"/>
          <a:stretch/>
        </p:blipFill>
        <p:spPr>
          <a:xfrm>
            <a:off x="2590920" y="838080"/>
            <a:ext cx="392436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06400" y="1265040"/>
            <a:ext cx="7838280" cy="599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Comic Sans MS"/>
                <a:ea typeface="Times New Roman"/>
              </a:rPr>
              <a:t>Control of homeostasis through feedback</a:t>
            </a:r>
            <a:r>
              <a:rPr b="1" lang="en-US" sz="4000" spc="-1" strike="noStrike">
                <a:solidFill>
                  <a:srgbClr val="0000cc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304920" y="2514240"/>
            <a:ext cx="853416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Comic Sans MS"/>
              </a:rPr>
              <a:t>Feedback system- cycle of events in which the status of a body condition is continually monitored, evaluated, changed, re-monitored, re-evaluated, etc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15" name="Picture 4" descr="j0254474"/>
          <p:cNvPicPr/>
          <p:nvPr/>
        </p:nvPicPr>
        <p:blipFill>
          <a:blip r:embed="rId1"/>
          <a:stretch/>
        </p:blipFill>
        <p:spPr>
          <a:xfrm>
            <a:off x="7238880" y="1295280"/>
            <a:ext cx="1417680" cy="12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Comic Sans MS"/>
              </a:rPr>
              <a:t>1) receptor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mic Sans MS"/>
              </a:rPr>
              <a:t>sensor that responds to changes (stimuli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Comic Sans MS"/>
              </a:rPr>
              <a:t>2) control centre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mic Sans MS"/>
              </a:rPr>
              <a:t>sets range of values, evaluates input and sends outpu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Comic Sans MS"/>
              </a:rPr>
              <a:t>3) effector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mic Sans MS"/>
              </a:rPr>
              <a:t>receives output from control centre and produces a respons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Comic Sans MS"/>
              </a:rPr>
              <a:t>3 basic components of a feedback system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1062720" y="3006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Comic Sans MS"/>
                <a:ea typeface="Arial"/>
              </a:rPr>
              <a:t>Body Temperature Control</a:t>
            </a: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685800" y="1828440"/>
            <a:ext cx="3579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mic Sans MS"/>
              </a:rPr>
              <a:t>The hypothalamus acts as a 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thermostat</a:t>
            </a:r>
            <a:r>
              <a:rPr b="0" lang="en-US" sz="2400" spc="-1" strike="noStrike">
                <a:solidFill>
                  <a:srgbClr val="000066"/>
                </a:solidFill>
                <a:latin typeface="Comic Sans MS"/>
              </a:rPr>
              <a:t> and receives nerve impulses from 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heat</a:t>
            </a:r>
            <a:r>
              <a:rPr b="0" lang="en-US" sz="2400" spc="-1" strike="noStrike">
                <a:solidFill>
                  <a:srgbClr val="000066"/>
                </a:solidFill>
                <a:latin typeface="Comic Sans MS"/>
              </a:rPr>
              <a:t> and 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cold </a:t>
            </a:r>
            <a:r>
              <a:rPr b="0" lang="en-US" sz="2400" spc="-1" strike="noStrike">
                <a:solidFill>
                  <a:srgbClr val="000066"/>
                </a:solidFill>
                <a:latin typeface="Comic Sans MS"/>
              </a:rPr>
              <a:t>thermoreceptors in the skin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mic Sans MS"/>
              </a:rPr>
              <a:t>There are also receptors in the hypothalamus- called central 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thermoreceptors</a:t>
            </a:r>
            <a:r>
              <a:rPr b="0" lang="en-US" sz="2400" spc="-1" strike="noStrike">
                <a:solidFill>
                  <a:srgbClr val="000066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20" name="Picture 4" descr="glakgar_pit_hypothalamus"/>
          <p:cNvPicPr/>
          <p:nvPr/>
        </p:nvPicPr>
        <p:blipFill>
          <a:blip r:embed="rId1"/>
          <a:stretch/>
        </p:blipFill>
        <p:spPr>
          <a:xfrm>
            <a:off x="4495680" y="1447920"/>
            <a:ext cx="4648320" cy="409104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5"/>
          <p:cNvSpPr/>
          <p:nvPr/>
        </p:nvSpPr>
        <p:spPr>
          <a:xfrm>
            <a:off x="4343400" y="5867280"/>
            <a:ext cx="426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Comic Sans MS"/>
              </a:rPr>
              <a:t>These detect changes in blood temperature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2" name="Line 6"/>
          <p:cNvSpPr/>
          <p:nvPr/>
        </p:nvSpPr>
        <p:spPr>
          <a:xfrm>
            <a:off x="3809880" y="6172200"/>
            <a:ext cx="53352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omaK</cp:lastModifiedBy>
  <dcterms:modified xsi:type="dcterms:W3CDTF">2015-09-04T10:48:30Z</dcterms:modified>
  <cp:revision>5</cp:revision>
  <dc:subject/>
  <dc:title>temperature regul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