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867D-D719-4505-A298-130FE0CA92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2DB-FD5C-4798-8A6E-0365DDDF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8E0-8C9D-4B12-9051-5C064D95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8C1-637C-4AD0-8BB8-84D20C072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1D0-5B17-4FD9-8BAC-DBF1FB4F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0F79-FF82-458C-8E44-7F178B92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850D-3310-4FC7-B2E7-2C1F4709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14A8-5840-462F-83CC-3C2A50EA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9B45-F66B-4B23-B0A2-237C7031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6B6F-F090-4345-B0C0-9F77731C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2FEC-1558-4B6D-B2D1-14BABFB9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424B-17C8-4753-AE49-4D2A4672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54B-C6A9-4281-B5C1-2FE60AB3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28F9-2B87-49F8-8D6E-EC6EEE1F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4C0B-1B97-4B0B-8D86-0F60E7E8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0B94-B55A-4437-9977-A79B59DB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D9DD-526F-4FD1-8492-C64C55A4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B56D-2573-4887-BF0C-3F135094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041-B6E8-4FEE-A14C-EABCBA23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CB4-9326-4D8C-9EB9-A0B3BF45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3D8-60DF-4307-8CE9-38FEED88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BD8-C7F8-4DE9-B32D-EC8A5D77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DC8-ADD4-4EA7-A176-D564A7A2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3EA-F236-45D8-A187-082142BC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378-FC53-4F1A-945B-74C3C007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A334-E8D0-49F0-980F-7534E1C6FC2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035B-BA2E-4650-92D2-7953A3E9B98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hyperlink" Target="http://www.beakman.com/beakman/haircurl/haircurl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Temperature Regul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By the end of the lesson you should kn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heat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coo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thermocreceptors d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volutary responses are carried out to control tempera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08840" y="834120"/>
            <a:ext cx="8362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Vasoconstriction and Vasodilat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4" name="Picture 3" descr="Skin_tws_41_02"/>
          <p:cNvPicPr/>
          <p:nvPr/>
        </p:nvPicPr>
        <p:blipFill>
          <a:blip r:embed="rId1"/>
          <a:stretch/>
        </p:blipFill>
        <p:spPr>
          <a:xfrm>
            <a:off x="1763640" y="1693800"/>
            <a:ext cx="61214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h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5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dil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Picture 4" descr="Vasodilation"/>
          <p:cNvPicPr/>
          <p:nvPr/>
        </p:nvPicPr>
        <p:blipFill>
          <a:blip r:embed="rId1"/>
          <a:stretch/>
        </p:blipFill>
        <p:spPr>
          <a:xfrm>
            <a:off x="3733920" y="2984400"/>
            <a:ext cx="5410080" cy="3873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weating 2"/>
          <p:cNvPicPr/>
          <p:nvPr/>
        </p:nvPicPr>
        <p:blipFill>
          <a:blip r:embed="rId2"/>
          <a:stretch/>
        </p:blipFill>
        <p:spPr>
          <a:xfrm>
            <a:off x="228600" y="3581280"/>
            <a:ext cx="30862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Cooling dow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When it's hot and you need to cool down, muscles at each </a:t>
            </a:r>
            <a:r>
              <a:rPr b="0" lang="en-GB" sz="2400" spc="-1" strike="noStrike" u="sng">
                <a:solidFill>
                  <a:srgbClr val="0099ff"/>
                </a:solidFill>
                <a:uFillTx/>
                <a:latin typeface="Comic Sans MS"/>
                <a:hlinkClick r:id="rId1"/>
              </a:rPr>
              <a:t>hair</a:t>
            </a: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  relax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Hairs lie close to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Air does not act as an insulating laye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4" descr="coo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349360"/>
            <a:ext cx="43192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40720" y="7200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w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3" name="Picture 3" descr="sweating_it_out"/>
          <p:cNvPicPr/>
          <p:nvPr/>
        </p:nvPicPr>
        <p:blipFill>
          <a:blip r:embed="rId1"/>
          <a:stretch/>
        </p:blipFill>
        <p:spPr>
          <a:xfrm>
            <a:off x="539640" y="981000"/>
            <a:ext cx="4176720" cy="5616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292720" y="3500280"/>
            <a:ext cx="3600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eat energy in the body is used to convert the water in sweat to vapour cooling down the bod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8640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cool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655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constri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creased 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hive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4" descr="Vasoconstriction"/>
          <p:cNvPicPr/>
          <p:nvPr/>
        </p:nvPicPr>
        <p:blipFill>
          <a:blip r:embed="rId1"/>
          <a:stretch/>
        </p:blipFill>
        <p:spPr>
          <a:xfrm>
            <a:off x="4114800" y="2971800"/>
            <a:ext cx="5029200" cy="355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hivering"/>
          <p:cNvPicPr/>
          <p:nvPr/>
        </p:nvPicPr>
        <p:blipFill>
          <a:blip r:embed="rId2"/>
          <a:stretch/>
        </p:blipFill>
        <p:spPr>
          <a:xfrm>
            <a:off x="965160" y="4038480"/>
            <a:ext cx="217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Keeping warm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When it's cold, the muscle contracts pulls the hair up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A layer of warm air accumulates around the hair and insulates the organism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Heat retain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Picture 4" descr="wa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2880" y="1628640"/>
            <a:ext cx="4334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Shiverin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3" name="Picture 3" descr="shivering-at-the-gap"/>
          <p:cNvPicPr/>
          <p:nvPr/>
        </p:nvPicPr>
        <p:blipFill>
          <a:blip r:embed="rId1"/>
          <a:stretch/>
        </p:blipFill>
        <p:spPr>
          <a:xfrm>
            <a:off x="395280" y="1268280"/>
            <a:ext cx="5905440" cy="4902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6300720" y="2637000"/>
            <a:ext cx="28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Voluntary responses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In humans the cerebrum “makes” people feel cold or ho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hey can then e.g. put on more clothes, eat a hot meal, exercise etc as appropriat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'cutaway' skin diagram view showing sweat ducts, epidermis, dermis, hair shafts, rete pegs, sebaceous glands, dermal nerve fiber, muscle, subcutaneous fat, and hair follicles"/>
          <p:cNvPicPr/>
          <p:nvPr/>
        </p:nvPicPr>
        <p:blipFill>
          <a:blip r:embed="rId1"/>
          <a:stretch/>
        </p:blipFill>
        <p:spPr>
          <a:xfrm>
            <a:off x="611280" y="260280"/>
            <a:ext cx="8532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LP102_Pic1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o provide the optimum conditions for enzyme-catalysed reactions to be carried ou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hy do we need to regulate:</a:t>
            </a:r>
            <a:br>
              <a:rPr sz="4400"/>
            </a:b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Internal 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10440" y="452880"/>
            <a:ext cx="7169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Normal internal body temperature is 37</a:t>
            </a:r>
            <a:r>
              <a:rPr b="0" lang="en-US" sz="31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0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bove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enature enzymes and block metabolic pathways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below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low down metabolism and affect the brain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48440" y="62640"/>
            <a:ext cx="764712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ater Bath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12880" y="4805280"/>
            <a:ext cx="75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emperature set on thermost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cool? Heater kicks on and temperature goes 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warm? Heater stays off until bath cools dow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onstant checking and turning on and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Picture 4" descr="S-2058-1"/>
          <p:cNvPicPr/>
          <p:nvPr/>
        </p:nvPicPr>
        <p:blipFill>
          <a:blip r:embed="rId1"/>
          <a:stretch/>
        </p:blipFill>
        <p:spPr>
          <a:xfrm>
            <a:off x="2590920" y="838080"/>
            <a:ext cx="3924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06400" y="126504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Control of homeostasis through feedback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5142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Feedback system- cycle of events in which the status of a body condition is continually monitored, evaluated, changed, re-monitored, re-evaluated, etc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5" name="Picture 4" descr="j0254474"/>
          <p:cNvPicPr/>
          <p:nvPr/>
        </p:nvPicPr>
        <p:blipFill>
          <a:blip r:embed="rId1"/>
          <a:stretch/>
        </p:blipFill>
        <p:spPr>
          <a:xfrm>
            <a:off x="7238880" y="1295280"/>
            <a:ext cx="141768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1) recep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nsor that responds to changes (stimuli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2) control cent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ts range of values, evaluates input and sends outp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3) effec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receives output from control centre and produces a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3 basic components of a feedback syste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27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 Contr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357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hypothalamus acts as 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st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receives nerve impulses fro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e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ld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moreceptors in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e are also receptors in the hypothalamus- called central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receptors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Picture 4" descr="glakgar_pit_hypothalamus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4091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343400" y="5867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These detect changes in blood temperatur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809880" y="6172200"/>
            <a:ext cx="5335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48:30Z</dcterms:modified>
  <cp:revision>5</cp:revision>
  <dc:subject/>
  <dc:title>temperature reg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