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2B15E-F73B-43AC-863A-2A71A580A4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Krebs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ccurs in the matrix of the mitochondr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erobic phase (requires oxyg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-carbon acetyl CoA joins with a 4-carbon compound to form a 6- carbon compound called Cit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Krebs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ccurs in the matrix of the mitochondr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erobic phase (requires oxyg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-carbon acetyl CoA joins with a 4-carbon compound to form a 6- carbon compound called Cit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tric acid (6C) is gradually converted back to the 4-carbon compou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ready to start the cycle once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rbons removed are released as CO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nzymes controlling this process called decarboxyl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ydrogens, which are removed, join with NAD to form NADH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nzymes controlling the release of hydrogen are called dehydrogen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tric acid (6C) is gradually converted back to the 4-carbon compou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ready to start the cycle once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rbons removed are released as CO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nzymes controlling this process called decarboxyl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ydrogens, which are removed, join with NAD to form NADH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nzymes controlling the release of hydrogen are called dehydrogen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ytochrom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points along pathway where hydrogen is released and temporarily bound to 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coenzyme NADH2 transfers hydrogen to a chain of hydrogen carriers called cytochrom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systems are attached to the cristate of every mitochondr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ytochrom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points along pathway where hydrogen is released and temporarily bound to 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coenzyme NADH2 transfers hydrogen to a chain of hydrogen carriers called cytochrom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systems are attached to the cristate of every mitochondr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fer of hydrogen from each NADH2 along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produces 3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process called oxidative phosphory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lete oxidation of glucose yields 38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2 during glyco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36 during oxidative phosphory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fer of hydrogen from each NADH2 along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produces 3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process called oxidative phosphory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lete oxidation of glucose yields 38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2 during glyco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36 during oxidative phosphory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ole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nal hydrogen accep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bines to form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trolled by enzyme cytochrome oxid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sence of oxygen also essential for hydrogen to pass along the cytochrome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ole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nal hydrogen accep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bines to form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trolled by enzyme cytochrome oxid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sence of oxygen also essential for hydrogen to pass along the cytochrome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C1D2-593D-4226-87D2-279F64D98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81AF-6B1B-498F-BFA0-90F1D0F14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8209-1575-4C70-B21C-3F31DDB65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72D4-E897-43BB-BBFF-4322206BE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0017-97E1-45C2-AA4C-5AD75E845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DBA9-B012-4B10-92C8-1AA48AD19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4874-AE52-4E3A-A87D-E34172DD0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E189-4FE7-4CE3-9FB5-62D7BE0B1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0CC1-7D03-4535-8811-8C27E293A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D6E5-FFC7-4937-87B3-637200EF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F958-68B8-410B-8513-75F51CB70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FC51-D10A-45B2-9B04-DA8E9760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A8E41-FDD9-4E2F-A4E1-3675781917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Krebs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ccurs in the matrix of the mitochondr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erobic phase (requires oxyg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-carbon acetyl Co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joins with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-carbon compou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form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- carbon compoun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e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itr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tric acid (6C) is gradually converted back to the 4-carbon compoun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y to start the cycle once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arbons removed are released as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enzymes controlling this process called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carboxyl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ydrogens, which are removed, join with NAD to form NADH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enzymes controlling the release of hydrogen are called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hydrogen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Krebs cycle"/>
          <p:cNvPicPr/>
          <p:nvPr/>
        </p:nvPicPr>
        <p:blipFill>
          <a:blip r:embed="rId1"/>
          <a:stretch/>
        </p:blipFill>
        <p:spPr>
          <a:xfrm>
            <a:off x="826920" y="189000"/>
            <a:ext cx="7417080" cy="64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Cytochrome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6 points along pathway where hydrogen is released and temporarily bound to N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duced coenzyme NAD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ransfers hydrogen to a chain of hydrogen carriers called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ytochrom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se systems are attached to the cristate of every mitochondr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nsfer of hydrogen from each NAD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o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produces 3 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process called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ve phosphory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plete oxidation of glucose yields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38 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2 during glyco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36 during oxidative phosphory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The cytochrome system"/>
          <p:cNvPicPr/>
          <p:nvPr/>
        </p:nvPicPr>
        <p:blipFill>
          <a:blip r:embed="rId1"/>
          <a:stretch/>
        </p:blipFill>
        <p:spPr>
          <a:xfrm>
            <a:off x="179280" y="1628640"/>
            <a:ext cx="882036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role of oxy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al hydrogen acce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bines to form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trolled by enzym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ytochrome oxid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esence of oxygen also essential for hydrogen to pass along the cytochrome syst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3T11:39:20Z</dcterms:created>
  <dc:creator>hhashmi</dc:creator>
  <dc:description/>
  <dc:language>en-US</dc:language>
  <cp:lastModifiedBy>RomaK</cp:lastModifiedBy>
  <dcterms:modified xsi:type="dcterms:W3CDTF">2015-09-04T11:07:14Z</dcterms:modified>
  <cp:revision>7</cp:revision>
  <dc:subject/>
  <dc:title>The Krebs Cycle</dc:title>
</cp:coreProperties>
</file>