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871F-42DE-47D0-AB6D-D888CF78F0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Krebs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curs in the matrix of the mitochond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erobic phase (requires oxy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-carbon acetyl CoA joins with a 4-carbon compound to form a 6- carbon compound called C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Krebs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curs in the matrix of the mitochond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erobic phase (requires oxy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-carbon acetyl CoA joins with a 4-carbon compound to form a 6- carbon compound called C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ric acid (6C) is gradually converted back to the 4-carbon comp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ady to start the cycle once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rbons removed are released as CO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 controlling this process called decarboxyl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drogens, which are removed, join with NAD to form NADH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 controlling the release of hydrogen are called dehydrogen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ric acid (6C) is gradually converted back to the 4-carbon comp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ady to start the cycle once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rbons removed are released as CO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 controlling this process called decarboxyl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drogens, which are removed, join with NAD to form NADH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 controlling the release of hydrogen are called dehydrogen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tochrom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oints along pathway where hydrogen is released and temporarily bound to 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coenzyme NADH2 transfers hydrogen to a chain of hydrogen carriers called cytochrom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ystems are attached to the cristate of every mitochond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tochrom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oints along pathway where hydrogen is released and temporarily bound to 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coenzyme NADH2 transfers hydrogen to a chain of hydrogen carriers called cytochrom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ystems are attached to the cristate of every mitochond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fer of hydrogen from each NADH2 along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duces 3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cess called oxidative phosphory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te oxidation of glucose yields 38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2 during glyc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36 during oxidative phosphory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fer of hydrogen from each NADH2 along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duces 3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cess called oxidative phosphory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te oxidation of glucose yields 38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2 during glyc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36 during oxidative phosphory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ole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al hydrogen ac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bines to form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rolled by enzyme cytochrome oxid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sence of oxygen also essential for hydrogen to pass along the cytochrom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ole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al hydrogen ac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bines to form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rolled by enzyme cytochrome oxid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sence of oxygen also essential for hydrogen to pass along the cytochrom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5D22-5B98-4D60-A3FF-4BC705445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C673-93EF-4DDA-BC74-F0A4D183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EF52-C235-433D-8D50-C3A246298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B59F-EC16-4771-87E7-0838F418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5A4B-E41B-4662-A662-3D39D170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F82A-1584-42B4-8EE9-2D81854F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3B97-9FD6-4907-BD09-7C7DA4B2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0B6C-B813-454F-8998-FFBD586E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5E32-26FA-4BDA-8F73-F20270F1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B76B-2D13-4750-B23F-ADC4ECC7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6F23-534C-48F9-ADCF-ACECE411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97E9-FEB4-4CDC-83B4-8051DE10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BD46-47E9-40F8-AA05-9E7C544CD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Krebs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ccurs in the matrix of the mitochondr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erobic phase (requires oxyg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-carbon acetyl Co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oins with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-carbon comp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form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- carbon compou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itr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ric acid (6C) is gradually converted back to the 4-carbon compou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y to start the cycle once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rbons removed are released as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enzymes controlling this process called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carboxy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ydrogens, which are removed, join with NAD to form NADH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enzymes controlling the release of hydrogen are called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hydrogen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Krebs cycle"/>
          <p:cNvPicPr/>
          <p:nvPr/>
        </p:nvPicPr>
        <p:blipFill>
          <a:blip r:embed="rId1"/>
          <a:stretch/>
        </p:blipFill>
        <p:spPr>
          <a:xfrm>
            <a:off x="826920" y="189000"/>
            <a:ext cx="741708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Cytochrom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6 points along pathway where hydrogen is released and temporarily bound to N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duced coenzyme NAD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ransfers hydrogen to a chain of hydrogen carriers call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ytochrom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systems are attached to the cristate of every mitochondr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fer of hydrogen from each NAD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o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produces 3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process call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lete oxidation of glucose yield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38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2 during glyco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36 during oxidative phosphor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The cytochrome system"/>
          <p:cNvPicPr/>
          <p:nvPr/>
        </p:nvPicPr>
        <p:blipFill>
          <a:blip r:embed="rId1"/>
          <a:stretch/>
        </p:blipFill>
        <p:spPr>
          <a:xfrm>
            <a:off x="179280" y="1628640"/>
            <a:ext cx="8820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role of oxy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al hydrogen ac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bines to form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olled by enzym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ytochrome oxid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ence of oxygen also essential for hydrogen to pass along the cytochrome sy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11:39:20Z</dcterms:created>
  <dc:creator>hhashmi</dc:creator>
  <dc:description/>
  <dc:language>en-US</dc:language>
  <cp:lastModifiedBy>RomaK</cp:lastModifiedBy>
  <dcterms:modified xsi:type="dcterms:W3CDTF">2015-09-04T11:07:14Z</dcterms:modified>
  <cp:revision>7</cp:revision>
  <dc:subject/>
  <dc:title>The Krebs Cycle</dc:title>
</cp:coreProperties>
</file>