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BCFF-F669-4D2E-A63D-2E7D1B6FF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minar on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plantation Immunology: Organ and Tissue Transplantation Immunosuppressive Agents, Immunosuppressive Therap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r.Pratap J. Pa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eptt. Of Zo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.T.M. Nagpur University, Nagp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ion of Alloreactive T cells and Rejection of Allograf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le of CD4+ and CD8+ T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4+ differentiate into cytokine producing effector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mage graft by reactions similar to D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8+ cells activated by direct pathway kill nucleated cells in the g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8+ cells activated by the indirect pathway are self MHC-restri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le of Cytokines in Graft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 – 2, IFN – , and TNF -  are important mediators of graft rej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 – α promotes T-cell proliferation and generation of T – Lymphocy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N -  is central to the development of DTH respo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NF -  has direct cytotoxic effect on the cells of gra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of cytokines promote graft rejection by inducing expression of class – I or class – II MHC molecule on graft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feron (α,  and ), TNF – α and TNF -  all increases class – I MHC expression, and IFN -  increases class – II MHC expression as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ector Mechanisms of Allograft Reje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er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yper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aracterized by thrombotic occlusion of the g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egins within minutes or hours after anastam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existing antibodies in the host circulation bind to donor endothelial antig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ctivates Complement Casc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enograft 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yper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. Preformed Ab,  2. complement activat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neutrophil margination, 4. inflammat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. Thrombosis 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cular and parenchymal injury mediated by T cells and antibodies that usually begin after the first week of transplantation if there is no immunosuppressant 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idence is high (30%) for the first 90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-cell, macrophage and Ab mediated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ocyte and endothelial damag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lam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in most solid organ trans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dn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ed by fibrosis and vascular abnormalities with loss of graft function over a prolonged peri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rophage – T cell medi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ntric medial hyperpla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DTH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logy of Transplant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issue and Organ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suppressive A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suppressive 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ssue and Organ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 it is possible to transplant many different organs and tissues inclu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ommon transplantation is blood transfu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e Marrow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s : Heart, kidneys, pancrease, lungs, liver and intest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ssues :  include bones, corneas, skin, heart values, veins, cartilage and other connective tiss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ommon Transplant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Blood Transfusion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ransf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e Marrow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for Leukemia, Anemia and immunodeficiency, especially severe combined immunodeficiency (SCI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109 cells per kilogram of host body weight, is injected intravenously into the recipi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ipient of a bone marrow transplant is immunologically suppressed before graf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Leukemia patients are often treated with cyclo-phosphamide and total body irradiation to kill all cancerous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donor bone marrow contains immunocompetent cells, the graft may reject the host, causing graft versus host disease (GVH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ft vs. Host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d by the reaction of grafted mature T-cells in the marrow inoculum with alloantigens of the h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ute GVH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ed by epithelial cell death in the skin, GI tract, and l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GVH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ed by atrophy and fibrosis of one or more of these same target organs as well as the lu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heart transplant in South Africa by Dr. Christian Barnard in 196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year survival rate is &gt;8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LA matching is desirable but not often possible, because of the limited supply of heart and the urgency of the proced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g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attempt in 1963 by Hardy and Co - work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uccessful transplantation by Toronto group in 198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onjunction with heart transplantation, to treat diseases such as cystic fibrosis and emphysema or acute damage to lu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year survival rate is about 6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dney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eases like diabetes and various type of nephritis can be elleviated by kidney transplan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ival rate after one  year transplantation is &gt;9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,000 candidates are waiting for kidney transplan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reat congenital defects and damage from viral (hepatitis) or chemical agents. (Chronic alcoholism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one year survival exceeds 75% and five year is 7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crease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ers a cure for diabetes mellit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ft survival is 72% at one ye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improved if a kidney is transplanted simultaneous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all goal - to prevent the typical diabetic secondary complic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in grafting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d to treat burn victi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severe burn, grafts of foreign skin may be used and rejection must be prevented by the use of immunosuppressive therap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enogeneic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jor barrier to xenogeneic transplantation is the presence of natural antibodies that cause hyperacute reje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suppressive A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suppression can be brought about by 3 different ways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gical ab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Lymphoid Ir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suppressive dru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suppressive Dru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ree main immunosuppressant dru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yclosporins  act by inhibiting T-cell activation, thus preventing T-cells from attacking the transplanted org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zathioprines  disrupt the synthesis of DNA and RNA and cell divis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rticosteroids such as prednisolone  suppress the inflammation associated with transplant rej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lantation immunology - sequence of events that occurs after an allograft or xenograft is removed from donor and then transplanted into a recip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jor limitation to the success of transplantation is the immune response of the recipient to the donor tissu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suppressants can also be classified depending on the specific transpl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siliximab  in combination with  cyclosporin and corticosteroids, in kidney transpla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clizumab  in combination with cyclosporin and corticosteroids, in kidney transpl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uromonab CD3 (Orthoclone OKT3)  along with cyclosporin, in kidney, liver and heart transpl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crolimus is used in liver transplants and is under study for kidney, bone marrow, heart, pancreas, pancreatic island cell, and small bowel transplan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immunosuppressants are also used to treat a variety of autoimmune diseas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athioprine  in treatment of rheumatoid arthritis , chronic ulcerative colitis but limited va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osporin  is used in heart, liver, kidney, pancreas, bone marrow and heart/lung transplantation. Also used to treat psoriasis and rheumatoid arthritis, multiple sclerosis, diabetes and myesthenia gravi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tiramer acetate  is used in treatment of relapsing-remitting multiple sclerosi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cophenolate is used along with cyclosporin in kidney, liver and heart transplants. Also  used to prevent the kidney problems associated with lupus erythematos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rolimus  in combination with cyclosporin and corticosteroids, in kidney transplants. The drug is also used for the treatment of psoria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suppressive 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clonal antibod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uppress the activity of subpopulation of T-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block co-stimulatory sign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to the CD3 molecule of TCR (T cell receptor) complex results in a rapid depletion of mature T-cells from the circul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specific for the high-affinity IL-2 receptor is expressed only on activated T-cell, blocks proliferation of T-cells activated in response to the alloantigens of the gra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treat donor’s bone marrow before it is transplan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cules present on particular T-cells subpopulation may also be targeted for immunosuppressive therap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body to CD4 shown to prolong graft surviv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specific for implicated cytokine can prolong the survival of gra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50,000 people, waiting for compatible donor. For ethical an practical reasons, species closely related to human such as Chimpanzee have not been widely u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enogeneic transplantation may be major issue of research xenograft technology including genetically modified animal may become a new source of organ supp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effects of immunosuppressive agent use for graft need a change of specificity in action and avoiding general immune sup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chniques such as transgenic animal production and wide range of research in this field hope to result in opening a new window for the process of transplantation immu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logy by – Janis Ku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logy by – Abdul Ab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logy by – Roi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damental Immunology by – William E. Pa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 from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organtransplants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transweb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organdonor.we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Referenc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Immunology by – Janis Kub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Immunology by – Abdul Abba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Immunology by – Roit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undamental Immunology by – William E. Paul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Information from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organtransplants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transweb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organdonor.web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Transpl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ograft is self-tissue transferred from one body site to another in the same individu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graft is tissue transferred between genetically identical individu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graft is tissue transferred between genetically different members of the same spec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enograft is tissue transferred between different spec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logy of Transplant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mponents of the Immune system involved in graft Rejec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) Antigen presenting cell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endritic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croph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ctivated B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) B cells and antibodi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formed antibo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atural antibo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formed antibodies from prior  sensat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duced antibo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) T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) Other cell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atural killer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 cells that express NK cell – associated Mar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nocytes/Macroph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munology of Allogeneic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gnition of transplanted cells that are self or foreign is determined by polymorphic genes (MHC) that are inherited from both parents and are expressed co-dominant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antigens elicit both cell-mediated and humoral immune respon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gnition of Alloantig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gnition of an intact MHC molecule displayed by donor APC in the g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ally, self MHC molecule recognizes the structure of an intact allogeneic MHC molec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olves both CD8+ and CD4+ T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rect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or MHC is processed and presented by    recipient A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ally, donor MHC molecule is handled like any other foreign anti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olve only CD4+ T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gen presentation by class II MHC molecu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ion of Alloreactive T cells and Rejection of Allograf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or APCs migrate to regional lymph nodes and are recognized by the recipient’s TH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reactive TH cells in the recipient induce generation of TDTH cell and CTLs then migrate into the graft and cause graft rej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AD51D-FDA8-4717-8D0C-6866D558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EF773-7D10-4F37-A757-A9896260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6CB92-898C-40A2-8768-6E9B80D3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9E3A9-3F12-4614-A716-2D67DAEC7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8CCC-DF0F-4940-B960-EA56E048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82BF-ECFC-4FE5-88B3-8D82CA2A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D4E9-786B-4F2D-BB3D-8F53F9BC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025B-6BBE-4F80-8EAB-432D8E5C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47A5-5C80-4EF2-9038-F7FECE19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44AD-DE0E-40F7-A03D-DD27FE47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D27F-A0C0-43F6-BFA5-D49BD87D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43E64-1F63-4333-B0A0-C3B15168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8815-AD0E-4174-8A54-F684776E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A99C-E970-42EE-B582-9EA694F5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5A23-DBA5-4480-8EF0-7D571946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281E-0A71-4A3F-A62A-201D1732C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3BC5-28AF-4B5B-B09C-A5F032F6B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01DA6-438F-4910-9804-B978E083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C38CE-8CB5-4DEE-AAEF-E882D257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D547A-BFBF-46EA-A585-F3CC421D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351FB-D821-42C1-BDF1-F1DE7FCE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AC31F-2704-473D-99AA-03622B36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E2D6E-F0EE-4A79-B0DE-FB2BFF50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45EF9-4659-43DD-88B1-09324110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3F4C-0F78-42F1-B823-7A4D5852FA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2524-43DC-4E43-93C5-611A332042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Seminar on</a:t>
            </a:r>
            <a:br>
              <a:rPr sz="2400"/>
            </a:br>
            <a:br>
              <a:rPr sz="24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ransplantation Immunology: Organ and Tissue Transplantation Immunosuppressive Agents, Immunosuppressive Therapy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r.Pratap J. Pat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ptt. Of Zo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.T.M. Nagpur University, Nagpu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914400" y="380880"/>
            <a:ext cx="693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ctivation of Alloreactive T cells and Rejection of Allograf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8" name="Object 3"/>
          <p:cNvGraphicFramePr/>
          <p:nvPr/>
        </p:nvGraphicFramePr>
        <p:xfrm>
          <a:off x="1219320" y="2362320"/>
          <a:ext cx="6629400" cy="35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62320"/>
                    <a:ext cx="662940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le of CD4</a:t>
            </a:r>
            <a:r>
              <a:rPr b="1" lang="en-US" sz="4400" spc="-1" strike="noStrike" baseline="30000">
                <a:solidFill>
                  <a:srgbClr val="e5e5ff"/>
                </a:solidFill>
                <a:latin typeface="Garamond"/>
              </a:rPr>
              <a:t>+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and CD8</a:t>
            </a:r>
            <a:r>
              <a:rPr b="1" lang="en-US" sz="4400" spc="-1" strike="noStrike" baseline="30000">
                <a:solidFill>
                  <a:srgbClr val="e5e5ff"/>
                </a:solidFill>
                <a:latin typeface="Garamond"/>
              </a:rPr>
              <a:t>+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 Cel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D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ifferentiate into cytokine producing effector ce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mage graft by reactions similar to D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D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s activated by direct pathway kill nucleated cells in the graf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D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s activated by the indirect pathway are self MHC-restric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le of Cytokines in Graft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8284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L – 2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N –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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 and TNF -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re important mediators of graft rejec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L – α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motes T-cell proliferation and generation of T – Lymphocyt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FN -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central to the development of DTH respons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TNF -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s direct cytotoxic effect on the cells of graf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number of cytokines promote graft rejection by inducing expression of class – I or class – II MHC molecule on graft cel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interferon (α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, TNF – α and TNF -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ll increases class – I MHC expression, and IFN -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ncreases class – II MHC expression as wel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ffector Mechanisms of Allograft Rejection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90920" y="2666520"/>
            <a:ext cx="624816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yperacute Rej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ute Rej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ronic Rej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yperacute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racterized by thrombotic occlusion of the graf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gins within minutes or hours after anastamo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-existing antibodies in the host circulation bind to donor endothelial antige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ivates Complement Casc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Xenograft Respon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yperacute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-128520" y="4836960"/>
            <a:ext cx="8756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Preformed Ab,  2. complement activation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neutrophil margination, 4. inflammation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 Thrombosis 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5" descr="16_07"/>
          <p:cNvPicPr/>
          <p:nvPr/>
        </p:nvPicPr>
        <p:blipFill>
          <a:blip r:embed="rId1"/>
          <a:srcRect l="11670" t="6400" r="26736" b="71684"/>
          <a:stretch/>
        </p:blipFill>
        <p:spPr>
          <a:xfrm>
            <a:off x="689040" y="1598760"/>
            <a:ext cx="7688160" cy="30510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ute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scular and parenchymal injury mediated by T cells and antibodies that usually begin after the first week of transplantation if there is no immunosuppressant therap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idence is high (30%) for the first 90 da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16_07"/>
          <p:cNvPicPr/>
          <p:nvPr/>
        </p:nvPicPr>
        <p:blipFill>
          <a:blip r:embed="rId1"/>
          <a:srcRect l="12408" t="30977" r="26439" b="40194"/>
          <a:stretch/>
        </p:blipFill>
        <p:spPr>
          <a:xfrm>
            <a:off x="1376280" y="1211400"/>
            <a:ext cx="6616800" cy="359712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ute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5280" y="4800600"/>
            <a:ext cx="739152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-cell, macrophage and Ab mediated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yocyte and endothelial damage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lam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ronic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ccurs in most solid organ transpla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a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idne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u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v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racterized by fibrosis and vascular abnormalities with loss of graft function over a prolonged peri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6_07"/>
          <p:cNvPicPr/>
          <p:nvPr/>
        </p:nvPicPr>
        <p:blipFill>
          <a:blip r:embed="rId1"/>
          <a:srcRect l="12688" t="61661" r="28317" b="9862"/>
          <a:stretch/>
        </p:blipFill>
        <p:spPr>
          <a:xfrm>
            <a:off x="1143000" y="1092240"/>
            <a:ext cx="6477120" cy="36068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ronic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360" y="464796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crophage – T cell media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centric medial hyperplas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ronic DTH rea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t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munology of Transplant Reje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ssue and Organ Transpla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munosuppressive Ag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munosuppressive Therap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er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issue and Organ Transpla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day it is possible to transplant many different organs and tissues includ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st common transplantation is blood transfus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ne Marrow transpla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s : Heart, kidneys, pancrease, lungs, liver and intesti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ssues :  include bones, corneas, skin, heart values, veins, cartilage and other connective tissu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ost Common Transplantation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-Blood Transfusion-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rcRect l="24511" t="12706" r="23530" b="42597"/>
          <a:stretch/>
        </p:blipFill>
        <p:spPr>
          <a:xfrm>
            <a:off x="380880" y="1447920"/>
            <a:ext cx="8610840" cy="46544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4"/>
          <p:cNvSpPr/>
          <p:nvPr/>
        </p:nvSpPr>
        <p:spPr>
          <a:xfrm>
            <a:off x="838080" y="6324480"/>
            <a:ext cx="914400" cy="3049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800000" y="621828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ransfu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505320" y="6324480"/>
            <a:ext cx="91440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4582440" y="621828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 transfus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ne Marrow Transpla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ed for Leukemia, Anemia and immunodeficiency, especially severe combined immunodeficiency (SCID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bout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cells per kilogram of host body weight, is injected intravenously into the recipie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cipient of a bone marrow transplant is immunologically suppressed before graft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g. Leukemia patients are often treated with cyclo-phosphamide and total body irradiation to kill all cancerous cell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cause the donor bone marrow contains immunocompetent cells, the graft may reject the host, causing graft versus host disease (GVHD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aft vs. Host Disea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used by the reaction of grafted mature T-cells in the marrow inoculum with alloantigens of the h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ute GVH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aracterized by epithelial cell death in the skin, GI tract, and liv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ronic GVH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aracterized by atrophy and fibrosis of one or more of these same target organs as well as the lun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Heart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rst heart transplant in South Africa by Dr. Christian Barnard in 1964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ne year survival rate is &gt;80%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LA matching is desirable but not often possible, because of the limited supply of heart and the urgency of the procedu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Lung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rst attempt in 1963 by Hardy and Co - work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rst successful transplantation by Toronto group in 1983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conjunction with heart transplantation, to treat diseases such as cystic fibrosis and emphysema or acute damage to lung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rst year survival rate is about 60%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Kidney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seases like diabetes and various type of nephritis can be elleviated by kidney transplant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rvival rate after one  year transplantation is &gt;90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,000 candidates are waiting for kidney transplant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Liver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treat congenital defects and damage from viral (hepatitis) or chemical agents. (Chronic alcoholism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ver one year survival exceeds 75% and five year is 70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533160"/>
            <a:ext cx="8153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Pancrease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ffers a cure for diabetes mellitu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raft survival is 72% at one yea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urther improved if a kidney is transplanted simultaneousl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verall goal - to prevent the typical diabetic secondary complication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Skin grafting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is used to treat burn victim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severe burn, grafts of foreign skin may be used and rejection must be prevented by the use of immunosuppressive therapy.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Xenogeneic Transpla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major barrier to xenogeneic transplantation is the presence of natural antibodies that cause hyperacute rejec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osuppressive Ag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Immunosuppression can be brought about by 3 different ways 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rgical ab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tal Lymphoid Irradi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munosuppressive dru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osuppressive Drug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Three main immunosuppressant drug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yclosporins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ct by inhibiting T-cell activation, thus preventing T-cells from attacking the transplanted orga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zathioprine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disrupt the synthesis of DNA and RNA and cell divisio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orticosteroid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such as prednisolone  suppress the inflammation associated with transplant rejec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ro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nsplantation immunology - sequence of events that occurs after an allograft or xenograft is removed from donor and then transplanted into a recipi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major limitation to the success of transplantation is the immune response of the recipient to the donor tissu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Immunosuppressants can also be classified depending on the specific transplant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Basiliximab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in combination with  cyclosporin and corticosteroids, in kidney transplant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Daclizumab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in combination with cyclosporin and corticosteroids, in kidney transpla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muromonab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D3 (Orthoclone OKT3)  along with cyclosporin, in kidney, liver and heart transpla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Tacrolimus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used in liver transplants and is under study for kidney, bone marrow, heart, pancreas, pancreatic island cell, and small bowel transplant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6094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Some immunosuppressants are also used to treat a variety of autoimmune diseas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Azathioprin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in treatment of rheumatoid arthritis , chronic ulcerative colitis but limited valu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Cyclosporin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is used in heart, liver, kidney, pancreas, bone marrow and heart/lung transplantation. Also used to treat psoriasis and rheumatoid arthritis, multiple sclerosis, diabetes and myesthenia gravi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Glatiramer acetate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is used in treatment of relapsing-remitting multiple sclerosi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Mycophenolat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is used along with cyclosporin in kidney, liver and heart transplants. Also  used to prevent the kidney problems associated with lupus erythematosu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Sirolimu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in combination with cyclosporin and corticosteroids, in kidney transplants. The drug is also used for the treatment of psoriasi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osuppressive Therap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Monoclonal antibodie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 suppress the activity of subpopulation of T-cel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 block co-stimulatory signa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b to the CD3 molecule of TCR (T cell receptor) complex results in a rapid depletion of mature T-cells from the circulation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b specific for the high-affinity IL-2 receptor is expressed only on activated T-cell, blocks proliferation of T-cells activated in response to the alloantigens of the graf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 treat donor’s bone marrow before it is transplanted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olecules present on particular T-cells subpopulation may also be targeted for immunosuppressive therap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tibody to CD4 shown to prolong graft survival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b specific for implicated cytokine can prolong the survival of graf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clu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6840" y="10663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re than 50,000 people, waiting for compatible donor. For ethical an practical reasons, species closely related to human such as Chimpanzee have not been widely us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Xenogeneic transplantation may be major issue of research xenograft technology including genetically modified animal may become a new source of organ suppl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de effects of immunosuppressive agent use for graft need a change of specificity in action and avoiding general immune suppress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chniques such as transgenic animal production and wide range of research in this field hope to result in opening a new window for the process of transplantation immunolog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"/>
          <p:cNvSpPr/>
          <p:nvPr/>
        </p:nvSpPr>
        <p:spPr>
          <a:xfrm>
            <a:off x="380880" y="862200"/>
            <a:ext cx="815364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Referenc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mmunology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Janis Ku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mmunology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Abdul Abb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mmunology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Roit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Fundamental Immunology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William E. Pau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nformation from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ww.organtransplants.or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ww.transweb.or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ww.organdonor.we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920" y="26665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Garamond"/>
              </a:rPr>
              <a:t>Thank you !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533520" y="609480"/>
            <a:ext cx="815328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Types of Transpl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utograf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self-tissue transferred from one body site to another in the same individua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sograf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tissue transferred between genetically identical individual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llograf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tissue transferred between genetically different members of the same speci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Xenograft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tissue transferred between different spec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ology of Transplant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Components of the Immune system involved in graft Rejection 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)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Antigen presenting cells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endritic ce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acrophag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ctivated B Ce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)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B cells and antibodies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eformed antibodi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tural antibodi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eformed antibodies from prior  sensatiz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nduced antibodi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)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T ce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)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Other cells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tural killer ce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 cells that express NK cell – associated Marker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onocytes/Macrophag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 Immunology of Allogeneic Transplant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ognition of transplanted cells that are self or foreign is determined by polymorphic genes (MHC) that are inherited from both parents and are expressed co-dominant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oantigens elicit both cell-mediated and humoral immune respons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cognition of Alloantige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Direct Present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cognition of an intact MHC molecule displayed by donor APC in the graf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ally, self MHC molecule recognizes the structure of an intact allogeneic MHC molecu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volves both CD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and CD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T cel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rcRect l="20916" t="11719" r="20255" b="66604"/>
          <a:stretch/>
        </p:blipFill>
        <p:spPr>
          <a:xfrm>
            <a:off x="1143000" y="3809880"/>
            <a:ext cx="70102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838080" y="685800"/>
            <a:ext cx="72392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Indirect Present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onor MHC is processed and presented by    recipient AP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ally, donor MHC molecule is handled like any other foreign antig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volve only CD4+ T cel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tigen presentation by class II MHC molecul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1"/>
          <a:srcRect l="20916" t="32948" r="20255" b="36024"/>
          <a:stretch/>
        </p:blipFill>
        <p:spPr>
          <a:xfrm>
            <a:off x="1219320" y="3809880"/>
            <a:ext cx="670536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ctivation of Alloreactive T cells and Rejection of Allograf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nor APCs migrate to regional lymph nodes and are recognized by the recipient’s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oreactive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s in the recipient induce generation of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DT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 and CTLs then migrate into the graft and cause graft reje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2:01:14Z</dcterms:created>
  <dc:creator>Matt Stacy</dc:creator>
  <dc:description/>
  <dc:language>en-US</dc:language>
  <cp:lastModifiedBy>RomaK</cp:lastModifiedBy>
  <dcterms:modified xsi:type="dcterms:W3CDTF">2015-09-04T10:48:47Z</dcterms:modified>
  <cp:revision>57</cp:revision>
  <dc:subject/>
  <dc:title>Transplantation Immunology</dc:title>
</cp:coreProperties>
</file>