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41.jpeg" ContentType="image/jpeg"/>
  <Override PartName="/ppt/media/image28.jpeg" ContentType="image/jpeg"/>
  <Override PartName="/ppt/media/image7.jpeg" ContentType="image/jpeg"/>
  <Override PartName="/ppt/media/image12.gif" ContentType="image/gif"/>
  <Override PartName="/ppt/media/image30.png" ContentType="image/png"/>
  <Override PartName="/ppt/media/image29.jpeg" ContentType="image/jpeg"/>
  <Override PartName="/ppt/media/image31.jpeg" ContentType="image/jpeg"/>
  <Override PartName="/ppt/media/image19.jpeg" ContentType="image/jpeg"/>
  <Override PartName="/ppt/media/image34.png" ContentType="image/png"/>
  <Override PartName="/ppt/media/image13.png" ContentType="image/png"/>
  <Override PartName="/ppt/media/image37.png" ContentType="image/png"/>
  <Override PartName="/ppt/media/image20.png" ContentType="image/png"/>
  <Override PartName="/ppt/media/image36.jpeg" ContentType="image/jpeg"/>
  <Override PartName="/ppt/media/image4.jpeg" ContentType="image/jpeg"/>
  <Override PartName="/ppt/media/image40.png" ContentType="image/png"/>
  <Override PartName="/ppt/media/image11.png" ContentType="image/png"/>
  <Override PartName="/ppt/media/image9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  <p:sldId id="283" r:id="rId58"/>
    <p:sldId id="284" r:id="rId59"/>
    <p:sldId id="285" r:id="rId60"/>
    <p:sldId id="286" r:id="rId61"/>
    <p:sldId id="287" r:id="rId62"/>
    <p:sldId id="288" r:id="rId63"/>
    <p:sldId id="289" r:id="rId64"/>
    <p:sldId id="290" r:id="rId65"/>
    <p:sldId id="291" r:id="rId66"/>
    <p:sldId id="292" r:id="rId67"/>
    <p:sldId id="293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slide" Target="slides/slide28.xml"/><Relationship Id="rId59" Type="http://schemas.openxmlformats.org/officeDocument/2006/relationships/slide" Target="slides/slide29.xml"/><Relationship Id="rId60" Type="http://schemas.openxmlformats.org/officeDocument/2006/relationships/slide" Target="slides/slide30.xml"/><Relationship Id="rId61" Type="http://schemas.openxmlformats.org/officeDocument/2006/relationships/slide" Target="slides/slide31.xml"/><Relationship Id="rId62" Type="http://schemas.openxmlformats.org/officeDocument/2006/relationships/slide" Target="slides/slide32.xml"/><Relationship Id="rId63" Type="http://schemas.openxmlformats.org/officeDocument/2006/relationships/slide" Target="slides/slide33.xml"/><Relationship Id="rId64" Type="http://schemas.openxmlformats.org/officeDocument/2006/relationships/slide" Target="slides/slide34.xml"/><Relationship Id="rId65" Type="http://schemas.openxmlformats.org/officeDocument/2006/relationships/slide" Target="slides/slide35.xml"/><Relationship Id="rId66" Type="http://schemas.openxmlformats.org/officeDocument/2006/relationships/slide" Target="slides/slide36.xml"/><Relationship Id="rId67" Type="http://schemas.openxmlformats.org/officeDocument/2006/relationships/slide" Target="slides/slide37.xml"/><Relationship Id="rId68" Type="http://schemas.openxmlformats.org/officeDocument/2006/relationships/slide" Target="slides/slide38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BB16-18A1-4A7E-A0DC-E56BCC9AE7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&amp;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put together by Mandie Lynn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&amp;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put together by Mandie Lynn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NA into 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 Retrovirus is HI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NA into 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 Retrovirus is HI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, "minimal" retrovirus consists o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er envelope which was derived from the plasma membrane of its h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n envelope protein embedded in the lipid bilayer of its enve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sid; a protein shell conta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lecules of RNA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of the enzyme 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, "minimal" retrovirus consists o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er envelope which was derived from the plasma membrane of its h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n envelope protein embedded in the lipid bilayer of its enve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sid; a protein shell conta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lecules of RNA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of the enzyme 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larger of the two prokaryote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are surrounded by a cell wall composed of complex carbohyd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larger of the two prokaryote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are surrounded by a cell wall composed of complex carbohyd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ish-greenish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membranes that carry out the process of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ontain the same type of chloroplasts as plant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luish-greenish algae can be found nearly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urvive in extremely hot environments and even extremely col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ish-greenish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membranes that carry out the process of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ontain the same type of chloroplasts as plant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luish-greenish algae can be found nearly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urvive in extremely hot environments and even extremely col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important carbohydrate found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ifferent lipids in their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gene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 can live in extremely harsh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important carbohydrate found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ifferent lipids in their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gene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 can live in extremely harsh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us is a non-cellular particle made up of genetic material and protein that can invade living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us is a non-cellular particle made up of genetic material and protein that can invade living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+ and Gram – Bacterium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+ and Gram – Bacterium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nature of a cell wall can be determined by Gram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inding out what color the cell produces when it is gram stained you can figure out the type of carbohydrates in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nature of a cell wall can be determined by Gram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inding out what color the cell produces when it is gram stained you can figure out the type of carbohydrates in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gella ~ Tail like structure the whips around to propel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lia ~ Miniature flagella surround the cell that help to “swi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motile ~ Sticky cillia like structures that keep the bacterium from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gella ~ Tail like structure the whips around to propel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lia ~ Miniature flagella surround the cell that help to “swi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motile ~ Sticky cillia like structures that keep the bacterium from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and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and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ir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Sola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ir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Sola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live with or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live without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live with or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live without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4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4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 Formation: Endos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dormant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 no sign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istant to environmental stresse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gh temper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sinfe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 Formation: Endos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dormant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 no sign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istant to environmental stresse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gh temper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sinfe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relationship between to species in which at least one species benefits from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together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relationship between to species in which at least one species benefits from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together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Fix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Fix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pes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pes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herichia Coli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is a bacterium.  That is a crude cell, it is not a virus because viruses are protein containers with DNA cores or RNA c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herichia Coli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is a bacterium.  That is a crude cell, it is not a virus because viruses are protein containers with DNA cores or RNA c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and the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t looks like in re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and the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t looks like in re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re composed of a core of nucle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acid core is surrounded by a protein coat called a cap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core is either made up of DNA or RNA but neve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re composed of a core of nucle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acid core is surrounded by a protein coat called a cap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core is either made up of DNA or RNA but neve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of Lytic and Lysogen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of Lytic and Lysogen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grown on chicken embryos are attenuated 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ype of vaccine is made by heat killing the viru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grown on chicken embryos are attenuated 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ype of vaccine is made by heat killing the viru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2E83A-F809-4C3D-B249-A49FCEA0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4263D-BDA3-46AA-A836-1647D575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5E1B1-210E-44AB-99E9-94D2C68F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ADD2D-B4D6-4AAE-B359-6BC692D3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4F3C8-429C-4766-ACDD-886D890C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A9304-B635-413C-8996-D719905E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3727C-F378-434D-A88E-5EB78FFC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D440A-E906-440B-8E63-0D12363F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B1405-FDE4-4971-A289-EB2A9306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A89D6-6716-46A9-B2E8-2AE1E1C6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34447-34C8-42DD-BD1A-6BA42690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6AA61-C776-4A79-A88D-F8D702A2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EC176-80DD-4EDF-AF47-DDEEB8B9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14F1A8-1DBC-4CCB-8147-FCBC50EB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A65B7-69EB-428C-A4F1-40698DC4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D4781A-8496-4F72-9A62-99DFC8E7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754D3-2370-4F74-BC36-4A504CE2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97017-A2D6-4BF5-B791-DBC24713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82AD1-65EC-43E7-B82C-A6A39E5E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188B11-F1E8-4B5E-AC0B-A8C4142C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9B4600-2333-4DE2-A6F4-3BB7FC29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4713FB-2E7C-4593-A812-BA9EF710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EEC88-809B-4E2E-AA94-7631FFBF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B4FB8-E1FA-459E-95C8-D996FBF6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C204CC-DD35-4F36-B9C7-D9EB95C7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F453D-1270-4414-95AF-F7389A7B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02F0D-A1FD-4F38-A7F6-2E085C5E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5E940-FEBC-43D4-9529-F2892236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25117-3BB9-4DF9-A859-2871C46C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A72A2-6F74-4695-9BA2-54A8336B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D4562-7624-46FB-9A97-FD20AEC6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CE37F-2D03-4C6F-810D-FB638D6F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8B702-43A0-4162-B180-7EAC53DA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69863-DF1D-44F6-A017-C1E403E5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06BE5-5863-4AEF-9122-B91CBE50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9AA84-38BC-4564-8B49-5539AF0E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73687-EE5D-4FAF-840B-CF95B004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212D4-DC18-4F89-91DA-3744A524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86146-6F80-44A1-87BD-28CC6495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2521B-5D17-41AB-98F2-2BAF831D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191A2-4330-4122-BB55-58BDC9DE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4109C-1A4A-409D-8DD3-515C2773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9F337-CF0C-4F7E-8D4A-E2779281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3EB48-F7A3-4357-93C8-B58DF905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5A55B-41B2-4C2A-94FA-1847A4B5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70964-5297-4741-B3CD-CF66C177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FACA9-C1F5-4BCE-9544-5041FC1B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4F451-522D-451E-9239-8293FF65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24E82-0306-4F63-9C5F-6B8EDA8D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7F2F1-020C-4F21-A84A-E9EE0695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469BC-E3DB-4DD8-A6C7-02861BC0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7303A7-E4DF-4850-A802-1F69AB34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6C0DE-C814-44AC-8EC7-F3066F9B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D726A0-7685-4FAD-B048-5A89FF85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B44AE-B523-49C0-81EC-2F975A8C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D9EDDB-C808-47CA-A377-BC0C785F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D55EA-8EB1-44E8-8623-45022A83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BF03CF-87C6-4FA7-9F38-4711BCA9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081DE-5623-49F8-832F-A413A573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C5EEA-359A-4805-AC83-92C3AF6B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ECC12-52FD-4CC0-BA54-33029388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BD06C-25BE-40B7-8BE8-7CDEB741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D4AB8-F9D6-48F3-8B54-B441E6A4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F00F5-D2E1-4723-9F10-9C049CF9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D71278-21A8-4BE2-89BD-B437BD83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6B6877-6AD1-4C60-9D51-45818597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F510B-850F-4838-8C64-3EB92035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137BD-D336-487C-8D8C-23E722D0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D1D5B4-9A9B-4855-82D2-1A37B668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2C2AD-AC9D-4EEA-A090-405919F7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951440-2B57-4A2E-8583-C505C917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17496-CDBC-4848-9285-750FAA53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8A77AD-61A9-4E24-B095-EE907A6B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CC9545-FA1A-4177-B18D-FAC6304A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07367C-DA76-48C7-977E-987DB2B9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D03016-E154-4797-8E39-3879B242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5D304D-AEEE-4E7C-AE3D-8FF19A2C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BEE608-6A6F-4C04-8765-192DD705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48FE8-A43F-434D-96A7-8A78DDEA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6D7D1-F47A-4B14-B555-85B546BE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5CBA0B-F5D1-47F2-8997-CE36C6BC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0D05BF-0E57-43FA-83AE-D9E80019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2034D2-8084-45BC-A7A1-20130D66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992674-2E6C-4864-82BF-A8442BB2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760BBC-51F2-41E7-9B4B-FAEC04D3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06FF3B-E09B-44D3-AC50-A58C7ED6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E0FC2F-60F5-4865-B7FE-4C11F6E5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82D005-E233-4F9A-95B3-F85EE3CE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D1EC70-7552-490D-88FD-5031E884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C536B-DD97-487E-A76E-AC66674C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FFE141-DE8E-43A1-8A34-4D8D2FFF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167FE9-845A-4F90-8349-1D70470C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844AB2-3989-4602-A5FA-C1E8D737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9E9187-6477-4C44-9D43-47AFDA07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91A7D-B03C-4413-8D5A-0852228E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F5EEEE-6A72-4E8A-A2BB-1376B90E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8099B4-57F6-4EF1-B958-80D8FBD6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FBE56D-974C-4705-B871-E94D1E51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DE841B-AE4A-4C7A-AB94-5C26494B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9A000B-8269-4A5F-8FB0-DA589EF1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5D452-0E7F-4AE2-A94D-83683E7C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5C3731-1CBF-4D7D-A042-DB59DDB8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3A7BAE-1BB9-416F-A535-6E2A0EBF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0E929A-60C2-405E-92CC-F3244A75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E7F226-0505-4353-BE51-8B4A5823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57C009-15FF-4A56-A56E-C9026D45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846714-1C6B-409B-BBB9-57CB8CC1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2EE718-DB50-4994-B438-41C31126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D9B797-A05C-41C7-BDE8-EDF49A0B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2B6923-5726-4E77-901B-5F9CEFFC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ED87E6-E5B6-450F-A86B-9E965B77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69142-B851-4A99-8FA3-BB17C115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55DF5-F2B5-41A9-9DC4-28F14C79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265194-7629-4D56-B0F8-83229110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A0E0E8-EFD4-4C38-95F0-20A3F142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25BAFF-2057-45B9-88CB-14936132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966F85-95B8-4EEA-886E-6B55EF99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27BC25-B7FD-4D3C-86CD-E27805C9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245A9D-9848-4633-9D94-5556E7D2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CFD445-03E5-4411-B16B-89AB81B9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ED8433-6458-45AE-8B92-569FE6FC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070948-8850-4FD7-B736-359142BB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EAC9B9-FB99-4467-B451-CBFEEEAA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40A4E-4741-4D53-9BE8-8276224D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CABA50-8764-49AE-89CF-8D63E5E1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272AC3-C2A6-427C-8A54-A26388C1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3DA3E0-A083-43D1-9223-5C73D364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79D198-8FE9-4150-946E-E9F97570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064406-55A3-49FA-90A9-14C3A4C1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7497D0-E336-41F3-8305-594EBD5F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0D98BD-941F-4D78-8437-D718070B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180C21-048D-467F-BCDB-70428DDD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D23965-D036-4905-AB91-B8D2AA0A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A617AE-EB01-4378-B357-34FF1CA3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FEAF9-BA31-48D5-A669-EFB53998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2AB353-859D-408D-BC63-360547ED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F3C9B4-972B-4C5E-97B2-2436D238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8AC522-8DC8-44A2-B561-6710A767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6DD52D-51EE-42DC-B651-E47B1C51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6D9FBA-EF0E-4810-B218-0C3A5BA9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2F386C-7D17-4A6D-B057-57A22EC7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8F9FF1-E8EF-4515-920E-23E8CC5E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1CE5DE-F605-4181-9A6B-688B49FD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299D27-826E-4D7D-BA29-F744D843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CA4D23-A77E-4BDA-A9B9-5A96EDB3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DF3D5-37A0-4489-AEFC-66AC4A71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C923B6-11CE-46FF-B27B-10738ABA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6669A1-A6C9-4571-BB5E-DA75C384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C34FEB-E28C-4FC6-ADA2-0CD83AA3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D3DA91-E94C-4F4F-BE85-D2AF1CC4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557865-8FF0-4758-88CD-FB04017B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94DC9D-1DC7-4DDA-8A6B-BDE0ED13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3C01D8-5B2B-4B7E-9D61-70E720DD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6BE044-133C-4326-B12F-47A5353C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BA89C4-CF52-428A-A13D-9CD26367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C14346-B8E9-450E-BBFF-B5AAF8C1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753DF-B377-472D-9A61-01639FAA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1239CB-6A01-46AF-86D9-05472706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97B89A-62A7-4E0E-B72B-3B638F28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CCA33C-CEA2-4FC7-A6BC-B7A5374A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CED630-5E42-4EB1-9AF7-17E55486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24FFE3-A504-4632-BF74-2E30010A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24D73D-1FB8-4D7D-9C5E-FB68E23E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99D410-CC0D-41CA-8715-6624CBD1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C1FC10-CA9C-4DB8-8FAB-8A51F2AD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2842A9-CDA9-4E91-AFC6-625FA4FA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D03956-20CF-41C0-81E2-1B79FB52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594CF-62D2-48B2-A98F-5F96F808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A6E4A8-8097-4FB9-8E9A-C862B7A6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EF66F5-ABBA-4FD9-A1C8-D1C9E2C0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FB8A02-3A4B-45D1-AD9B-4BEFAAF5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097D8A-0C7E-44D4-9A78-D18D376C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70B8E6-2AC8-4B22-B675-62166A31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0A0D5D-CBC6-49E6-BCCD-501FCF06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E71617-4B34-46C9-8C9B-F26001B8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07DFB7-D797-4C3C-AEE2-E5B539DF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1691D5-2BAC-4C8F-A426-166C09EB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736F7F-DBC8-491F-BC4D-7AFE4C4A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83D59-24E3-4BD9-9DAC-86D5EBAF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39F15E-D015-44E4-9880-54BE1F38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9DAEE9-6891-479F-88FF-6CF637CE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6DD87E-5C82-4D86-9B14-32185147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F043EE-80ED-4157-BB64-10F2E812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45FDA1-2EDE-425A-951E-E2DB4A12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A9CAD9-BE3D-4ACD-AAB4-00B4FB1A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8DAD0D-06C1-454F-884A-1F7D138C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7502A7-8F9F-4C77-9B50-0CF28110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E54669-3B5D-4B46-8E81-A91F3DF4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6EEB0E-D0CB-4A91-A188-5291FC50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D62F5-016B-4F16-974B-5FFDD7A3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1B2885-C190-4A51-970C-E91679E4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47A72B-0B76-4D1C-80FD-40D2C3B6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90FC24-AB6C-4777-9C86-B65F7990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EB5CA1-CCF3-4ECE-AEC8-E8FB3F8E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0CB720-D2A2-425D-8CE5-3A40FAF1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16E4BC-2A3B-4165-9019-1D0DBAF6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BE5C2E-DBA0-46E5-94EC-CA82FF90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9F93EF-BEBE-4E5F-8668-F8081355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E6B7E5-600E-48FB-A641-2F89B599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0DB2EB-8055-4B37-9F14-5ECFCA0F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84B14-09A5-420F-927D-DB229178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9C0495-E220-408C-B483-B292CF73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6CD67C-4FB4-4FA0-94C3-2F9A7BBC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6A00FB-A220-4E80-AB82-2B88BD9E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B52FF1-11E0-4B58-9D43-859BF691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6DD16C-A794-4650-8FBB-EF310E0C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C7644C-73FF-4555-ACED-DF4CC53A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B93071-E1F1-40A9-ACEA-85D652F2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BF66AC-3E14-407E-B836-F47E8EF0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1C7257-1119-4F03-B3B8-7E166A1D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C9AA18-CB09-45AF-A1FC-43A61FE1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F67F5-1FA8-46A4-A4FE-AD92AA74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B067E2-2CFB-48BB-8015-F33A23FB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6BE5CD-33AE-441A-A5E1-EB120E6F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AE2655-952A-4A67-AC75-2A50D06B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71D2F9-1EC1-47C7-8580-BCB5F166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68D9BC-665E-406C-8C38-1DE5740C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EE9EE3-2568-43E9-A3CD-8BD75C2B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74BED1-A8FB-427E-A15A-7E697D7A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9C6504-46AD-4B78-8B72-554F0622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301417-8D1F-4D29-9838-6BBF8BA5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F26E65-C259-42D9-8703-18086E35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68530-3274-43B0-A7FB-7E2C6363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98380-59EA-4FE5-9EB1-5D6CA81A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126051-11D9-4CB7-B9A0-7254B8B7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E56FFD-BD9B-491F-AA88-EAF8918B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644983-7FBC-49E0-8182-D24A8CA0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92DB1B-83CA-4153-B5E9-555849A9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9097AF-734C-4408-855A-A0C9B3AF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57F90E-36C0-4C8B-8B9A-8D9C991A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BE30A0-F005-4F3B-9095-E19C0F4B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29D15E-C122-4AF3-87E1-DA770F16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10521A-E40F-4DAD-A7C6-D9C0DC9B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CC24D7-4537-47B7-A010-A0D6301D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7A74F-D217-4A62-9FF0-01B80197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D13CDF-4817-4ACF-A6DD-9A0E69D7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696748-B06D-497A-B323-6BD03EDB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FE320F-68CB-4301-AAE0-51CDC1E1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0951A6-3B85-44AB-B640-CE8FAB15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6B8050-2354-4F93-ABAD-5E35C30C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EE637D-880D-449C-9D36-F3F71907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BA86C6-2438-4E5A-915F-FF9C6EDA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9A2381-E065-458A-8AF6-9F60051F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948834-9A9A-4FB3-B91A-F18EFA14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52ECEF-7298-45D0-B06B-05D6FF3E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A7617-E170-4813-8D61-B83849C6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CBB3A3-EF42-48CF-875B-E087A85F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C69D37-F7C7-47DF-8F1A-468C2A76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5F2E0E-66BA-432E-9482-96B8BB1A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9F3E53-15C0-48FF-827E-7CCFD1EA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832F10-4D51-4A1A-94EF-7770102E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8221B9-09E7-4335-BD35-588A1C8B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4F9996-AB7B-4ABF-A9E6-F11BB7BF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0E1EC4-04CB-4EDB-B9F3-340BD9C4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0CCC11-68DF-4EFB-BB89-71255F68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73C3D2-E94D-4B17-82D9-EE24315B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DD68D-E7E2-4E85-9A5D-C4044DDF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21DCB3-C9B3-422C-A4B0-C068BE9F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A41F7B-DE5A-42EA-90CA-BA758277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DBCBEA-E491-4D75-ADDA-5015F2A5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2CFFFE-3E1D-4367-AECE-3996B1CF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0E7B1A-9F60-4FC4-A5F6-184F46A7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B7D75A-3A2E-4A33-9104-A0C5A9C9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A686FE-4D57-4B0E-A8CB-0C9BB46F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91FF9-8E0B-4F9B-A8EC-0D8FFCBF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F75BD-9B44-4EA2-9959-F3AF56C6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20712-9AEB-4EF5-9E3C-FA54CE8A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F38D8-98A6-4715-9DCB-C6238B65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549BF-BA0E-4B46-A017-130455CF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94D01-0730-40B6-93B7-E184FFCD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7B90C-F1E2-406A-8399-F6371B23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F8C96-43AF-4772-8D71-ACBE77D1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5ED88-5D14-464E-8E3E-CA1D79D0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9ECD4-0206-4B36-9132-95CA7981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D2F92-8BEF-4591-A7BF-43B22E50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4D72D-A8AC-448E-A1EB-F2F67C7D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42ABA-109E-49C8-91AF-07228AA1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55CCB-AB6F-4AB1-BFE4-B18454E3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E792C-2298-4055-A4AC-03DFC4CB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E9F9B-9A9B-4717-898B-1060E391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1004B-9DCA-43D9-B5FC-3FD845B5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5E5CB-F81C-41BB-8691-7D6A8A1A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DBE7D-0565-4FC0-9C72-E2A0CBE1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DB51D-D38D-408D-A886-08C5BB8C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D4F886-F3B6-4989-9E57-C9BC45C4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A327C6-7F22-4645-BC5C-866E29DF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FA737E-02C6-410D-9590-542A3195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8AAD1E-2D17-4EB5-90C6-A3225880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9657BA-062B-48D2-9C7B-EC244163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8D87A9-EA76-4DA8-85F9-4B061E4D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4DBAE-0D0C-4555-BB49-79EF00F9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78BE6-59D4-4A13-92A9-ED946CB8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ADDFE-ABAC-4F85-8260-2941878E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1C553-7605-4E48-954E-B94BC536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14B6A-0674-4DE4-BD2E-10DFE84E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C2F64-FE5F-492C-8709-516CF735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B5607-0B13-49F6-90A2-DF523E7B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C50C8-BD66-452B-AA58-3470CF75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ABB28-7B87-4398-B6BD-F6DC6147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A8200-D10C-4212-89E5-0FCFDB5A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74769-0ED3-4A4C-A50D-7A1D60FC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17451-A466-4411-8F18-6BA9FD9F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8F66D-00BF-43C4-A87C-17104D77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79CC0-D8C8-4F6F-9F52-1E42607B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D41B4-AEBC-4609-B3B9-B6715E09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7B8D3-7B46-4196-AE07-A87FE49E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39CD4-1CE9-4624-BF89-EB5360AC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AD007-AB86-41C3-868E-6BAD3DD8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C8B5B-D88D-4615-8C67-B9A2E9F6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3882D-B23A-41D9-979B-62EB527E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8E8F9-880B-4FF5-B268-2BA0154E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806E7-6FC8-4378-BABE-6E7F6702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148C8-855F-4BB5-BAA0-F187B8FD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5A646-636E-422E-B27F-5BC9ADEB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662F-6B48-44D9-824F-30485072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7CF33-A05F-47CF-98B3-F03C3656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49C19-6676-4B91-B984-B559724F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C5CB8-A4A8-47EA-9D7C-97DAE9B0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68E63-FAC5-4276-A275-B384C36C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F3BD1-0711-42B9-B19B-6A9FA1A4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967893-9223-4433-8A9B-3C4A51A9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E2B479-41E6-482E-8E4B-C7583144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8375FB-C07C-442B-92F4-9ABABB31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B35658-0BB9-4EF2-A5F6-03E863BA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19643B-B0DE-4548-8510-D8F92DC0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9201C-6A38-42E8-A2C8-9BE564CB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704517-A536-485C-9207-B50C78D2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80913E-7094-4392-A432-0D2EBB24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AD45BB-47F7-4BE0-BE34-2DE14A06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A3290A-7E7A-4A0B-BAE1-4377F00C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B531D3-ACD2-4BDA-94F4-D9D6CF5F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96AD21-91BB-4DE9-9C8B-7573E8DB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6A910E-FB32-4861-B1B6-AC3C473A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CFE2F-1575-4B1E-BF92-7B52DE56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4D4A0-CDDD-4729-8846-FC6C3B90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0E8CC-A2D0-44A3-8519-9665C47C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2A55-0ADD-4912-B01C-DF121FF81A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61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PlaceHolder 1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FCEA-C248-46D5-B529-A401F1570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14EC-43B2-489E-AFBD-E318FBFC4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1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0558-7C42-457A-A903-6189D7DDAA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25EE-BE56-4B0C-B68D-BDBAB66FE3A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2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3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4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B53A-B1CB-4B7B-A7BA-206C9102A6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2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4689-FB9F-42DF-A379-34B90382C8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7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69D7-A2C0-427E-9FBB-5F845E55F94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8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339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340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343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344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345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348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349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0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1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352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3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4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355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6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7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358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9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0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361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2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3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364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5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6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367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8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9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370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1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2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373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4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5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376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7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8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379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0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1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382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3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4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385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6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7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388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9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0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391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2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3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394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5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6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397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8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9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400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1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2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403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4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5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406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8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409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0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1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13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414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5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6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417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8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9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420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1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2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423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4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5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426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7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8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429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0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1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432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4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435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438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0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441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3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444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6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447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448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5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6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457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07AC-0D0D-4A60-A2DD-8B599725006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51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51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54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EA34-28F2-4E92-A680-8D47004F01B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9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59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2F15-6BFE-4BEC-9E88-F85D1D74F7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15B2-1F8C-48E2-8218-269B6BED475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dt" idx="5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ftr" idx="5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sldNum" idx="6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5BD0-AEAD-4C80-A847-21C4A76C3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94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38FF-4899-4520-A6F8-EB0DD16A0FD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3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3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 type="dt" idx="6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 type="ftr" idx="6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57B0-B79E-4600-BF41-8E306EDC03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788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89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1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92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 type="dt" idx="6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 type="ftr" idx="6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 type="sldNum" idx="6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DBA9-CEAE-4757-97AE-B8D661CD1E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183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045A-9339-409C-8B42-07E93E6A2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57BC-ADE5-4E74-AB72-A846D3B5C7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13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 type="dt" idx="7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 type="ftr" idx="7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8467-178E-424C-BD68-861B166791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8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411B-A649-4664-9615-2939B75F0F9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25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25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271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 type="dt" idx="8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C55A-271E-4362-8294-15DBBCDCDB4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1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2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9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0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6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2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5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4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1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5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0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5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1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84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87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0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95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98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1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04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0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0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13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16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9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25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0D27-C2BF-4807-8056-8F678DAD259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9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9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2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A5A6-1696-4C34-9E17-270F15CCB56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8192-0443-4560-BF22-89BD775B80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0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9729-5CC7-458B-B2A5-3A3FFD8C0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26BE-4B98-4058-9063-566552F90CC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76F9-F271-40C1-AFB7-6DFA3B21A4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EB60-B527-4E91-8ACB-2FC8FFD9D1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09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300" spc="-1" strike="noStrike">
                <a:solidFill>
                  <a:srgbClr val="ffffcc"/>
                </a:solidFill>
                <a:latin typeface="Monotype Corsiva"/>
              </a:rPr>
              <a:t>Viruses &amp; Bacteria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hapter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Biology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Presentation put together by Mandie Lynn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6" name="Picture 4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1" name="Picture 5" descr="Retrovirus_life_cycle"/>
          <p:cNvPicPr/>
          <p:nvPr/>
        </p:nvPicPr>
        <p:blipFill>
          <a:blip r:embed="rId1"/>
          <a:stretch/>
        </p:blipFill>
        <p:spPr>
          <a:xfrm>
            <a:off x="3505320" y="685800"/>
            <a:ext cx="5408640" cy="5638680"/>
          </a:xfrm>
          <a:prstGeom prst="rect">
            <a:avLst/>
          </a:prstGeom>
          <a:ln w="0">
            <a:noFill/>
          </a:ln>
        </p:spPr>
      </p:pic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886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tro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2819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DNA into 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a Retrovirus is HI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4" name="Picture 5" descr="Retrovirus"/>
          <p:cNvPicPr/>
          <p:nvPr/>
        </p:nvPicPr>
        <p:blipFill>
          <a:blip r:embed="rId1"/>
          <a:stretch/>
        </p:blipFill>
        <p:spPr>
          <a:xfrm>
            <a:off x="4495680" y="1547640"/>
            <a:ext cx="4496040" cy="3549960"/>
          </a:xfrm>
          <a:prstGeom prst="rect">
            <a:avLst/>
          </a:prstGeom>
          <a:ln w="0">
            <a:noFill/>
          </a:ln>
        </p:spPr>
      </p:pic>
      <p:sp>
        <p:nvSpPr>
          <p:cNvPr id="2485" name="Rectangle 6"/>
          <p:cNvSpPr/>
          <p:nvPr/>
        </p:nvSpPr>
        <p:spPr>
          <a:xfrm>
            <a:off x="304920" y="771840"/>
            <a:ext cx="4190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ypical, "minimal" retrovirus consists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uter envelope which was derived from the plasma membrane of its h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copies of an envelope protein embedded in the lipid bilayer of its envel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psid; a protein shell cont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molecules of RNA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ecules of the enzyme reverse transcript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6" name="Picture 7" descr="BacterialCell150"/>
          <p:cNvPicPr/>
          <p:nvPr/>
        </p:nvPicPr>
        <p:blipFill>
          <a:blip r:embed="rId1"/>
          <a:stretch/>
        </p:blipFill>
        <p:spPr>
          <a:xfrm>
            <a:off x="380880" y="2286000"/>
            <a:ext cx="1428840" cy="2571840"/>
          </a:xfrm>
          <a:prstGeom prst="rect">
            <a:avLst/>
          </a:prstGeom>
          <a:ln w="0">
            <a:noFill/>
          </a:ln>
        </p:spPr>
      </p:pic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teria Ce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88" name="Picture 17" descr="bacteria"/>
          <p:cNvPicPr/>
          <p:nvPr/>
        </p:nvPicPr>
        <p:blipFill>
          <a:blip r:embed="rId2"/>
          <a:stretch/>
        </p:blipFill>
        <p:spPr>
          <a:xfrm>
            <a:off x="5105520" y="228600"/>
            <a:ext cx="3886200" cy="2855880"/>
          </a:xfrm>
          <a:prstGeom prst="rect">
            <a:avLst/>
          </a:prstGeom>
          <a:ln w="0">
            <a:noFill/>
          </a:ln>
        </p:spPr>
      </p:pic>
      <p:pic>
        <p:nvPicPr>
          <p:cNvPr id="2489" name="Picture 20" descr="imageT9V"/>
          <p:cNvPicPr/>
          <p:nvPr/>
        </p:nvPicPr>
        <p:blipFill>
          <a:blip r:embed="rId3"/>
          <a:stretch/>
        </p:blipFill>
        <p:spPr>
          <a:xfrm>
            <a:off x="2057400" y="2514600"/>
            <a:ext cx="4572000" cy="4081320"/>
          </a:xfrm>
          <a:prstGeom prst="rect">
            <a:avLst/>
          </a:prstGeom>
          <a:ln w="0">
            <a:noFill/>
          </a:ln>
        </p:spPr>
      </p:pic>
      <p:pic>
        <p:nvPicPr>
          <p:cNvPr id="2490" name="Picture 23" descr="Bacteria"/>
          <p:cNvPicPr/>
          <p:nvPr/>
        </p:nvPicPr>
        <p:blipFill>
          <a:blip r:embed="rId4"/>
          <a:stretch/>
        </p:blipFill>
        <p:spPr>
          <a:xfrm>
            <a:off x="6400800" y="4467240"/>
            <a:ext cx="2514600" cy="1733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3" name="Picture 6" descr="so23_09"/>
          <p:cNvPicPr/>
          <p:nvPr/>
        </p:nvPicPr>
        <p:blipFill>
          <a:blip r:embed="rId1"/>
          <a:stretch/>
        </p:blipFill>
        <p:spPr>
          <a:xfrm>
            <a:off x="4530600" y="533520"/>
            <a:ext cx="459108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4" name="Picture 5" descr="prokaryo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omic Sans MS"/>
              </a:rPr>
              <a:t>Eubacteri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up the larger of the two prokaryote kingd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are surrounded by a cell wall composed of complex carbohyd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7" name="Picture 13" descr="Eubacteria"/>
          <p:cNvPicPr/>
          <p:nvPr/>
        </p:nvPicPr>
        <p:blipFill>
          <a:blip r:embed="rId3"/>
          <a:stretch/>
        </p:blipFill>
        <p:spPr>
          <a:xfrm>
            <a:off x="4876920" y="1998720"/>
            <a:ext cx="3733560" cy="3591000"/>
          </a:xfrm>
          <a:prstGeom prst="rect">
            <a:avLst/>
          </a:prstGeom>
          <a:ln w="0">
            <a:noFill/>
          </a:ln>
        </p:spPr>
      </p:pic>
      <p:sp>
        <p:nvSpPr>
          <p:cNvPr id="2498" name="AutoShape 9"/>
          <p:cNvSpPr/>
          <p:nvPr/>
        </p:nvSpPr>
        <p:spPr>
          <a:xfrm>
            <a:off x="3757680" y="2757600"/>
            <a:ext cx="1628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AutoShape 11"/>
          <p:cNvSpPr/>
          <p:nvPr/>
        </p:nvSpPr>
        <p:spPr>
          <a:xfrm>
            <a:off x="3757680" y="2757600"/>
            <a:ext cx="1628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Cyano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95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otosynthetic bacter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luish-greenish col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 membranes that carry out the process of photosynthe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not contain the same type of chloroplasts as plants 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bluish-greenish algae can be found nearly everywhere on eart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survive in extremely hot environments and even extremely cold environ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2" name="Picture 5" descr="Cyanobacteria"/>
          <p:cNvPicPr/>
          <p:nvPr/>
        </p:nvPicPr>
        <p:blipFill>
          <a:blip r:embed="rId1"/>
          <a:stretch/>
        </p:blipFill>
        <p:spPr>
          <a:xfrm>
            <a:off x="3314880" y="1600200"/>
            <a:ext cx="582912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3" name="Picture 5" descr="archaebacteria"/>
          <p:cNvPicPr/>
          <p:nvPr/>
        </p:nvPicPr>
        <p:blipFill>
          <a:blip r:embed="rId1"/>
          <a:stretch/>
        </p:blipFill>
        <p:spPr>
          <a:xfrm>
            <a:off x="3352680" y="1600200"/>
            <a:ext cx="5562720" cy="5056200"/>
          </a:xfrm>
          <a:prstGeom prst="rect">
            <a:avLst/>
          </a:prstGeom>
          <a:ln w="0">
            <a:noFill/>
          </a:ln>
        </p:spPr>
      </p:pic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Archaebacter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819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ack important carbohydrate found in cell wall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ave different lipids in their cell membran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ifferent types of ribosom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Very different gene sequenc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rchaebacteria can live in extremely harsh environmen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omic Sans MS"/>
              </a:rPr>
              <a:t>Identifying Prokaryo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8" name="Picture 5" descr="Prokaryote2"/>
          <p:cNvPicPr/>
          <p:nvPr/>
        </p:nvPicPr>
        <p:blipFill>
          <a:blip r:embed="rId4"/>
          <a:stretch/>
        </p:blipFill>
        <p:spPr>
          <a:xfrm>
            <a:off x="4724280" y="1905120"/>
            <a:ext cx="3262320" cy="2792160"/>
          </a:xfrm>
          <a:prstGeom prst="rect">
            <a:avLst/>
          </a:prstGeom>
          <a:ln w="0">
            <a:noFill/>
          </a:ln>
        </p:spPr>
      </p:pic>
      <p:pic>
        <p:nvPicPr>
          <p:cNvPr id="2509" name="Picture 8" descr="Prokaryote7"/>
          <p:cNvPicPr/>
          <p:nvPr/>
        </p:nvPicPr>
        <p:blipFill>
          <a:blip r:embed="rId5"/>
          <a:stretch/>
        </p:blipFill>
        <p:spPr>
          <a:xfrm>
            <a:off x="1143000" y="3886200"/>
            <a:ext cx="3048120" cy="241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0" name="Picture 5" descr="BACTERIA"/>
          <p:cNvPicPr/>
          <p:nvPr/>
        </p:nvPicPr>
        <p:blipFill>
          <a:blip r:embed="rId1"/>
          <a:stretch/>
        </p:blipFill>
        <p:spPr>
          <a:xfrm>
            <a:off x="5872320" y="457200"/>
            <a:ext cx="3271680" cy="6248520"/>
          </a:xfrm>
          <a:prstGeom prst="rect">
            <a:avLst/>
          </a:prstGeom>
          <a:ln w="0">
            <a:noFill/>
          </a:ln>
        </p:spPr>
      </p:pic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are Viru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A virus is a non-cellular particle made up of genetic material and protein that can invade living cel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3" name="Picture 5" descr="cwprofile"/>
          <p:cNvPicPr/>
          <p:nvPr/>
        </p:nvPicPr>
        <p:blipFill>
          <a:blip r:embed="rId1"/>
          <a:stretch/>
        </p:blipFill>
        <p:spPr>
          <a:xfrm>
            <a:off x="228600" y="3733920"/>
            <a:ext cx="8610480" cy="1976400"/>
          </a:xfrm>
          <a:prstGeom prst="rect">
            <a:avLst/>
          </a:prstGeom>
          <a:ln w="0">
            <a:noFill/>
          </a:ln>
        </p:spPr>
      </p:pic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Gram + and Gram – Bacterium Cell Wa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Cellular Wal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nature of a cell wall can be determined by Gram St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finding out what color the cell produces when it is gram stained you can figure out the type of carbohydrates in the cell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7" name="Picture 5" descr="Prokaryotes4"/>
          <p:cNvPicPr/>
          <p:nvPr/>
        </p:nvPicPr>
        <p:blipFill>
          <a:blip r:embed="rId1"/>
          <a:stretch/>
        </p:blipFill>
        <p:spPr>
          <a:xfrm>
            <a:off x="1371600" y="3471840"/>
            <a:ext cx="640080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v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55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lagella ~ Tail like structure the whips around to propel the bacteriu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illia ~ Miniature flagella surround the cell that help to “swim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n motile ~ Sticky cillia like structures that keep the bacterium from mov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Comic Sans MS"/>
              </a:rPr>
              <a:t>Flagell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1" name="Picture 5" descr="fladist"/>
          <p:cNvPicPr/>
          <p:nvPr/>
        </p:nvPicPr>
        <p:blipFill>
          <a:blip r:embed="rId1"/>
          <a:stretch/>
        </p:blipFill>
        <p:spPr>
          <a:xfrm>
            <a:off x="304920" y="2743200"/>
            <a:ext cx="8610480" cy="208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-360" y="-493668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ef6"/>
              </a:solidFill>
              <a:latin typeface="Comic Sans MS"/>
            </a:endParaRPr>
          </a:p>
        </p:txBody>
      </p:sp>
      <p:pic>
        <p:nvPicPr>
          <p:cNvPr id="2523" name="Picture 5" descr="img0102"/>
          <p:cNvPicPr/>
          <p:nvPr/>
        </p:nvPicPr>
        <p:blipFill>
          <a:blip r:embed="rId1"/>
          <a:stretch/>
        </p:blipFill>
        <p:spPr>
          <a:xfrm>
            <a:off x="533520" y="1295280"/>
            <a:ext cx="3368520" cy="4572000"/>
          </a:xfrm>
          <a:prstGeom prst="rect">
            <a:avLst/>
          </a:prstGeom>
          <a:ln w="0">
            <a:noFill/>
          </a:ln>
        </p:spPr>
      </p:pic>
      <p:pic>
        <p:nvPicPr>
          <p:cNvPr id="2524" name="Picture 8" descr="CB"/>
          <p:cNvPicPr/>
          <p:nvPr/>
        </p:nvPicPr>
        <p:blipFill>
          <a:blip r:embed="rId2"/>
          <a:stretch/>
        </p:blipFill>
        <p:spPr>
          <a:xfrm>
            <a:off x="4267080" y="12952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a and their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7" name="Picture 9" descr="lin-bacteria-w"/>
          <p:cNvPicPr/>
          <p:nvPr/>
        </p:nvPicPr>
        <p:blipFill>
          <a:blip r:embed="rId1"/>
          <a:stretch/>
        </p:blipFill>
        <p:spPr>
          <a:xfrm>
            <a:off x="3581280" y="1676520"/>
            <a:ext cx="541044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utotroph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their own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Solar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. Cyanobacte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0" name="Picture 5" descr="cyanobacteria"/>
          <p:cNvPicPr/>
          <p:nvPr/>
        </p:nvPicPr>
        <p:blipFill>
          <a:blip r:embed="rId1"/>
          <a:stretch/>
        </p:blipFill>
        <p:spPr>
          <a:xfrm>
            <a:off x="4572000" y="2212920"/>
            <a:ext cx="4114800" cy="3330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emotroph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own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ing Chemical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g. Archaebac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33" name="Picture 5" descr="archaebacteria"/>
          <p:cNvPicPr/>
          <p:nvPr/>
        </p:nvPicPr>
        <p:blipFill>
          <a:blip r:embed="rId1"/>
          <a:stretch/>
        </p:blipFill>
        <p:spPr>
          <a:xfrm>
            <a:off x="4572000" y="1881360"/>
            <a:ext cx="4343400" cy="3948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eterotroph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tain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ea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. E-co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6" name="Picture 5" descr="x_e"/>
          <p:cNvPicPr/>
          <p:nvPr/>
        </p:nvPicPr>
        <p:blipFill>
          <a:blip r:embed="rId1"/>
          <a:stretch/>
        </p:blipFill>
        <p:spPr>
          <a:xfrm>
            <a:off x="4191120" y="2114640"/>
            <a:ext cx="4647960" cy="3873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cteria Respi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igate An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ultative An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igate 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 without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live with or without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not live without oxyge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9" name="Picture 17" descr="viruses"/>
          <p:cNvPicPr/>
          <p:nvPr/>
        </p:nvPicPr>
        <p:blipFill>
          <a:blip r:embed="rId1"/>
          <a:stretch/>
        </p:blipFill>
        <p:spPr>
          <a:xfrm>
            <a:off x="1165320" y="1523880"/>
            <a:ext cx="2868480" cy="3886200"/>
          </a:xfrm>
          <a:prstGeom prst="rect">
            <a:avLst/>
          </a:prstGeom>
          <a:ln w="0">
            <a:noFill/>
          </a:ln>
        </p:spPr>
      </p:pic>
      <p:pic>
        <p:nvPicPr>
          <p:cNvPr id="2460" name="Picture 22" descr="viruses2"/>
          <p:cNvPicPr/>
          <p:nvPr/>
        </p:nvPicPr>
        <p:blipFill>
          <a:blip r:embed="rId2"/>
          <a:stretch/>
        </p:blipFill>
        <p:spPr>
          <a:xfrm>
            <a:off x="4637160" y="1676520"/>
            <a:ext cx="2703600" cy="3809880"/>
          </a:xfrm>
          <a:prstGeom prst="rect">
            <a:avLst/>
          </a:prstGeom>
          <a:ln w="0">
            <a:noFill/>
          </a:ln>
        </p:spPr>
      </p:pic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ccecff"/>
                </a:solidFill>
                <a:latin typeface="Antique Olive"/>
              </a:rPr>
              <a:t>T4 Bacteriophage</a:t>
            </a:r>
            <a:endParaRPr b="0" lang="en-US" sz="5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cteria Rep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nary Fi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jug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re 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4" name="Picture 5" descr="img003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545" name="Rectangle 7"/>
          <p:cNvSpPr/>
          <p:nvPr/>
        </p:nvSpPr>
        <p:spPr>
          <a:xfrm>
            <a:off x="0" y="5410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8" name="Picture 5" descr="conjugation"/>
          <p:cNvPicPr/>
          <p:nvPr/>
        </p:nvPicPr>
        <p:blipFill>
          <a:blip r:embed="rId1"/>
          <a:stretch/>
        </p:blipFill>
        <p:spPr>
          <a:xfrm>
            <a:off x="4495680" y="457200"/>
            <a:ext cx="4338720" cy="64008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7996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Spore Formation: Endosp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type of dormant cel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xhibit no signs of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ighly resistant to environmental stresses such 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High temper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Irrad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Strong ac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Disinfect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1" name="Picture 5" descr="endospore"/>
          <p:cNvPicPr/>
          <p:nvPr/>
        </p:nvPicPr>
        <p:blipFill>
          <a:blip r:embed="rId1"/>
          <a:stretch/>
        </p:blipFill>
        <p:spPr>
          <a:xfrm>
            <a:off x="5029200" y="1447920"/>
            <a:ext cx="382104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mbio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 relationship between to species in which at least one species benefits from the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 together for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6" name="Picture 5" descr="Mycobacterium-tuberculosis"/>
          <p:cNvPicPr/>
          <p:nvPr/>
        </p:nvPicPr>
        <p:blipFill>
          <a:blip r:embed="rId1"/>
          <a:stretch/>
        </p:blipFill>
        <p:spPr>
          <a:xfrm>
            <a:off x="4282920" y="990720"/>
            <a:ext cx="4083120" cy="4876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tualis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9" name="Picture 4" descr="_394740_ecoli300"/>
          <p:cNvPicPr/>
          <p:nvPr/>
        </p:nvPicPr>
        <p:blipFill>
          <a:blip r:embed="rId1"/>
          <a:stretch/>
        </p:blipFill>
        <p:spPr>
          <a:xfrm>
            <a:off x="4572000" y="2400480"/>
            <a:ext cx="4114800" cy="2876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itrogen Fixation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2" name="Picture 6" descr="em_herps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Herpes Viru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4" name="Picture 5" descr="_394740_ecoli300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3611520"/>
          </a:xfrm>
          <a:prstGeom prst="rect">
            <a:avLst/>
          </a:prstGeom>
          <a:ln w="0">
            <a:noFill/>
          </a:ln>
        </p:spPr>
      </p:pic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scherichia Coli Bacteriu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228240" y="510516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coli is a bacterium.  That is a crude cell, it is not a virus because viruses are protein containers with DNA cores or RNA c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7" name="Picture 5" descr="tphage1"/>
          <p:cNvPicPr/>
          <p:nvPr/>
        </p:nvPicPr>
        <p:blipFill>
          <a:blip r:embed="rId1"/>
          <a:stretch/>
        </p:blipFill>
        <p:spPr>
          <a:xfrm>
            <a:off x="457200" y="38088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2468" name="Picture 7" descr="attaching phage"/>
          <p:cNvPicPr/>
          <p:nvPr/>
        </p:nvPicPr>
        <p:blipFill>
          <a:blip r:embed="rId2"/>
          <a:stretch/>
        </p:blipFill>
        <p:spPr>
          <a:xfrm>
            <a:off x="3124080" y="2286000"/>
            <a:ext cx="2248200" cy="1343160"/>
          </a:xfrm>
          <a:prstGeom prst="rect">
            <a:avLst/>
          </a:prstGeom>
          <a:ln w="0">
            <a:noFill/>
          </a:ln>
        </p:spPr>
      </p:pic>
      <p:pic>
        <p:nvPicPr>
          <p:cNvPr id="2469" name="Picture 9" descr="phagedna"/>
          <p:cNvPicPr/>
          <p:nvPr/>
        </p:nvPicPr>
        <p:blipFill>
          <a:blip r:embed="rId3"/>
          <a:stretch/>
        </p:blipFill>
        <p:spPr>
          <a:xfrm>
            <a:off x="6629400" y="2666880"/>
            <a:ext cx="961920" cy="1276560"/>
          </a:xfrm>
          <a:prstGeom prst="rect">
            <a:avLst/>
          </a:prstGeom>
          <a:ln w="0">
            <a:noFill/>
          </a:ln>
        </p:spPr>
      </p:pic>
      <p:pic>
        <p:nvPicPr>
          <p:cNvPr id="2470" name="Picture 13" descr="tphage2"/>
          <p:cNvPicPr/>
          <p:nvPr/>
        </p:nvPicPr>
        <p:blipFill>
          <a:blip r:embed="rId4"/>
          <a:stretch/>
        </p:blipFill>
        <p:spPr>
          <a:xfrm>
            <a:off x="2819520" y="4038480"/>
            <a:ext cx="4762440" cy="1114560"/>
          </a:xfrm>
          <a:prstGeom prst="rect">
            <a:avLst/>
          </a:prstGeom>
          <a:ln w="0">
            <a:noFill/>
          </a:ln>
        </p:spPr>
      </p:pic>
      <p:pic>
        <p:nvPicPr>
          <p:cNvPr id="2471" name="Picture 15" descr="t4movie"/>
          <p:cNvPicPr/>
          <p:nvPr/>
        </p:nvPicPr>
        <p:blipFill>
          <a:blip r:embed="rId5"/>
          <a:stretch/>
        </p:blipFill>
        <p:spPr>
          <a:xfrm>
            <a:off x="2438280" y="5791320"/>
            <a:ext cx="4896000" cy="857160"/>
          </a:xfrm>
          <a:prstGeom prst="rect">
            <a:avLst/>
          </a:prstGeom>
          <a:ln w="0">
            <a:noFill/>
          </a:ln>
        </p:spPr>
      </p:pic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095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. Coli and the Bacterioph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subTitle"/>
          </p:nvPr>
        </p:nvSpPr>
        <p:spPr>
          <a:xfrm>
            <a:off x="2521080" y="5028840"/>
            <a:ext cx="510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t looks like in real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he Structure Of a Vir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uses are composed of a core of nucle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cleic acid core is surrounded by a protein coat called a caps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cleic core is either made up of DNA or RNA but never bo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6" name="Picture 8" descr="bacteriophage"/>
          <p:cNvPicPr/>
          <p:nvPr/>
        </p:nvPicPr>
        <p:blipFill>
          <a:blip r:embed="rId1"/>
          <a:stretch/>
        </p:blipFill>
        <p:spPr>
          <a:xfrm>
            <a:off x="4495680" y="1523880"/>
            <a:ext cx="419904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7" name="Picture 8" descr="image012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ycle of Lytic and Lysogenic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ccin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es grown on chicken embryos are attenuated vacc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type of vaccine is made by heat killing the virus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3:14:57Z</dcterms:created>
  <dc:creator>Jeddy</dc:creator>
  <dc:description/>
  <dc:language>en-US</dc:language>
  <cp:lastModifiedBy>RomaK</cp:lastModifiedBy>
  <dcterms:modified xsi:type="dcterms:W3CDTF">2015-09-04T10:53:29Z</dcterms:modified>
  <cp:revision>24</cp:revision>
  <dc:subject/>
  <dc:title>Viruses &amp; Bacteria</dc:title>
</cp:coreProperties>
</file>