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41.jpeg" ContentType="image/jpeg"/>
  <Override PartName="/ppt/media/image28.jpeg" ContentType="image/jpeg"/>
  <Override PartName="/ppt/media/image7.jpeg" ContentType="image/jpeg"/>
  <Override PartName="/ppt/media/image12.gif" ContentType="image/gif"/>
  <Override PartName="/ppt/media/image30.png" ContentType="image/png"/>
  <Override PartName="/ppt/media/image29.jpeg" ContentType="image/jpeg"/>
  <Override PartName="/ppt/media/image31.jpeg" ContentType="image/jpeg"/>
  <Override PartName="/ppt/media/image19.jpeg" ContentType="image/jpeg"/>
  <Override PartName="/ppt/media/image34.png" ContentType="image/png"/>
  <Override PartName="/ppt/media/image13.png" ContentType="image/png"/>
  <Override PartName="/ppt/media/image37.png" ContentType="image/pn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11.png" ContentType="image/png"/>
  <Override PartName="/ppt/media/image9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  <p:sldId id="289" r:id="rId64"/>
    <p:sldId id="290" r:id="rId65"/>
    <p:sldId id="291" r:id="rId66"/>
    <p:sldId id="292" r:id="rId67"/>
    <p:sldId id="293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slide" Target="slides/slide34.xml"/><Relationship Id="rId65" Type="http://schemas.openxmlformats.org/officeDocument/2006/relationships/slide" Target="slides/slide35.xml"/><Relationship Id="rId66" Type="http://schemas.openxmlformats.org/officeDocument/2006/relationships/slide" Target="slides/slide36.xml"/><Relationship Id="rId67" Type="http://schemas.openxmlformats.org/officeDocument/2006/relationships/slide" Target="slides/slide37.xml"/><Relationship Id="rId68" Type="http://schemas.openxmlformats.org/officeDocument/2006/relationships/slide" Target="slides/slide38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FFBB-6110-45AF-A8BD-F9697CA713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C94D-2720-48DC-8BB2-B1237368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2449-192C-4CA4-9117-721BC42F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EF90B-44D2-40F2-8DF8-8DF299F3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8D155-4ABA-48DA-87B8-772AFA51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13289-1D11-4EE6-8467-D896B2FD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BD86E-D20B-486A-A905-C7A48CA3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00E20-FA9E-4042-B571-42044C65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80D8C-8584-42B3-9A65-93685C9C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92AD0-2FEA-4B59-A3BE-D6B9EA4D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15334-17F4-401C-9233-D8BFEE2B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9FED9-1898-4738-932F-1D1A063C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63E5C-440B-402D-9428-11A335E5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6048A-DFA4-4F7A-8FCA-5ADBC35D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B4264-B84F-412A-BD73-47365B9B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3CD86-21EB-4730-9B94-266267B1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7C3CD-9F6C-4242-AA93-403A11D5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D3B93-D133-4244-BD16-EB0723AF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52389-1643-4DA1-A865-EF81E0F3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CEB25-0D31-4181-B2BC-2594CBE9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56FAB-B556-4B49-8ED4-0DA6F581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4966B-3D93-4238-AC8F-8D8014EF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AED60E-5602-4DEB-A53F-2F5B6A18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D52EA-A490-4FDF-B551-E36B5DD1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2A622-DD93-4155-9BBC-933D1847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7ACEC-4338-4BEA-B7D6-A028E6AC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A6B29-1D8E-4AE6-B3FC-83FF037C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9C47B-0C91-4606-AA45-62DEB523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35658-E03F-4246-AE27-1CD92912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3F2AF-CEAC-4D75-971E-E61008F9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12BED-9867-4FA3-9069-9DEAE345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B8827-E88F-46C0-9595-DA0BB910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42196-34AA-4ECB-97AD-AAEDEF82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F1742-ECAA-4B28-9F9D-CADC61D9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0A80D-0860-47A1-A77A-2BC27081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CBEEF-5296-4DE5-99E1-03C0E69F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FF3E5-CB19-4CD5-B5E4-BD446783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659D9-8EEA-4D8D-AE28-7832B2A5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5ED28-65BA-4A62-80F8-B0E38A2D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460AF-EDAB-4DDF-98FD-4FB475E5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5E2C6-EA6F-49A2-A4DB-22AF788C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FA047-07C2-4299-951C-E1A0EF6B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5D56D-A5EF-4CBE-9F61-A4CB0D56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4647A-29E8-4F60-961C-E1BDAC77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229F2-916D-4D19-B3BC-838309CB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646C9-54AC-40A8-B701-4FDC97DE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0A259-FF3C-461D-A6ED-09EF7598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05D07-DE9A-4E19-A0C5-D0C61776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BBCD4-E4D2-4439-9573-42B8D8D3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D6FBF-D09B-4F1B-A6E8-F4817A86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18092-3AA3-44E2-9ABB-9C5A6501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BD153-89C7-4F6B-AEEE-94E50ACA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A57DF-3984-49CB-9937-8D781AF4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35D505-78D1-4EBD-9999-89719A0B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BB896-350F-428A-A707-88A68ABF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93A0D-D13D-43C6-B86B-1A890CA1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2E65D-25B0-44C0-9DCA-B456BC77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0CFAD-D2A9-4A5D-A395-E9A1053E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63557-DB41-4CA2-8BD3-F9F2158D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1FF8D-689E-4DC5-9049-E8271F90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EE617-62B5-4AEE-8BA2-013C6483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AA0B8-957F-4CE5-B609-7CE439FD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06576-7181-4972-8E61-6E775AED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A393C-E3B2-474B-B7B2-523D5598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C08DC-9CA0-4932-87B8-744624B1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05992-E125-4792-BF9B-A24DDDF1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00764E-FA2A-4B5A-8D99-271CE3C3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D1D79-55F5-426F-8F81-C7CE1EA8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D0A35-291C-42EE-AAF0-55F18A37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5B651-9B9A-4F96-A29C-A3489E2A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E3363-276F-4236-A089-35A554AF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E915A-7E22-4648-9AF3-0CB52FCA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D2544-0291-4CD1-9D7D-746EFE3A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2F571-8769-4BFF-A624-64FBEF49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AEE44-A7F3-48AB-AC42-980862B3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AF210F-35FF-4EFC-BAA4-1835CB6C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EAB7A-AB55-408B-A00F-A8DD3349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FF5AC-E2EF-4B8E-AB6D-41BE925B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4E80D-1EB8-49D1-9A74-52F27BA9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61626-0A30-4921-BE93-096D872C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71BE9A-909F-4C9E-B5E4-4E00AF20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0FB80-A86C-4A39-8F39-F0C5B27F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254DB-94CB-420F-88FB-82F76669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F80C4-AB84-4904-B66B-7630C6F7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4BF28-4972-4224-B9F6-53B45216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D4107-D74C-4D6F-9E14-B3809112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71D437-C90F-464F-AFE4-58B70246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6153A6-F43A-4636-9F0A-A2EC811F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CA4A0-B68C-4749-81D8-6CC71C1D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CEB002-C828-4AAC-A901-9FA75E23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A2A75-C80C-41E4-8D48-62A03D68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13E0AA-B18B-474F-8DF3-ABB65B9D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B8A56A-CFDF-40B8-AAC4-4457DD35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F700D7-9842-4859-9A75-690E156D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DFC146-0C07-4D2C-B650-996C8CC7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A75D0F-3FAA-4B83-B420-63904491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4F1C31-57EA-47D9-9C82-C461324B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1D24A4-572E-44EA-9C46-6E30074F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4377D0-720C-4255-B924-8C891732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8316F-A763-4F78-AFA7-44B08487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01D6B4-5504-46DB-8B38-D12B2F4B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7D088-FF3C-4694-A9E7-A3308F24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B3406-E20A-4921-A745-980D3179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8E0515-ED93-4E56-80F9-3C70D015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F7137C-E921-45A3-9FC1-C3374BE5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1CD7AA-25B7-44B9-A2EB-179C2359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0003F-F1BD-4BBE-9783-BBEE4781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87450C-4669-4313-9775-7DA19375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BB6400-1566-4E2E-A176-19E50381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287FF0-3378-4499-B248-965159FB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9F415C-B89E-4882-86B1-D673C888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08FC7C-7750-4750-BAB6-C2BE80E3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0BE9-723A-4E27-AC16-417C6352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9E918-53EB-48B6-ABA5-683C3CDF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6153D8-FE24-4294-88ED-310EA69C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776A4-E535-4487-A757-A34DA8DB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98E77C-80D7-44DD-982C-3BCC9696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C5CDE1-0128-4B84-BE6C-CB6C79E8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EC27A6-20D2-4D96-AC21-8F7C7F0B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A9ABD5-5DE9-4FB5-8BA8-9525E30F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D502DC-13B8-4ADD-940B-EA24AECD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B69E4C-3DC9-4BB4-AECA-9A8D7FF0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F9ADA1-2B9B-402F-A242-71016DD0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332601-B249-4DEA-99C5-4732D158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5865F-D4FF-4A14-AFAA-62EF5712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BB36E1-1E34-4AF1-A437-A8637540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0DB27-2896-4660-998C-5A58A02A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BD96D7-3D31-4EEA-BAD0-3A5AFD46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98ED50-954D-4086-B678-3639F680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A94C74-BFFA-4426-944C-831EE274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0417D5-C25C-461D-B3A5-B59ECFA5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63D9F5-127B-40D6-A46E-82C01D5B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2E4E5E-CF7E-4236-973D-034D6AD0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130DB8-0128-4CAF-9E90-19AA7E4F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A18AAC-D952-4984-A4FC-0E005EEA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2DB0F-347E-4B9B-9F63-1324F3A4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BCA23D-1123-462C-B317-FCDC8374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A39E99-B17E-4F6C-BE50-7DAFC2ED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D90491-D272-4A36-9C07-1A240E95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999FA-BB67-4D59-BF67-F44C13DF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BBDBEA-6564-4CD8-8B13-64C33D93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0F1FA9-2835-492B-B5BE-D56FE5B3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B29649-4A91-4649-8A7D-DBA886E7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C2775-5986-4C32-B765-774670D4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6D13FF-FEE7-4636-99DF-22FBB37E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D8811E-D959-4309-A47D-41B8662C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92624-87DE-4690-A65B-7D508B28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969D0D-5CFB-4675-9746-A85405C4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FFBB7C-6493-470D-836D-4FEC6F11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779BA4-3571-4FE0-B293-C5E69234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23815-B5A9-4396-B6B8-A0A84118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3B8579-45AE-47E0-A847-E14745D8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D6EA49-665B-4A71-BBD8-216CA623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C7C7D9-2115-45DE-BCFB-24ECD516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B79D82-6D48-4584-8C58-C1C71724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EE0EC-6FE6-41D7-965F-191D1B16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202539-3E1B-420B-A8DA-4924C1CB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12E33-74F1-4318-A4F7-0FF1E1F7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562329-6341-464D-8BCB-E527437C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3B1894-4E06-4C19-8426-98426672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B7A096-F692-4D86-B526-C913A8D9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660B08-FD27-43FA-A8DA-DAF2D7C3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9AFA58-5FE4-4BD6-B242-F31B16D9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C003AE-81BE-4D35-9F56-8C5495F5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2F3F70-B924-4B34-A0E9-6090D721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099D5D-E159-4B04-8722-FA30D685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E0D7F1-C87A-44CE-8FF9-ADBE776F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5039A9-6944-4868-9F2B-BC0B6F18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40793-6DB5-4082-8B2E-A14AFDEF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0B7C51-90AE-4605-BA68-93001527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6DA055-E4BC-4C8B-A036-559D6B29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AC6957-BF36-4F1E-8AD4-011CCA0C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40A46D-ECF0-4BB8-B360-C0CEFFC6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4A0524-7A91-4AE1-BDD7-FA83756B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92A7F4-16E3-42CF-BEDD-69D1F109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552B40-EFF7-474A-872E-D864D1BA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E7A8DA-3BAB-4AAF-B6D7-0655660B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973E46-B6F2-42FE-B767-815FFB72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B67FD1-495A-4435-B494-0AF0985C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55C21-BCFF-4F6D-AA7B-19BC858F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6E6A80-231D-4468-A1C0-83FC8542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B740F3-B062-4EE0-8900-203646C8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5E8366-D3A4-45B4-8CF2-4A1C7959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0EA723-9A33-4DF6-8DD0-0D16D1FF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9B21E9-4CF3-48FC-85A2-788CB0E6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38D711-7679-4B7B-84FA-D82D6EC2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D92A39-ED01-42FC-9707-47CB450C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F775C3-23BC-412A-94E3-64BE7B8B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FE81FB-7E72-465F-9259-DF276AD0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C28734-630B-4316-BD79-D3E56100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7659E-7B20-4A8E-819F-2B3FB519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483454-49BD-45F1-9E7A-728663BE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522240-F633-49FC-91D5-46FBEE06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95D0D1-B1E9-4EAA-BB36-CA3402C5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A8C0D4-C2AA-462C-B736-552CEAC7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CAE6F1-2D7E-4DFE-B9FE-61C43354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55E426-B1C7-4867-BE1B-2956E8FD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629013-6200-41B2-9851-9EF5771A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64F93B-AB16-4303-B885-0C0CF272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93609E-2B21-48F4-9002-172EFC7D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8AC14F-D82D-4A02-B4E6-7D677616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BCBF-3BC3-4028-82CF-9407C8BE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2BDA0D-CC7D-4411-BC57-B3EBC933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57466A-775C-46A7-A856-D582CDF2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F97505-346C-45F3-B6E6-ADCB2CC5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C55FE3-3DA5-4D66-847A-B87F2AC4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90D8D8-50AA-4600-AB1A-3C912B28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E10364-4769-4D2A-A548-CC5239AC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4404D1-803B-4138-AFF9-D8D5CEA6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A823F9-0D30-4E46-AC1D-B84E9DC2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8D1837-97AC-48DD-822B-2A9BD2EE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FC327C-A8E2-4BFD-8EEA-568E7362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9AA81-CCAF-41A9-8E7F-0CE55449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709314-38FA-4C05-A3EF-6F81C4B9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50E770-043B-4569-A06A-A21DEEC7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A70EBC-D946-4616-BDDF-118DF558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590AC6-D9DB-4BEC-BB7F-990E6C4E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89D801-5D30-4701-8780-9001CF77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9F54FD-D543-4320-AB3E-10665F1C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24AE21-3784-4737-8E82-44E8F52E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FD62B4-D4C1-461C-86B3-31CC2BA8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4DF94C-E6DE-4CCF-A5C8-5AF8B011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F459ED-78A4-470B-8851-1158B6DF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4474-64A5-44D7-A1E3-BCBB7227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9E0C3-6471-478F-934A-B2D55151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FD6869-ED82-43EB-9F7C-FDA1CA94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371C46-C0FE-4AD0-99F3-185821FC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7A65AA-FBAC-4860-8592-20C4B4E1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13CDE4-388A-4E9D-A016-4BE20FCB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7AFAE1-0DA9-482C-BF40-5605D955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B25ADA-123B-415D-8B9C-A9EB5584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2461B6-1201-4CB0-BAC0-410C0E14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C8671D-2FA3-4590-AFDF-351309B6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C13C05-8424-4084-92B6-1649FF61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DB2D6C-77BA-4D0D-BE7E-A00CBDD6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B0B74-4971-46B4-B01F-2D56DDF5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2E6AAB-27D3-41C0-B08E-D04DF51C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613570-822A-4A65-8942-0CC77675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333C90-C540-485A-95BE-3C9BEB2B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8474C6-DC0B-4C91-AEC9-51348BB4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A02C21-F675-459B-B637-BAA40511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4FEF08-2754-45A9-AFFF-DBA3E38D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24F9E1-66A6-4AEE-86A6-D93DDF9D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96093D-169C-48F9-86B3-59817A62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E4CCFA-7082-483D-9703-5E5ECBCD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078488-4C3D-47C7-ACA0-5EC829F5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B027A-6956-4CD1-8B5D-3116AB64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DE848C-6C5E-43E4-86C3-5AE4C06D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9330B4-81C7-4971-B8BA-98D5DADE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F0CC7A-EE81-4378-A475-09B79BC0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4A07EF-DE0A-4208-B6F5-EAE56EAB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66F754-360E-44FA-9BB9-C9C1F2BC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6AB6B5-756B-43F5-A2E8-C3061DA7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6D3097-D040-4C37-AC61-EFCE8127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4E9E6E-EAA5-4D55-8BF6-3EE79C72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E9E781-0B8E-4046-BFCA-05D7ABBA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C6A9B2-888E-48F0-A416-52066591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1733-FFE4-4BB6-AE93-1F1C7CA5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0B4E3F-DA52-4E87-B05F-BCE650C9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6400AD-0387-4771-A3BE-892E3AA3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660F35-5D50-4A68-8D55-38BF4B59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D64767-DC35-4A90-B13F-2975BBE5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4F7E5D-F3A8-4109-83D6-2069E4A3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9F86FE-51D8-4E0C-A959-7732487E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B0FBAA-D71B-4B1A-BEC9-3049BABD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52E8E-14C0-443C-9869-18681EB3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3C19-F72C-4E45-8933-49EB326B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2579-D9C3-4C49-8DAF-345701FD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2372B-0AE5-42F3-B621-FF8ECA1B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A7A7-7141-4C85-ABAD-D4036505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05A1A-C1CB-4A07-A374-D196DA41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6457-AF25-4556-8965-E93CF61D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6A6AE-F0CB-4C41-9D49-3C379CDF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BE6C4-993B-4C16-95BD-922ACE9C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A6453-C679-4273-A719-44537FCD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92C77-F35A-411E-9A16-8A6E209B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65A50-CDA7-4609-8C48-A3FE1124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A466F-554C-4A92-9C54-D67F810F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8C791-0781-45CD-97D5-384E1666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04403-66F5-40C5-A88A-3AFE48E6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9E828-B008-4F77-B69B-864AA2AE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3ABFB-42F4-4B7B-9AAA-BFD2341D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AB79-057A-47E0-B66E-E0488C48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5207C-0B12-48A8-8449-2119D217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F0064-D478-45D7-892A-05C31E09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530AF-57FC-414B-8B98-61A4F994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07424-BA59-4536-AFC8-9ED19142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0C81E-A4ED-4677-B50F-6626739C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2725E-A4A8-4161-93A0-F78B562D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97AC1-D172-4E7F-B219-41F7918B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54103-32FF-413F-AEB5-FCB63C67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A0262-C3B6-425D-A116-AA5AF80D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FDFEC-95E1-470E-9B74-740D33A7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E25A-C107-4964-85D6-D6D21B7F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EAA6B-5D68-4819-B7B9-2912AAAA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407F1-8367-4CE0-B6DF-5C490088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3F6C3-54FC-4A8D-B416-93FA4173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54D19-F164-45B6-9BBB-BFD63669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42581-CF14-40E1-9597-CBDD18CD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879B6-29E5-435B-8D82-25F042BB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36FF9-0913-4E61-9E1E-C244EE75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CBEBC-F058-4DA2-B5B9-4ACD5ED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22378-0592-4208-AD86-85D56050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79B2E-C4C1-4731-B701-8F1B1949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D014-2E71-4A2C-9271-9094BBE1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E3F07-62C9-4A6F-A200-F66B4CFD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A1D83-8BEF-4959-99DE-6D7C3FCF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C96DF-8B14-4564-BD29-7399425B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39D0D-6B6F-4DDC-BABF-DADEE2D5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2822E-03AA-48F5-BA28-9552325E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54306-ECD3-481C-8F47-B2F156A3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D1C64-42D0-4C6D-8580-A690A151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431FB-4DFC-486E-B08D-326590FF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2FFC1-1CA5-498E-A1AB-3422A3AB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F574C-EDFD-432B-850E-58573623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A5ADD-C451-47EB-8168-ABF39A4C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5872E-A588-4DDA-AABB-DE333F81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7D751-0848-4DF8-8C17-01D1E5EF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9D2B8-333A-4CC1-8BA1-DBDA9563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F60B6-471C-4BD1-8594-9B3A8303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D5948-943D-4700-8979-DAFAB8CA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457A02-A630-4E2E-8BF6-567D9B29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76367C-8090-4FE2-86E7-1571C5D7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C262C1-583F-4C75-B51D-4E34FAFE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3A0A71-79F6-43B8-B646-8310BC3F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8A99D2-0A5A-498B-99F8-7AAA9E25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8EE32-EA07-462E-AA59-3754EAD5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68DA0B-F03F-44C2-8F79-15B56533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240EE3-40F7-40EB-93C1-58404BC4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235EAD-871E-4954-8ACA-9299D01E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0FED46-F1CA-44F0-9DF2-2715AD7E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C4BC35-CD72-4346-8D51-37285D49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C9BE7E-DAA4-4FD8-B05E-28E2C3E7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09AB29-DA65-4079-81F3-15DD4667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2E55C-D84C-4F4A-BF21-FE62C594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F603B-163B-4916-919D-CAEC60F1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4E546-4C2C-43EA-A3F7-34C42C63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DD97-06A9-4A13-B31F-BC4FC5513D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61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442A-FDD8-4FA7-A580-DF995904E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57B6-8C9A-48EB-88F8-4DDB980F5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1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9062-3FBA-4C9C-9125-DD308B41AB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898E-211E-4BC9-9182-19BC578CD04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2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3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4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7D9A-C641-4397-8E25-EB85532939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2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3A1A-85DF-4BFB-96B0-349FC36B0D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7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587D-B994-4DC4-B9E5-AE86456A110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33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34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34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34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34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34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35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35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35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36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36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36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37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37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37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37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1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38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38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38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39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39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39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0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0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0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0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1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41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41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420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1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42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42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42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43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43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43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44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44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44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44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45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0A02-0298-4CF2-9215-5B481533C63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51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51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54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E0A9-C973-404C-B956-86877F093C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A606-9679-4D85-A699-DE52F125B7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5878-C629-43F9-9AC5-1F5B9E29577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5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5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6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D1FD-5E27-4FDF-8179-F90852293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9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7CD7-5561-4FAC-8D67-77561B9E36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3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3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 type="ftr" idx="6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ABF8-39ED-407B-91C9-32F583A9A9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8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8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1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9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 type="dt" idx="6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 type="ftr" idx="6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 type="sldNum" idx="6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F3B1-9920-482E-BEBC-9EFFCE0839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183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BA44-5FB5-4F5B-BF00-461C53503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0016-547A-4505-AB02-B3BA20904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dt" idx="7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ftr" idx="7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2DF1-F07D-480D-B9F4-51740563ED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8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2DBC-9B6E-4E7B-A50A-B16A16BD217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25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25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27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dt" idx="8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7199-9000-4E46-84A7-4C1812383A8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8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0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9CDE-9458-4E5B-B7E7-DE88AB1C7E6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9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9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443C-622A-4B0A-BAEA-BBB5579FEA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17D9-A185-4A7A-B081-03BEAC08D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0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F68E-DBFB-4E5C-91BD-E765D976C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BD4A-FC8E-4B5D-BF19-74163CCA95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7BD7-975B-44F9-A156-F484678CDC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12AA-1509-4DBD-A939-A9F360DDE3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0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300" spc="-1" strike="noStrike">
                <a:solidFill>
                  <a:srgbClr val="ffffcc"/>
                </a:solidFill>
                <a:latin typeface="Monotype Corsiva"/>
              </a:rPr>
              <a:t>Viruses &amp; Bacteria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hapter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iology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Presentation put together by Mandie Lyn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6" name="Picture 4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1" name="Picture 5" descr="Retrovirus_life_cycle"/>
          <p:cNvPicPr/>
          <p:nvPr/>
        </p:nvPicPr>
        <p:blipFill>
          <a:blip r:embed="rId1"/>
          <a:stretch/>
        </p:blipFill>
        <p:spPr>
          <a:xfrm>
            <a:off x="3505320" y="685800"/>
            <a:ext cx="5408640" cy="5638680"/>
          </a:xfrm>
          <a:prstGeom prst="rect">
            <a:avLst/>
          </a:prstGeom>
          <a:ln w="0">
            <a:noFill/>
          </a:ln>
        </p:spPr>
      </p:pic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2819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DNA into 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a Retrovirus is H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4" name="Picture 5" descr="Retrovirus"/>
          <p:cNvPicPr/>
          <p:nvPr/>
        </p:nvPicPr>
        <p:blipFill>
          <a:blip r:embed="rId1"/>
          <a:stretch/>
        </p:blipFill>
        <p:spPr>
          <a:xfrm>
            <a:off x="4495680" y="1547640"/>
            <a:ext cx="4496040" cy="3549960"/>
          </a:xfrm>
          <a:prstGeom prst="rect">
            <a:avLst/>
          </a:prstGeom>
          <a:ln w="0">
            <a:noFill/>
          </a:ln>
        </p:spPr>
      </p:pic>
      <p:sp>
        <p:nvSpPr>
          <p:cNvPr id="2485" name="Rectangle 6"/>
          <p:cNvSpPr/>
          <p:nvPr/>
        </p:nvSpPr>
        <p:spPr>
          <a:xfrm>
            <a:off x="304920" y="771840"/>
            <a:ext cx="4190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ypical, "minimal" retrovirus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uter envelope which was derived from the plasma membrane of its h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copies of an envelope protein embedded in the lipid bilayer of its envel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psid; a protein shell cont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molecules of RNA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ecules of the enzyme reverse transcript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6" name="Picture 7" descr="BacterialCell150"/>
          <p:cNvPicPr/>
          <p:nvPr/>
        </p:nvPicPr>
        <p:blipFill>
          <a:blip r:embed="rId1"/>
          <a:stretch/>
        </p:blipFill>
        <p:spPr>
          <a:xfrm>
            <a:off x="380880" y="2286000"/>
            <a:ext cx="1428840" cy="2571840"/>
          </a:xfrm>
          <a:prstGeom prst="rect">
            <a:avLst/>
          </a:prstGeom>
          <a:ln w="0">
            <a:noFill/>
          </a:ln>
        </p:spPr>
      </p:pic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teria Ce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88" name="Picture 17" descr="bacteria"/>
          <p:cNvPicPr/>
          <p:nvPr/>
        </p:nvPicPr>
        <p:blipFill>
          <a:blip r:embed="rId2"/>
          <a:stretch/>
        </p:blipFill>
        <p:spPr>
          <a:xfrm>
            <a:off x="5105520" y="228600"/>
            <a:ext cx="3886200" cy="2855880"/>
          </a:xfrm>
          <a:prstGeom prst="rect">
            <a:avLst/>
          </a:prstGeom>
          <a:ln w="0">
            <a:noFill/>
          </a:ln>
        </p:spPr>
      </p:pic>
      <p:pic>
        <p:nvPicPr>
          <p:cNvPr id="2489" name="Picture 20" descr="imageT9V"/>
          <p:cNvPicPr/>
          <p:nvPr/>
        </p:nvPicPr>
        <p:blipFill>
          <a:blip r:embed="rId3"/>
          <a:stretch/>
        </p:blipFill>
        <p:spPr>
          <a:xfrm>
            <a:off x="2057400" y="2514600"/>
            <a:ext cx="4572000" cy="4081320"/>
          </a:xfrm>
          <a:prstGeom prst="rect">
            <a:avLst/>
          </a:prstGeom>
          <a:ln w="0">
            <a:noFill/>
          </a:ln>
        </p:spPr>
      </p:pic>
      <p:pic>
        <p:nvPicPr>
          <p:cNvPr id="2490" name="Picture 23" descr="Bacteria"/>
          <p:cNvPicPr/>
          <p:nvPr/>
        </p:nvPicPr>
        <p:blipFill>
          <a:blip r:embed="rId4"/>
          <a:stretch/>
        </p:blipFill>
        <p:spPr>
          <a:xfrm>
            <a:off x="6400800" y="4467240"/>
            <a:ext cx="25146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3" name="Picture 6" descr="so23_09"/>
          <p:cNvPicPr/>
          <p:nvPr/>
        </p:nvPicPr>
        <p:blipFill>
          <a:blip r:embed="rId1"/>
          <a:stretch/>
        </p:blipFill>
        <p:spPr>
          <a:xfrm>
            <a:off x="4530600" y="533520"/>
            <a:ext cx="459108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4" name="Picture 5" descr="prokaryo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Eubacteri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up the larger of the two prokaryote kingd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are surrounded by a cell wall composed of complex carbohyd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7" name="Picture 13" descr="Eubacteria"/>
          <p:cNvPicPr/>
          <p:nvPr/>
        </p:nvPicPr>
        <p:blipFill>
          <a:blip r:embed="rId3"/>
          <a:stretch/>
        </p:blipFill>
        <p:spPr>
          <a:xfrm>
            <a:off x="4876920" y="1998720"/>
            <a:ext cx="3733560" cy="3591000"/>
          </a:xfrm>
          <a:prstGeom prst="rect">
            <a:avLst/>
          </a:prstGeom>
          <a:ln w="0">
            <a:noFill/>
          </a:ln>
        </p:spPr>
      </p:pic>
      <p:sp>
        <p:nvSpPr>
          <p:cNvPr id="2498" name="AutoShape 9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AutoShape 11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yano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95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otosynthetic bacter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uish-greenish col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membranes that carry out the process of photosynthe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not contain the same type of chloroplasts as plants 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bluish-greenish algae can be found nearly everywhere on ear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survive in extremely hot environments and even extremely cold enviro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2" name="Picture 5" descr="Cyanobacteria"/>
          <p:cNvPicPr/>
          <p:nvPr/>
        </p:nvPicPr>
        <p:blipFill>
          <a:blip r:embed="rId1"/>
          <a:stretch/>
        </p:blipFill>
        <p:spPr>
          <a:xfrm>
            <a:off x="3314880" y="1600200"/>
            <a:ext cx="58291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3" name="Picture 5" descr="archaebacteria"/>
          <p:cNvPicPr/>
          <p:nvPr/>
        </p:nvPicPr>
        <p:blipFill>
          <a:blip r:embed="rId1"/>
          <a:stretch/>
        </p:blipFill>
        <p:spPr>
          <a:xfrm>
            <a:off x="3352680" y="1600200"/>
            <a:ext cx="5562720" cy="5056200"/>
          </a:xfrm>
          <a:prstGeom prst="rect">
            <a:avLst/>
          </a:prstGeom>
          <a:ln w="0">
            <a:noFill/>
          </a:ln>
        </p:spPr>
      </p:pic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Archaebacter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819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ack important carbohydrate found in cell wall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ave different lipids in their cell membran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ifferent types of ribosom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Very different gene sequenc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rchaebacteria can live in extremely harsh environ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Identifying Prokaryo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8" name="Picture 5" descr="Prokaryote2"/>
          <p:cNvPicPr/>
          <p:nvPr/>
        </p:nvPicPr>
        <p:blipFill>
          <a:blip r:embed="rId4"/>
          <a:stretch/>
        </p:blipFill>
        <p:spPr>
          <a:xfrm>
            <a:off x="4724280" y="1905120"/>
            <a:ext cx="3262320" cy="2792160"/>
          </a:xfrm>
          <a:prstGeom prst="rect">
            <a:avLst/>
          </a:prstGeom>
          <a:ln w="0">
            <a:noFill/>
          </a:ln>
        </p:spPr>
      </p:pic>
      <p:pic>
        <p:nvPicPr>
          <p:cNvPr id="2509" name="Picture 8" descr="Prokaryote7"/>
          <p:cNvPicPr/>
          <p:nvPr/>
        </p:nvPicPr>
        <p:blipFill>
          <a:blip r:embed="rId5"/>
          <a:stretch/>
        </p:blipFill>
        <p:spPr>
          <a:xfrm>
            <a:off x="1143000" y="3886200"/>
            <a:ext cx="3048120" cy="241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0" name="Picture 5" descr="BACTERIA"/>
          <p:cNvPicPr/>
          <p:nvPr/>
        </p:nvPicPr>
        <p:blipFill>
          <a:blip r:embed="rId1"/>
          <a:stretch/>
        </p:blipFill>
        <p:spPr>
          <a:xfrm>
            <a:off x="5872320" y="457200"/>
            <a:ext cx="3271680" cy="6248520"/>
          </a:xfrm>
          <a:prstGeom prst="rect">
            <a:avLst/>
          </a:prstGeom>
          <a:ln w="0">
            <a:noFill/>
          </a:ln>
        </p:spPr>
      </p:pic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re Viru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A virus is a non-cellular particle made up of genetic material and protein that can invade living cel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3" name="Picture 5" descr="cwprofile"/>
          <p:cNvPicPr/>
          <p:nvPr/>
        </p:nvPicPr>
        <p:blipFill>
          <a:blip r:embed="rId1"/>
          <a:stretch/>
        </p:blipFill>
        <p:spPr>
          <a:xfrm>
            <a:off x="228600" y="3733920"/>
            <a:ext cx="8610480" cy="1976400"/>
          </a:xfrm>
          <a:prstGeom prst="rect">
            <a:avLst/>
          </a:prstGeom>
          <a:ln w="0">
            <a:noFill/>
          </a:ln>
        </p:spPr>
      </p:pic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Gram + and Gram – Bacterium Cell W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ellular Wal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nature of a cell wall can be determined by Gram St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finding out what color the cell produces when it is gram stained you can figure out the type of carbohydrates in the 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7" name="Picture 5" descr="Prokaryotes4"/>
          <p:cNvPicPr/>
          <p:nvPr/>
        </p:nvPicPr>
        <p:blipFill>
          <a:blip r:embed="rId1"/>
          <a:stretch/>
        </p:blipFill>
        <p:spPr>
          <a:xfrm>
            <a:off x="1371600" y="3471840"/>
            <a:ext cx="640080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v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55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lagella ~ Tail like structure the whips around to propel the bacteri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llia ~ Miniature flagella surround the cell that help to “swim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n motile ~ Sticky cillia like structures that keep the bacterium from mov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omic Sans MS"/>
              </a:rPr>
              <a:t>Flagell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1" name="Picture 5" descr="fladist"/>
          <p:cNvPicPr/>
          <p:nvPr/>
        </p:nvPicPr>
        <p:blipFill>
          <a:blip r:embed="rId1"/>
          <a:stretch/>
        </p:blipFill>
        <p:spPr>
          <a:xfrm>
            <a:off x="304920" y="2743200"/>
            <a:ext cx="8610480" cy="208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-360" y="-493668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ef6"/>
              </a:solidFill>
              <a:latin typeface="Comic Sans MS"/>
            </a:endParaRPr>
          </a:p>
        </p:txBody>
      </p:sp>
      <p:pic>
        <p:nvPicPr>
          <p:cNvPr id="2523" name="Picture 5" descr="img0102"/>
          <p:cNvPicPr/>
          <p:nvPr/>
        </p:nvPicPr>
        <p:blipFill>
          <a:blip r:embed="rId1"/>
          <a:stretch/>
        </p:blipFill>
        <p:spPr>
          <a:xfrm>
            <a:off x="533520" y="1295280"/>
            <a:ext cx="3368520" cy="4572000"/>
          </a:xfrm>
          <a:prstGeom prst="rect">
            <a:avLst/>
          </a:prstGeom>
          <a:ln w="0">
            <a:noFill/>
          </a:ln>
        </p:spPr>
      </p:pic>
      <p:pic>
        <p:nvPicPr>
          <p:cNvPr id="2524" name="Picture 8" descr="CB"/>
          <p:cNvPicPr/>
          <p:nvPr/>
        </p:nvPicPr>
        <p:blipFill>
          <a:blip r:embed="rId2"/>
          <a:stretch/>
        </p:blipFill>
        <p:spPr>
          <a:xfrm>
            <a:off x="426708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and their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7" name="Picture 9" descr="lin-bacteria-w"/>
          <p:cNvPicPr/>
          <p:nvPr/>
        </p:nvPicPr>
        <p:blipFill>
          <a:blip r:embed="rId1"/>
          <a:stretch/>
        </p:blipFill>
        <p:spPr>
          <a:xfrm>
            <a:off x="3581280" y="1676520"/>
            <a:ext cx="54104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utotrop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their own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Solar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Cyanobacte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0" name="Picture 5" descr="cyanobacteria"/>
          <p:cNvPicPr/>
          <p:nvPr/>
        </p:nvPicPr>
        <p:blipFill>
          <a:blip r:embed="rId1"/>
          <a:stretch/>
        </p:blipFill>
        <p:spPr>
          <a:xfrm>
            <a:off x="4572000" y="2212920"/>
            <a:ext cx="4114800" cy="333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otroph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own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Chemical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. Archaebac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3" name="Picture 5" descr="archaebacteria"/>
          <p:cNvPicPr/>
          <p:nvPr/>
        </p:nvPicPr>
        <p:blipFill>
          <a:blip r:embed="rId1"/>
          <a:stretch/>
        </p:blipFill>
        <p:spPr>
          <a:xfrm>
            <a:off x="4572000" y="1881360"/>
            <a:ext cx="4343400" cy="394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eterotroph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ea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E-c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6" name="Picture 5" descr="x_e"/>
          <p:cNvPicPr/>
          <p:nvPr/>
        </p:nvPicPr>
        <p:blipFill>
          <a:blip r:embed="rId1"/>
          <a:stretch/>
        </p:blipFill>
        <p:spPr>
          <a:xfrm>
            <a:off x="4191120" y="2114640"/>
            <a:ext cx="4647960" cy="3873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cteria Respi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ultativ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live with or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not live without oxyg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9" name="Picture 17" descr="viruses"/>
          <p:cNvPicPr/>
          <p:nvPr/>
        </p:nvPicPr>
        <p:blipFill>
          <a:blip r:embed="rId1"/>
          <a:stretch/>
        </p:blipFill>
        <p:spPr>
          <a:xfrm>
            <a:off x="1165320" y="1523880"/>
            <a:ext cx="2868480" cy="3886200"/>
          </a:xfrm>
          <a:prstGeom prst="rect">
            <a:avLst/>
          </a:prstGeom>
          <a:ln w="0">
            <a:noFill/>
          </a:ln>
        </p:spPr>
      </p:pic>
      <p:pic>
        <p:nvPicPr>
          <p:cNvPr id="2460" name="Picture 22" descr="viruses2"/>
          <p:cNvPicPr/>
          <p:nvPr/>
        </p:nvPicPr>
        <p:blipFill>
          <a:blip r:embed="rId2"/>
          <a:stretch/>
        </p:blipFill>
        <p:spPr>
          <a:xfrm>
            <a:off x="4637160" y="1676520"/>
            <a:ext cx="2703600" cy="3809880"/>
          </a:xfrm>
          <a:prstGeom prst="rect">
            <a:avLst/>
          </a:prstGeom>
          <a:ln w="0">
            <a:noFill/>
          </a:ln>
        </p:spPr>
      </p:pic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cecff"/>
                </a:solidFill>
                <a:latin typeface="Antique Olive"/>
              </a:rPr>
              <a:t>T4 Bacteriophage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teria Rep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nary Fi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jug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e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4" name="Picture 5" descr="img003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45" name="Rectangle 7"/>
          <p:cNvSpPr/>
          <p:nvPr/>
        </p:nvSpPr>
        <p:spPr>
          <a:xfrm>
            <a:off x="0" y="5410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8" name="Picture 5" descr="conjugation"/>
          <p:cNvPicPr/>
          <p:nvPr/>
        </p:nvPicPr>
        <p:blipFill>
          <a:blip r:embed="rId1"/>
          <a:stretch/>
        </p:blipFill>
        <p:spPr>
          <a:xfrm>
            <a:off x="4495680" y="457200"/>
            <a:ext cx="4338720" cy="6400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7996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Spore Formation: Endosp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type of dormant ce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hibit no signs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ighly resistant to environmental stresses such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High temper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Irrad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Strong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Disinfect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1" name="Picture 5" descr="endospore"/>
          <p:cNvPicPr/>
          <p:nvPr/>
        </p:nvPicPr>
        <p:blipFill>
          <a:blip r:embed="rId1"/>
          <a:stretch/>
        </p:blipFill>
        <p:spPr>
          <a:xfrm>
            <a:off x="5029200" y="1447920"/>
            <a:ext cx="38210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bi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 relationship between to species in which at least one species benefits from the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together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6" name="Picture 5" descr="Mycobacterium-tuberculosis"/>
          <p:cNvPicPr/>
          <p:nvPr/>
        </p:nvPicPr>
        <p:blipFill>
          <a:blip r:embed="rId1"/>
          <a:stretch/>
        </p:blipFill>
        <p:spPr>
          <a:xfrm>
            <a:off x="4282920" y="990720"/>
            <a:ext cx="4083120" cy="4876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tualis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9" name="Picture 4" descr="_394740_ecoli300"/>
          <p:cNvPicPr/>
          <p:nvPr/>
        </p:nvPicPr>
        <p:blipFill>
          <a:blip r:embed="rId1"/>
          <a:stretch/>
        </p:blipFill>
        <p:spPr>
          <a:xfrm>
            <a:off x="4572000" y="2400480"/>
            <a:ext cx="411480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itrogen Fixation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2" name="Picture 6" descr="em_herps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Herpes Viru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4" name="Picture 5" descr="_394740_ecoli300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3611520"/>
          </a:xfrm>
          <a:prstGeom prst="rect">
            <a:avLst/>
          </a:prstGeom>
          <a:ln w="0">
            <a:noFill/>
          </a:ln>
        </p:spPr>
      </p:pic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scherichia Coli Bacteriu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228240" y="51051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coli is a bacterium.  That is a crude cell, it is not a virus because viruses are protein containers with DNA cores or RNA c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7" name="Picture 5" descr="tphage1"/>
          <p:cNvPicPr/>
          <p:nvPr/>
        </p:nvPicPr>
        <p:blipFill>
          <a:blip r:embed="rId1"/>
          <a:stretch/>
        </p:blipFill>
        <p:spPr>
          <a:xfrm>
            <a:off x="457200" y="38088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2468" name="Picture 7" descr="attaching phage"/>
          <p:cNvPicPr/>
          <p:nvPr/>
        </p:nvPicPr>
        <p:blipFill>
          <a:blip r:embed="rId2"/>
          <a:stretch/>
        </p:blipFill>
        <p:spPr>
          <a:xfrm>
            <a:off x="3124080" y="2286000"/>
            <a:ext cx="2248200" cy="134316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9" descr="phagedna"/>
          <p:cNvPicPr/>
          <p:nvPr/>
        </p:nvPicPr>
        <p:blipFill>
          <a:blip r:embed="rId3"/>
          <a:stretch/>
        </p:blipFill>
        <p:spPr>
          <a:xfrm>
            <a:off x="6629400" y="2666880"/>
            <a:ext cx="961920" cy="127656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13" descr="tphage2"/>
          <p:cNvPicPr/>
          <p:nvPr/>
        </p:nvPicPr>
        <p:blipFill>
          <a:blip r:embed="rId4"/>
          <a:stretch/>
        </p:blipFill>
        <p:spPr>
          <a:xfrm>
            <a:off x="2819520" y="4038480"/>
            <a:ext cx="4762440" cy="11145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15" descr="t4movie"/>
          <p:cNvPicPr/>
          <p:nvPr/>
        </p:nvPicPr>
        <p:blipFill>
          <a:blip r:embed="rId5"/>
          <a:stretch/>
        </p:blipFill>
        <p:spPr>
          <a:xfrm>
            <a:off x="2438280" y="5791320"/>
            <a:ext cx="4896000" cy="857160"/>
          </a:xfrm>
          <a:prstGeom prst="rect">
            <a:avLst/>
          </a:prstGeom>
          <a:ln w="0">
            <a:noFill/>
          </a:ln>
        </p:spPr>
      </p:pic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. Coli and the Bacterioph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2521080" y="5028840"/>
            <a:ext cx="510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t looks like in real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Structure Of a Vi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 are composed of a core of nucle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acid core is surrounded by a protein coat called a caps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core is either made up of DNA or RNA but never b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6" name="Picture 8" descr="bacteriophage"/>
          <p:cNvPicPr/>
          <p:nvPr/>
        </p:nvPicPr>
        <p:blipFill>
          <a:blip r:embed="rId1"/>
          <a:stretch/>
        </p:blipFill>
        <p:spPr>
          <a:xfrm>
            <a:off x="4495680" y="1523880"/>
            <a:ext cx="419904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7" name="Picture 8" descr="image012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ycle of Lytic and Lysogenic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ccin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es grown on chicken embryos are attenuated vacc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type of vaccine is made by heat killing the virus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3:14:57Z</dcterms:created>
  <dc:creator>Jeddy</dc:creator>
  <dc:description/>
  <dc:language>en-US</dc:language>
  <cp:lastModifiedBy>RomaK</cp:lastModifiedBy>
  <dcterms:modified xsi:type="dcterms:W3CDTF">2015-09-04T10:53:29Z</dcterms:modified>
  <cp:revision>24</cp:revision>
  <dc:subject/>
  <dc:title>Viruses &amp; Bacteria</dc:title>
</cp:coreProperties>
</file>