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41.jpeg" ContentType="image/jpeg"/>
  <Override PartName="/ppt/media/image28.jpeg" ContentType="image/jpeg"/>
  <Override PartName="/ppt/media/image7.jpeg" ContentType="image/jpeg"/>
  <Override PartName="/ppt/media/image12.gif" ContentType="image/gif"/>
  <Override PartName="/ppt/media/image30.png" ContentType="image/png"/>
  <Override PartName="/ppt/media/image29.jpeg" ContentType="image/jpeg"/>
  <Override PartName="/ppt/media/image31.jpeg" ContentType="image/jpeg"/>
  <Override PartName="/ppt/media/image19.jpeg" ContentType="image/jpeg"/>
  <Override PartName="/ppt/media/image34.png" ContentType="image/png"/>
  <Override PartName="/ppt/media/image13.png" ContentType="image/png"/>
  <Override PartName="/ppt/media/image37.png" ContentType="image/png"/>
  <Override PartName="/ppt/media/image20.png" ContentType="image/png"/>
  <Override PartName="/ppt/media/image36.jpeg" ContentType="image/jpeg"/>
  <Override PartName="/ppt/media/image4.jpeg" ContentType="image/jpeg"/>
  <Override PartName="/ppt/media/image40.png" ContentType="image/png"/>
  <Override PartName="/ppt/media/image11.png" ContentType="image/png"/>
  <Override PartName="/ppt/media/image9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  <p:sldId id="276" r:id="rId51"/>
    <p:sldId id="277" r:id="rId52"/>
    <p:sldId id="278" r:id="rId53"/>
    <p:sldId id="279" r:id="rId54"/>
    <p:sldId id="280" r:id="rId55"/>
    <p:sldId id="281" r:id="rId56"/>
    <p:sldId id="282" r:id="rId57"/>
    <p:sldId id="283" r:id="rId58"/>
    <p:sldId id="284" r:id="rId59"/>
    <p:sldId id="285" r:id="rId60"/>
    <p:sldId id="286" r:id="rId61"/>
    <p:sldId id="287" r:id="rId62"/>
    <p:sldId id="288" r:id="rId63"/>
    <p:sldId id="289" r:id="rId64"/>
    <p:sldId id="290" r:id="rId65"/>
    <p:sldId id="291" r:id="rId66"/>
    <p:sldId id="292" r:id="rId67"/>
    <p:sldId id="293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slide" Target="slides/slide21.xml"/><Relationship Id="rId52" Type="http://schemas.openxmlformats.org/officeDocument/2006/relationships/slide" Target="slides/slide22.xml"/><Relationship Id="rId53" Type="http://schemas.openxmlformats.org/officeDocument/2006/relationships/slide" Target="slides/slide23.xml"/><Relationship Id="rId54" Type="http://schemas.openxmlformats.org/officeDocument/2006/relationships/slide" Target="slides/slide24.xml"/><Relationship Id="rId55" Type="http://schemas.openxmlformats.org/officeDocument/2006/relationships/slide" Target="slides/slide25.xml"/><Relationship Id="rId56" Type="http://schemas.openxmlformats.org/officeDocument/2006/relationships/slide" Target="slides/slide26.xml"/><Relationship Id="rId57" Type="http://schemas.openxmlformats.org/officeDocument/2006/relationships/slide" Target="slides/slide27.xml"/><Relationship Id="rId58" Type="http://schemas.openxmlformats.org/officeDocument/2006/relationships/slide" Target="slides/slide28.xml"/><Relationship Id="rId59" Type="http://schemas.openxmlformats.org/officeDocument/2006/relationships/slide" Target="slides/slide29.xml"/><Relationship Id="rId60" Type="http://schemas.openxmlformats.org/officeDocument/2006/relationships/slide" Target="slides/slide30.xml"/><Relationship Id="rId61" Type="http://schemas.openxmlformats.org/officeDocument/2006/relationships/slide" Target="slides/slide31.xml"/><Relationship Id="rId62" Type="http://schemas.openxmlformats.org/officeDocument/2006/relationships/slide" Target="slides/slide32.xml"/><Relationship Id="rId63" Type="http://schemas.openxmlformats.org/officeDocument/2006/relationships/slide" Target="slides/slide33.xml"/><Relationship Id="rId64" Type="http://schemas.openxmlformats.org/officeDocument/2006/relationships/slide" Target="slides/slide34.xml"/><Relationship Id="rId65" Type="http://schemas.openxmlformats.org/officeDocument/2006/relationships/slide" Target="slides/slide35.xml"/><Relationship Id="rId66" Type="http://schemas.openxmlformats.org/officeDocument/2006/relationships/slide" Target="slides/slide36.xml"/><Relationship Id="rId67" Type="http://schemas.openxmlformats.org/officeDocument/2006/relationships/slide" Target="slides/slide37.xml"/><Relationship Id="rId68" Type="http://schemas.openxmlformats.org/officeDocument/2006/relationships/slide" Target="slides/slide38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 type="dt" idx="8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 type="ftr" idx="8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PlaceHolder 6"/>
          <p:cNvSpPr>
            <a:spLocks noGrp="1"/>
          </p:cNvSpPr>
          <p:nvPr>
            <p:ph type="sldNum" idx="8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22F8-FD0E-4C61-AD2D-2E7616384A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&amp;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put together by Mandie Lynn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&amp;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put together by Mandie Lynn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NA into 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 Retrovirus is HI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NA into 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 Retrovirus is HI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ical, "minimal" retrovirus consists o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uter envelope which was derived from the plasma membrane of its ho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pies of an envelope protein embedded in the lipid bilayer of its envel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psid; a protein shell contai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olecules of RNA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of the enzyme reverse transcript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ical, "minimal" retrovirus consists o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uter envelope which was derived from the plasma membrane of its ho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pies of an envelope protein embedded in the lipid bilayer of its envel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psid; a protein shell contai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olecules of RNA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of the enzyme reverse transcript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that do not 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almost every where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 in numbers so great you can see them with the unaided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placed in either the Eubacteria or the Archebacteria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smaller of the two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that do not 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almost every where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 in numbers so great you can see them with the unaided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placed in either the Eubacteria or the Archebacteria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smaller of the two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larger of the two prokaryote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 are surrounded by a cell wall composed of complex carbohyd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larger of the two prokaryote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 are surrounded by a cell wall composed of complex carbohyd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ish-greenish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membranes that carry out the process of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contain the same type of chloroplasts as plants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luish-greenish algae can be found nearly everywhere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urvive in extremely hot environments and even extremely col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ish-greenish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membranes that carry out the process of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contain the same type of chloroplasts as plants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luish-greenish algae can be found nearly everywhere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urvive in extremely hot environments and even extremely col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ae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important carbohydrate found in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ifferent lipids in their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types of 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different gene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aebacteria can live in extremely harsh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require oxygen and can live in extremely salty environments as well as extremely hot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ae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important carbohydrate found in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ifferent lipids in their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types of 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different gene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aebacteria can live in extremely harsh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require oxygen and can live in extremely salty environments as well as extremely hot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um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cci~ Sphere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illus~ Rod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irrillium ~ Spiral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gella~ Leg-like structures that help to propel the bacte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um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cci~ Sphere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illus~ Rod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irrillium ~ Spiral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gella~ Leg-like structures that help to propel the bacte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rus is a non-cellular particle made up of genetic material and protein that can invade living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rus is a non-cellular particle made up of genetic material and protein that can invade living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+ and Gram – Bacterium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+ and Gram – Bacterium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nature of a cell wall can be determined by Gram S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finding out what color the cell produces when it is gram stained you can figure out the type of carbohydrates in the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nature of a cell wall can be determined by Gram S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finding out what color the cell produces when it is gram stained you can figure out the type of carbohydrates in the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gella ~ Tail like structure the whips around to propel the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lia ~ Miniature flagella surround the cell that help to “swi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 motile ~ Sticky cillia like structures that keep the bacterium from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gella ~ Tail like structure the whips around to propel the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lia ~ Miniature flagella surround the cell that help to “swi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 motile ~ Sticky cillia like structures that keep the bacterium from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and thei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t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and thei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t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eir ow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Sola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eir ow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Sola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ow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hem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Archae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ow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hem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Archae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E-c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E-c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n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ultative An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withou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live with or withou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live without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n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ultative An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withou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live with or withou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live without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4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4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nary 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or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nary 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or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organism copies it’s genetic information then splits into two identical daught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organism copies it’s genetic information then splits into two identical daught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Bacteria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rganism swap genetic information, that contains the information such as a resistance to 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Bacteria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rganism swap genetic information, that contains the information such as a resistance to 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 Formation: Endos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dormant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bit no signs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resistant to environmental stresse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igh temper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rong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isinfec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pores are formed by vegetative cells in response to environmental signals that indicate a limiting factor for vegetative growth, such as exhaustion of an essential nutri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 Formation: Endos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dormant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bit no signs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resistant to environmental stresse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igh temper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rong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isinfec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pores are formed by vegetative cells in response to environmental signals that indicate a limiting factor for vegetative growth, such as exhaustion of an essential nutri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relationship between to species in which at least one species benefits from the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together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relationship between to species in which at least one species benefits from the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together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sit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exploit the host cell, injuring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Mychobacterium 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sit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exploit the host cell, injuring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Mychobacterium 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iosis in which two of the species live together in such a way that both benefit from th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E-col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iosis in which two of the species live together in such a way that both benefit from th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E-col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 Fix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by which nitrogen in the atmosphere is converted into a form that can be used by living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 Fix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by which nitrogen in the atmosphere is converted into a form that can be used by living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pes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pes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cherichia Coli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coli is a bacterium.  That is a crude cell, it is not a virus because viruses are protein containers with DNA cores or RNA c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cherichia Coli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coli is a bacterium.  That is a crude cell, it is not a virus because viruses are protein containers with DNA cores or RNA c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Coli and the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t looks like in re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Coli and the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t looks like in re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are composed of a core of nucle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c acid core is surrounded by a protein coat called a caps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c core is either made up of DNA or RNA but never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are composed of a core of nucle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c acid core is surrounded by a protein coat called a caps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c core is either made up of DNA or RNA but never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e of Lytic and Lysogen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e of Lytic and Lysogen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grown on chicken embryos are attenuated 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type of vaccine is made by heat killing the viru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grown on chicken embryos are attenuated 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type of vaccine is made by heat killing the viru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67513-5E01-4D31-AA15-4244DA24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CC36C-BCFE-4770-8586-37DBEC46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B3D78-392E-4E08-A247-901215E0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1B115-7942-4E83-82EA-9DBCC866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0507C-66D9-4EBC-81BA-F4F0E3E6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A5E9E-ECC5-4E1C-9A70-72C135AC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42D2E-D46E-4CA8-9AD0-F2ED4CB5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0C503-451A-40EB-A83D-8B6C71B9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2D4B8-1FB4-4E32-AC55-7474B306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FCA1E-3F25-4F35-B4A5-908EEC404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8F63CA-DC1C-4DBC-9599-60A0C812D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5B0C2C-FE52-4CC8-8032-3C627D16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BAB92-47F6-4BCD-96BB-B1C94872F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89BE11-E65D-4135-9C54-BA52F06F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618B27-C2F4-411F-B9C0-F4C2A5CB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0523A3-FB74-41FD-8C9A-2AF383A9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DD9AB1-9E1A-45C2-AE1E-B4869DBF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0B1EAD-91A1-4469-A4B9-89802019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B0A4AF-FF94-48CE-BBDD-04179701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771D22-CAE7-498B-A556-D79F6B41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4C4978-1F9F-4264-B932-F57EB7C3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1F77A3-9AE1-4DAE-9E20-5702140C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5B3940-075D-488F-927F-306FB2B93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D961D-78E1-4B2E-B1FD-2CEB6D3A0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75AF8E-F478-4455-A918-DBDBDC1A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8265B-7724-4D0B-A593-90218E3B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03932-E9A4-4AAE-9F73-47D1F2FC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A103F-03E8-4FC2-BA69-161ADAF1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7C92E-F61E-4BC7-A636-2DFEFA51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82012-287A-45CF-A8A7-50BF79C0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C5CDA-922B-4F7D-8098-3D28BC8A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6CB02-C2A9-4CA4-8644-31A4DF56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292CB-D666-4480-949A-0714A85C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923FC-411D-4633-A04D-47C5D058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CA26F-BEEB-47E0-BF3C-720BE87E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DEEC7-3631-425B-84F4-83C933CB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6E3A2-D642-4EFD-B25B-5BD41FD7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D040E-6C0F-4BAE-967B-F01FA6D1E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CC8A03-16EA-40C8-AF65-349EAD835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D29AB-3194-45B8-9787-088C789D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B7794B-E55D-4BB9-8AFE-468B87F4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1EE0CA-27BD-451E-844C-AC343D9D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ABE4D7-4231-448D-92A6-3C81D52B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A560EC-43B4-477B-94D2-2DFE2A8E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DBEAA7-534C-4BC8-ABF0-19620EB4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A3188-874D-4E45-BE89-983F527E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EC5DB-723A-4C46-96DA-1E85C10B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3A503-6DD6-44EF-AB47-B5921E3E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EB101-0AA2-4F2B-BE9F-08251E9F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40A6D7-AF3A-4FA2-8203-6DCE20DAD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370EA-A458-4D8D-8421-F34493F5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5AE968-9819-4E46-BAF8-80ED25037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54E6D6-D3B4-4B5D-AA8A-9F35CCBD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0A3628-B6C0-4AE1-98B1-1FB52B94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2EC02D-304E-428A-8625-9D9D00F7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9C5B69-DDFE-45E8-8B2A-5BD499C0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EDD88-7ABE-4AFD-A75E-20106F3A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D5BEF0-23FB-417B-A24A-79499CEA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3E53A6-83F6-467C-86B3-860C6DD8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B1F76D-FEDD-4AD5-BF30-ABAF4684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4CA1D1-ACC9-4D08-8F5D-FD459992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37920F-619D-4ADE-AB34-B0AC18C3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89CC51-75EA-41C7-AADE-21C6A509C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897F69-B55B-447B-B2D8-6AE0BFA4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139F81-BD98-4307-A487-19FD9BBCF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0D9242-3217-4ECB-8E45-9B0DB814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AE5FA8-35F9-47A5-9CCE-2704DD5A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D89E9-4541-43E4-8681-A2D537DE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63E579-2471-4969-B5AA-1C3E3F7E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0145F2-F939-479E-9C7B-FA3FCF38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35E28D-0C7B-4212-9526-79CA23DA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8506DD-045C-4640-86BD-B8BC9955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FDFD19-C2E5-4869-AF71-E97AA55C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7303E6-B92B-49B1-AA24-292416EB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0D640E-E4AF-4561-971F-65822F53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B307BA-AD11-4F80-A133-E5422EE78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D299F8-23FB-472B-BFF9-C5088F020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525529-3135-4AAB-B356-06CDD0F3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1D8A2-D27A-4FAE-841F-A351A356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2F8C81-51A7-4D8C-AFBB-709492AF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1E509B-8D56-4D14-B0F3-A0B3B98C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1DAFC8-4609-4B75-B55A-6BD03FB0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40EFEB-1437-48FA-BA1A-61CFA3E4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9775CB-7938-4EAE-BE09-08A17DA0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86A376-C641-4D7F-BAD0-58708F57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49D333-A7CD-45FF-8B07-0E48C778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67B4B0-A0F0-448C-99DD-03DD31A7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CE3645-1904-478E-98F2-F8821404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0DC805-BE35-407B-8AF2-474BD3535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B7396-A4FA-4889-A89D-F040DC40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E405A2-C801-47E7-9F12-B76197793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95B0FB-67B0-4FCF-AC05-494991E55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339220-CD35-4AB3-B0FE-C26D0177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756F07-D840-49FD-8169-F77D3D5F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E5E384-E5B0-4437-943C-E5DA6BB3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C41221-37CD-4F07-B6D5-EC97C92F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AD1DB4-ED4C-40AC-A9FC-F6CCB6E4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7F1D3A-BD8D-4748-BF7F-D723F9A5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17C801-5BB9-4057-85EA-EA6EE067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D17EFA-993D-4CC7-B9EB-BCA48D31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2D208-6740-4BD9-B5E2-4B85D5C1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FF5948-43C5-4939-AF15-8486F38B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D3245C-00DE-4E87-9840-CE2FE461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C27B6B-F9A2-4D75-8A16-372CD54C5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E66BCD-5C8F-4485-B005-98D78AC80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464E70-D73B-401B-9DD2-0C50ECA7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D8F1F2-B657-4DF3-B307-5796653B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2724C1-AE58-4595-A0F4-D4C4072A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DA6B72-2E9D-4561-84C5-60123320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814B0F-8DB6-4603-AD8D-FADCEBE4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B279E4-2247-479C-83F1-F0821B59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519B5-CFAB-4D26-A8A5-2A46BC8B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37761-668C-4A24-B884-8EFE9C90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FED648-CFDE-411D-9095-BB66212C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C2F1EF-EE01-4A89-9D5D-76B7F667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EF47B9-6EDA-4BCF-811A-05C2A022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948C49-0F43-4B65-AB94-6CD13B599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692099-0A0F-4752-9533-69EAC72A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64A505-2A5F-4993-AA73-D43ED25A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B82EBB-CE95-4C90-A61B-2CF9ABAD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AC88A3-414E-43B4-970E-7DB48CD1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091B0A-E7A7-4761-B4E2-D3B6B94E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B93B44-9ADB-45A2-B652-15D0723E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31C9B-D5CD-4C56-B90C-C42FE1E8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5A5571-0340-42A7-9E2B-87E1F2ED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554B52-C728-4C9B-B64E-E9C21BC2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A89D8C-B6E4-40D8-B1DD-1B072C4D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B3E4AE-22D9-4CCA-B207-8FF65ACE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D86B50-7E01-45F7-8F39-273144C1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D82117-42B9-4E73-ACBC-5C020D612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BA3BA2-D900-40DC-8CE7-EE541C5A9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C4375E-2928-42D9-9937-D90031B4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B9851B-1F70-4F7B-A849-1F0D6EE9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EB8FC0-EC07-479F-8EB2-EA9688AE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6BEE3-0C2B-41F0-8C61-7315D182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6BFEB9-F7B4-4277-ACCD-EAAAD603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592FE6-63B3-4E55-9931-E6972F67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AC9293-BE62-4FEE-AE04-78450E14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AB0530-9430-4A5C-8628-795BD540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37F97C-CFF1-45D7-8D61-C039A4C9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02E52C-7A8B-4DC9-9204-37FF8C6D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870E79-3DBF-43A3-ABDA-115C0D91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D70F2D-AF8A-4862-82C0-4DB94C0EE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A31B5C-C1F8-4F4D-B6FC-1ADFD2BA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D35ADC-5C7B-4968-B2E7-B919A05D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3A59B-7564-4C9F-ADA0-5E778C51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288A20-1037-4333-A275-E8CDFB41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CC9E37-4235-4ADF-A5B9-514AF806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FC4A32-85CA-4C7D-9339-8F9D4407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692BA9-D63C-461B-A61F-DEEA828A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99F49A-E946-4F6D-A377-EF39541B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129CC2-8F63-4518-BC4A-5B659470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DCEF42-794E-4496-8587-274D1322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45C960-9C7B-41C7-9D9D-4B10E244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F90995-14A0-4B80-B124-B97C3F7E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749C63-BCA8-42F7-BA4F-B53FADD1F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21899-7DE8-4774-A0FA-074EFA6C1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E938C8-34EC-4F68-80F9-82D4164A3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096346-5188-4F21-83F7-DBA62316A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0C5897-6560-4002-A580-A7B81EF6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F717B0-3EB6-4339-9F0E-172D153A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0DA5D1-A48F-4340-BD97-0ADEAC85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E465BA-E97C-4828-AF91-690AF025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AF078E-6EE7-4ACE-AEC7-C38D1429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8FCCF9-1D1E-4DF7-9052-DA654FD5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79E129-577B-43CB-8B74-F8E0DCED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545E23-95FA-4CAD-A206-A44934CD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A4522-7B98-470B-840F-4314FB1E8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AEE09E-95FE-40FB-A91F-45DA796C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2CE018-F97E-4B55-8C29-392DA3567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8C3157-72C1-4BB8-BBE8-EC7F673B9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27FF15-2320-4904-A5D6-67F53631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7DB03C-93ED-4FF5-9549-743095D9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768D9A-A5D4-47FF-81D3-E3CEED5A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5D90F7-3B2F-4AF1-94EF-FA56090C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D94F61-4F11-4577-BB3F-ED7D8881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D28B2A-BD67-42BA-966D-60B8E815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585683-9E50-48AF-BD23-B9BFB7DA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5DBC8-6F7B-4F6C-9F59-02A18613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D22161-5655-4233-AC19-F73FE56A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FA37CB-9768-4B46-A2FE-346CDA38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D5E366-2B70-4D9D-A167-EF54D865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83B94E-AC95-4C44-9A31-745B4B77A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DE36C6-61EB-40C1-8A91-B64C713A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831A37-0D7B-4F6F-BF05-BBFC0A3AD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94EA6F-D2D0-4A37-B703-095E74A1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5989E9-4A82-4A44-BE5F-41689F67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C86C63-30E4-4C84-8BBA-14D3E44F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CA0E6A-0051-4800-A3EF-73EA1A31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3BFE3-389A-40F3-992F-D3C1F4C4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D8BFD5-5CC5-4CDD-B25C-B6BFCAF8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B67EED-8129-475D-B530-0D2B026C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E1DD2E-D9B7-4E8A-90A3-76514365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9D3016-E98C-4FF6-B443-A12F9C6B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10498A-2BD9-4E0C-9EC3-57FDB81E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FD50D7-1961-4281-99A4-DB951DF25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C92D60-B4EB-4D10-B9DA-A88B3FAD1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4CD13B-1AD5-44F4-8F97-E13CCBF45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2D37F7-FB44-4E34-8F8B-9A2FFA46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017960-79FE-4ED3-9799-9A5F1CB6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AFA01-E80A-4D5B-AFC1-402AD583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5C688C-E788-414C-B8F4-09609766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252B24-7E4A-4037-AD0E-3507C7F2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4E967D-DA35-47AF-A9E8-4E329F94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5133FF-AE8E-45F6-B2AD-EBAFC579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2F0A02-876E-4A5A-BF4E-11D136AD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90B234-D938-494B-9686-20783301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26965C-CDBC-4D95-8604-1C5FDFC9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72AFD2-23BA-440C-9508-499DFA19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3BC69F-1E6D-4BFB-A179-228485FCD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47B1D6-E917-4DC8-A9F1-4537F801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AB807-0A49-4255-BA97-DB041548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5B08DA-CAE7-49E4-A056-B3FDE320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5B0B8F-4E1D-4F0C-830C-A9D0D12F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03BA709-A114-4733-B6D9-4273DD19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48D486-1F24-4D3B-ABE3-589ED2E4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CA2165-4B2E-4813-97D8-B1AF6306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38FAAC-EBA3-4BFE-93F4-A3666552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C8F914-2101-4F17-9AA1-8233B9B8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68CEA1-A792-49D9-9277-C0E6B414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528B9A-D889-4841-8127-DA92214F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704F6A-945C-462F-8FD9-4B3789B8B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63670-D0AC-425F-8BC4-C6F914E8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6AA1B-3C56-4AC9-91BE-675CBFDF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1D1533-F2E3-4CE6-A7FE-7B48B7BE0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177EDFB-F434-4F09-B16E-27AAC615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0EDB91A-E54D-40AC-A8B5-9AA6136D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9F5B00-621B-4990-AA08-0B1C379A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087C05-25FB-4EA0-8AE1-0813BF7E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38B524C-7080-42CC-BA99-ABA8E56F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F0E495-C9C8-474B-9061-EDA46963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34959A-2A03-49AD-9A67-E5049728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67C751-6306-40F4-A950-0BA03866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316FC0-F9E2-48EF-B7C6-5BAF48A1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F501E-9AB5-47DA-8DE1-44C3A706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B92B90-F3EB-498B-B266-96BD44C5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199DA5-8790-4C10-BD98-8A92D3983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7431BD-AB97-404B-B9BE-F569D4136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FF50627-6799-43B7-A66A-C70881D7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8FFF7B-F0A3-40A0-8EBF-FDC8155D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CCF8788-2280-4FB0-A3F6-DFFBF465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20BD27-69CA-4C35-BDC2-668A2D70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713488-33F8-4B41-B4B5-2D3BDFA6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7845AB-8E00-44E5-A636-BEBFAE95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531D2D-861C-4AE9-8925-BAB34664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DDC67-828F-46C3-B0C5-3E01D953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19BC7D-C997-4263-9B73-2366CFDD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D420854-48F2-404A-BB94-983A123A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AFB6B84-8A2F-42BC-9D15-79EECB4F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DC8489-A063-4792-90D4-99D98634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825CF4-759B-46D5-A2F2-85688102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FA13A0-C98C-4046-A2E9-F870DD4A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818A43-09F3-49F9-8000-8C8DA3A3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268CC5-281C-4335-8F2B-41A9511F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A1EE08-D31A-4F43-B5CE-1B6B911B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527FA1-C92F-47B3-981B-24A942BA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AC91C-F077-4CF0-88CF-669BE861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396510-977C-4847-B6A5-919BF9B8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F1792D1-D9A0-45F6-BA4C-DF45AE8B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F0B8EF-04B5-49A5-8D42-46D43637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91C995-4898-4D9B-BF04-EB6C06E1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3B9EE6-ADBD-4897-AB65-99868764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C4B269-7FAE-4D18-A32B-0F246219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BF35EB6-038F-4C98-B62E-3AA36E52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6E580-E0C5-4C4F-9B33-63555C6C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0074E-85C7-4DAD-944A-E0739C7FC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6C03B-F1D0-4BDF-A6DD-313C96B23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0B428-6347-4249-A695-627EDA21E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30FE1-0856-4090-8293-DCE668E2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6CA90-EFDC-4153-A77B-B32B5CDB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99496-6E8B-4374-B083-46017EAD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01078-C41B-4D0B-A8CA-7E52C036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CA441-51E3-43AB-80C4-997224FE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92983-F70A-4FA1-858E-0A3FBFB1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A8AE5-5744-4CD0-84A2-B1FE6DBB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79442-A143-4F7B-9272-01DF11F3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93C92-80C5-49DA-B654-42108A21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81CC1-FDEC-4D60-B5A6-E011F729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03E8C-A409-4780-A27E-37A5985E8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3F597-9E56-4FE8-A665-F15DCE948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453453-3682-42F0-BDAB-479B6CB3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128FF-F2E6-4B35-93A2-A7267F9D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08786A-9DBB-4BDC-B39A-A815B95B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07F73F-AF6C-427F-8956-3908AC81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AE00A3-A6D7-4618-8E90-DE4BB60B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2C023A-7248-48C9-9940-57CFEAA4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0C2C27-2B0B-45D2-9FBF-5A8DF3CE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E922BB-1FFB-4AFD-A4D9-24276B1E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54BD32-AC98-4753-8F00-654D7D92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922223-4B0E-44FC-9FAF-34536C5F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5B06F5-31EE-4BF7-A6C7-74E77B42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FF1732-FB8E-4B30-8524-42047365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907A2-FD18-4021-9720-9D45F660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FA2D9D-445A-49A6-9652-6FA743A68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A6423-9743-43F5-BC87-629EEBF6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41619-E340-4EED-9804-C93A5467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9B1BA-D76D-4213-9298-969D1DB2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E73D9-F844-4E3F-935C-149374BD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E868B-7EAA-476A-A02B-B48830AD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7E7B9-BB19-4EC6-A645-C0DEAF34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0E9D6-D1D9-46AB-BC2C-D85B7439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C02ED-16A0-4654-8EA8-C1EC3393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385E1-A2E9-4E32-9D20-DE14D4FE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51471-6A74-45A2-891E-1B27FBAA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B4521-26ED-460C-96B4-7FECD560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4BBFD-CD2D-4CE9-99A9-3D5F30F2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459E7-672E-45BC-B7B5-962F543C9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41998-DFE4-45E6-8356-EB6BF892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3D35B-CA7C-4645-8B95-0BBDA548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14B73-9656-41CA-8EBE-53A044C0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079FB-77FF-4AEB-B78B-3F4AA532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9AED9-C8D0-4E30-B7FA-2309666F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C0418-12C7-475E-B315-38F53263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80C51-15D4-4838-A3E0-800AB6A1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E26A4-26EE-4FBB-B917-47C62F54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81532-0B2C-4740-82EB-81EF1CD8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EDE80-ECF5-48A2-BEF1-DC8CE633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22A0D-B057-4E76-AADA-C56035A7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3594D-BBEA-45EF-916B-958C8748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74F0F-534F-4375-AE47-E40A9AC23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CF0730-0D11-4D78-A441-5A22E4459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D5B20E-BCBB-4057-8946-BAAE4B0F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6924A2-12C5-416E-A756-9EFCC929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2AB720-F7CF-477B-A777-F01204B2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7F6D38-E5C3-4657-ACC5-0150CF5F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E741D-814B-48B9-A3A9-4ED6BD5F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F39955-1F97-4386-BEE5-81084441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99E40E-43B3-40A5-A9FF-91FE0E13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1F2D62-F07E-47A9-8EB5-E264A5B8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3D42B7-9904-45BB-92D6-1F0E2A4E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1FE95D-D06E-480A-B44A-CB034381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38C0D0-E32A-4CE8-BFBB-61B3875C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F15A1B-30D8-4DD7-99EE-8E78744F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FC9DF-2BE9-4695-BD07-4B994C8D9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5BFAB-D24B-4CA6-84F6-320B9091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73EAB-22C4-4004-99EC-8E285E57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77.xml"/><Relationship Id="rId8" Type="http://schemas.openxmlformats.org/officeDocument/2006/relationships/slideLayout" Target="../slideLayouts/slideLayout278.xml"/><Relationship Id="rId9" Type="http://schemas.openxmlformats.org/officeDocument/2006/relationships/slideLayout" Target="../slideLayouts/slideLayout279.xml"/><Relationship Id="rId10" Type="http://schemas.openxmlformats.org/officeDocument/2006/relationships/slideLayout" Target="../slideLayouts/slideLayout280.xml"/><Relationship Id="rId11" Type="http://schemas.openxmlformats.org/officeDocument/2006/relationships/slideLayout" Target="../slideLayouts/slideLayout281.xml"/><Relationship Id="rId12" Type="http://schemas.openxmlformats.org/officeDocument/2006/relationships/slideLayout" Target="../slideLayouts/slideLayout282.xml"/><Relationship Id="rId13" Type="http://schemas.openxmlformats.org/officeDocument/2006/relationships/slideLayout" Target="../slideLayouts/slideLayout283.xml"/><Relationship Id="rId14" Type="http://schemas.openxmlformats.org/officeDocument/2006/relationships/slideLayout" Target="../slideLayouts/slideLayout284.xml"/><Relationship Id="rId15" Type="http://schemas.openxmlformats.org/officeDocument/2006/relationships/slideLayout" Target="../slideLayouts/slideLayout285.xml"/><Relationship Id="rId16" Type="http://schemas.openxmlformats.org/officeDocument/2006/relationships/slideLayout" Target="../slideLayouts/slideLayout286.xml"/><Relationship Id="rId17" Type="http://schemas.openxmlformats.org/officeDocument/2006/relationships/slideLayout" Target="../slideLayouts/slideLayout287.xml"/><Relationship Id="rId18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737A-E272-4A8D-95FA-1E81B0BEC0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612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PlaceHolder 1"/>
          <p:cNvSpPr>
            <a:spLocks noGrp="1"/>
          </p:cNvSpPr>
          <p:nvPr>
            <p:ph type="sldNum" idx="2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39BC-7C4B-4A4C-BF4F-CB6CE7B4F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dt" idx="2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ftr" idx="3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88B1-33E9-46DB-AD86-667AE0F70D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9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10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F51D-46BD-4741-A4DB-C208CFEBA26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3AB4-AD74-49A0-AE2D-DBA15C0151E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029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30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3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44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4E65-F979-446C-89D4-BD1427F13A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2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2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F903-91C6-43DB-88D0-F425F38B40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7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9986-C6BD-4FF9-A804-95D0EAFBCC8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8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339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340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343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344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345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7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348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349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0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1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352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3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4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355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6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7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358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9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0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361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2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3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364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5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6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367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8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9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370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1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2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373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4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5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376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7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8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379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0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1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382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3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4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385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6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7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388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9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0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391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2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3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394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5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6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397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8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9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400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1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2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403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4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5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406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7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8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409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0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11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13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414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5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6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417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8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9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420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1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2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423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4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5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426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7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8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429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0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1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432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3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4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435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6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7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438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9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0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441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2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3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444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5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46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1447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1448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0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1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2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55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6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1457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B6ED-64F1-452D-A9E2-CD2D0F4EEDF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2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513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6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517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0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542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7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6E6C-0FAF-4870-811F-BC2D98D3911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9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59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21BD-1466-4D2E-A8B1-B6D755BD89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DFF5-41C9-46D0-AD78-AF98F13B288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5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646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 type="dt" idx="5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 type="ftr" idx="5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 type="sldNum" idx="6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BA05-A640-4A83-AD0F-21D7D138A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3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694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23C2-A2B5-4416-B0D1-886AD43BAFD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7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738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739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4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 type="dt" idx="6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 type="ftr" idx="6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 type="sldNum" idx="6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63E7-59F7-4C55-932C-53B1AD368A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788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789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1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792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 type="dt" idx="6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 type="ftr" idx="6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 type="sldNum" idx="6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C49C-4022-4157-A649-67C8628649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8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1839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CFAD-4D01-4475-A5B3-B19FF4855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7"/>
    <p:sldLayoutId id="2147483949" r:id="rId8"/>
    <p:sldLayoutId id="2147483950" r:id="rId9"/>
    <p:sldLayoutId id="2147483951" r:id="rId10"/>
    <p:sldLayoutId id="2147483952" r:id="rId11"/>
    <p:sldLayoutId id="2147483953" r:id="rId12"/>
    <p:sldLayoutId id="2147483954" r:id="rId13"/>
    <p:sldLayoutId id="2147483955" r:id="rId14"/>
    <p:sldLayoutId id="2147483956" r:id="rId15"/>
    <p:sldLayoutId id="2147483957" r:id="rId16"/>
    <p:sldLayoutId id="2147483958" r:id="rId17"/>
    <p:sldLayoutId id="2147483959" r:id="rId18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0A5A-A934-479F-8613-4D63541F66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13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 type="dt" idx="7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4"/>
          <p:cNvSpPr>
            <a:spLocks noGrp="1"/>
          </p:cNvSpPr>
          <p:nvPr>
            <p:ph type="ftr" idx="7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5"/>
          <p:cNvSpPr>
            <a:spLocks noGrp="1"/>
          </p:cNvSpPr>
          <p:nvPr>
            <p:ph type="sldNum" idx="7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8004-0AA7-43FB-A8BA-6CBB3E6954A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7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8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2B89-834F-4609-9ED9-48F2689B343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5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256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257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0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271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 type="dt" idx="8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0041-AD4D-4C79-8DF6-65CD6034A47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15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16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19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22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25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6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29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0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33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36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9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42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45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48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51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54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57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60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63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66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69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72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75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78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81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84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87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90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2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4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95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98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01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04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07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10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13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16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19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22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25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7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6847-DB79-4ABE-96CE-6E50820E925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9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9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2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26C9-E894-4FB0-817D-374D6FE1755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4C13-74E2-4766-9DA5-1461BAA840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0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6FB5-078A-4F4E-A17B-0FA971280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70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4CF5-E44A-4BEE-89C9-0382406A47D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5CFA-D6C7-4A28-8FA8-1FD92F51AD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836C-C6C7-4A28-A0F2-57ACF9EC08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09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300" spc="-1" strike="noStrike">
                <a:solidFill>
                  <a:srgbClr val="ffffcc"/>
                </a:solidFill>
                <a:latin typeface="Monotype Corsiva"/>
              </a:rPr>
              <a:t>Viruses &amp; Bacteria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hapter 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Biology 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Presentation put together by Mandie Lynn Wa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6" name="Picture 4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1" name="Picture 5" descr="Retrovirus_life_cycle"/>
          <p:cNvPicPr/>
          <p:nvPr/>
        </p:nvPicPr>
        <p:blipFill>
          <a:blip r:embed="rId1"/>
          <a:stretch/>
        </p:blipFill>
        <p:spPr>
          <a:xfrm>
            <a:off x="3505320" y="685800"/>
            <a:ext cx="5408640" cy="5638680"/>
          </a:xfrm>
          <a:prstGeom prst="rect">
            <a:avLst/>
          </a:prstGeom>
          <a:ln w="0">
            <a:noFill/>
          </a:ln>
        </p:spPr>
      </p:pic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886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tro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28195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nge DNA into 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a Retrovirus is HI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4" name="Picture 5" descr="Retrovirus"/>
          <p:cNvPicPr/>
          <p:nvPr/>
        </p:nvPicPr>
        <p:blipFill>
          <a:blip r:embed="rId1"/>
          <a:stretch/>
        </p:blipFill>
        <p:spPr>
          <a:xfrm>
            <a:off x="4495680" y="1547640"/>
            <a:ext cx="4496040" cy="3549960"/>
          </a:xfrm>
          <a:prstGeom prst="rect">
            <a:avLst/>
          </a:prstGeom>
          <a:ln w="0">
            <a:noFill/>
          </a:ln>
        </p:spPr>
      </p:pic>
      <p:sp>
        <p:nvSpPr>
          <p:cNvPr id="2485" name="Rectangle 6"/>
          <p:cNvSpPr/>
          <p:nvPr/>
        </p:nvSpPr>
        <p:spPr>
          <a:xfrm>
            <a:off x="304920" y="771840"/>
            <a:ext cx="41907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ypical, "minimal" retrovirus consists o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uter envelope which was derived from the plasma membrane of its ho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copies of an envelope protein embedded in the lipid bilayer of its envelo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psid; a protein shell cont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molecules of RNA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lecules of the enzyme reverse transcript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6" name="Picture 7" descr="BacterialCell150"/>
          <p:cNvPicPr/>
          <p:nvPr/>
        </p:nvPicPr>
        <p:blipFill>
          <a:blip r:embed="rId1"/>
          <a:stretch/>
        </p:blipFill>
        <p:spPr>
          <a:xfrm>
            <a:off x="380880" y="2286000"/>
            <a:ext cx="1428840" cy="2571840"/>
          </a:xfrm>
          <a:prstGeom prst="rect">
            <a:avLst/>
          </a:prstGeom>
          <a:ln w="0">
            <a:noFill/>
          </a:ln>
        </p:spPr>
      </p:pic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teria Ce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88" name="Picture 17" descr="bacteria"/>
          <p:cNvPicPr/>
          <p:nvPr/>
        </p:nvPicPr>
        <p:blipFill>
          <a:blip r:embed="rId2"/>
          <a:stretch/>
        </p:blipFill>
        <p:spPr>
          <a:xfrm>
            <a:off x="5105520" y="228600"/>
            <a:ext cx="3886200" cy="2855880"/>
          </a:xfrm>
          <a:prstGeom prst="rect">
            <a:avLst/>
          </a:prstGeom>
          <a:ln w="0">
            <a:noFill/>
          </a:ln>
        </p:spPr>
      </p:pic>
      <p:pic>
        <p:nvPicPr>
          <p:cNvPr id="2489" name="Picture 20" descr="imageT9V"/>
          <p:cNvPicPr/>
          <p:nvPr/>
        </p:nvPicPr>
        <p:blipFill>
          <a:blip r:embed="rId3"/>
          <a:stretch/>
        </p:blipFill>
        <p:spPr>
          <a:xfrm>
            <a:off x="2057400" y="2514600"/>
            <a:ext cx="4572000" cy="4081320"/>
          </a:xfrm>
          <a:prstGeom prst="rect">
            <a:avLst/>
          </a:prstGeom>
          <a:ln w="0">
            <a:noFill/>
          </a:ln>
        </p:spPr>
      </p:pic>
      <p:pic>
        <p:nvPicPr>
          <p:cNvPr id="2490" name="Picture 23" descr="Bacteria"/>
          <p:cNvPicPr/>
          <p:nvPr/>
        </p:nvPicPr>
        <p:blipFill>
          <a:blip r:embed="rId4"/>
          <a:stretch/>
        </p:blipFill>
        <p:spPr>
          <a:xfrm>
            <a:off x="6400800" y="4467240"/>
            <a:ext cx="2514600" cy="1733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 that do not have a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 almost every wher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 in numbers so great you can see them with the unaided e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placed in either the Eubacteria or the Archebacteria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up the smaller of the two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3" name="Picture 6" descr="so23_09"/>
          <p:cNvPicPr/>
          <p:nvPr/>
        </p:nvPicPr>
        <p:blipFill>
          <a:blip r:embed="rId1"/>
          <a:stretch/>
        </p:blipFill>
        <p:spPr>
          <a:xfrm>
            <a:off x="4530600" y="533520"/>
            <a:ext cx="4591080" cy="5943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4" name="Picture 5" descr="prokaryo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omic Sans MS"/>
              </a:rPr>
              <a:t>Eubacteri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up the larger of the two prokaryote kingd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ly are surrounded by a cell wall composed of complex carbohyd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7" name="Picture 13" descr="Eubacteria"/>
          <p:cNvPicPr/>
          <p:nvPr/>
        </p:nvPicPr>
        <p:blipFill>
          <a:blip r:embed="rId3"/>
          <a:stretch/>
        </p:blipFill>
        <p:spPr>
          <a:xfrm>
            <a:off x="4876920" y="1998720"/>
            <a:ext cx="3733560" cy="3591000"/>
          </a:xfrm>
          <a:prstGeom prst="rect">
            <a:avLst/>
          </a:prstGeom>
          <a:ln w="0">
            <a:noFill/>
          </a:ln>
        </p:spPr>
      </p:pic>
      <p:sp>
        <p:nvSpPr>
          <p:cNvPr id="2498" name="AutoShape 9"/>
          <p:cNvSpPr/>
          <p:nvPr/>
        </p:nvSpPr>
        <p:spPr>
          <a:xfrm>
            <a:off x="3757680" y="2757600"/>
            <a:ext cx="16286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AutoShape 11"/>
          <p:cNvSpPr/>
          <p:nvPr/>
        </p:nvSpPr>
        <p:spPr>
          <a:xfrm>
            <a:off x="3757680" y="2757600"/>
            <a:ext cx="16286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Cyanobac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95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hotosynthetic bacteriu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luish-greenish col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tain membranes that carry out the process of photosynthes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 not contain the same type of chloroplasts as plants 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s bluish-greenish algae can be found nearly everywhere on eart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survive in extremely hot environments and even extremely cold environ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2" name="Picture 5" descr="Cyanobacteria"/>
          <p:cNvPicPr/>
          <p:nvPr/>
        </p:nvPicPr>
        <p:blipFill>
          <a:blip r:embed="rId1"/>
          <a:stretch/>
        </p:blipFill>
        <p:spPr>
          <a:xfrm>
            <a:off x="3314880" y="1600200"/>
            <a:ext cx="582912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3" name="Picture 5" descr="archaebacteria"/>
          <p:cNvPicPr/>
          <p:nvPr/>
        </p:nvPicPr>
        <p:blipFill>
          <a:blip r:embed="rId1"/>
          <a:stretch/>
        </p:blipFill>
        <p:spPr>
          <a:xfrm>
            <a:off x="3352680" y="1600200"/>
            <a:ext cx="5562720" cy="5056200"/>
          </a:xfrm>
          <a:prstGeom prst="rect">
            <a:avLst/>
          </a:prstGeom>
          <a:ln w="0">
            <a:noFill/>
          </a:ln>
        </p:spPr>
      </p:pic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Comic Sans MS"/>
              </a:rPr>
              <a:t>Archaebacteri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819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ack important carbohydrate found in cell wall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Have different lipids in their cell membran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ifferent types of ribosom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Very different gene sequenc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rchaebacteria can live in extremely harsh environment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They do not require oxygen and can live in extremely salty environments as well as extremely hot environment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omic Sans MS"/>
              </a:rPr>
              <a:t>Identifying Prokaryot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Sh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8" name="Picture 5" descr="Prokaryote2"/>
          <p:cNvPicPr/>
          <p:nvPr/>
        </p:nvPicPr>
        <p:blipFill>
          <a:blip r:embed="rId4"/>
          <a:stretch/>
        </p:blipFill>
        <p:spPr>
          <a:xfrm>
            <a:off x="4724280" y="1905120"/>
            <a:ext cx="3262320" cy="2792160"/>
          </a:xfrm>
          <a:prstGeom prst="rect">
            <a:avLst/>
          </a:prstGeom>
          <a:ln w="0">
            <a:noFill/>
          </a:ln>
        </p:spPr>
      </p:pic>
      <p:pic>
        <p:nvPicPr>
          <p:cNvPr id="2509" name="Picture 8" descr="Prokaryote7"/>
          <p:cNvPicPr/>
          <p:nvPr/>
        </p:nvPicPr>
        <p:blipFill>
          <a:blip r:embed="rId5"/>
          <a:stretch/>
        </p:blipFill>
        <p:spPr>
          <a:xfrm>
            <a:off x="1143000" y="3886200"/>
            <a:ext cx="3048120" cy="241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0" name="Picture 5" descr="BACTERIA"/>
          <p:cNvPicPr/>
          <p:nvPr/>
        </p:nvPicPr>
        <p:blipFill>
          <a:blip r:embed="rId1"/>
          <a:stretch/>
        </p:blipFill>
        <p:spPr>
          <a:xfrm>
            <a:off x="5872320" y="457200"/>
            <a:ext cx="3271680" cy="6248520"/>
          </a:xfrm>
          <a:prstGeom prst="rect">
            <a:avLst/>
          </a:prstGeom>
          <a:ln w="0">
            <a:noFill/>
          </a:ln>
        </p:spPr>
      </p:pic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terium 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10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cci~ Sphere shaped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illus~ Rod shaped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rrillium ~ Spiral shaped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ella~ Leg-like structures that help to propel the bacteri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are Virus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A virus is a non-cellular particle made up of genetic material and protein that can invade living cell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3" name="Picture 5" descr="cwprofile"/>
          <p:cNvPicPr/>
          <p:nvPr/>
        </p:nvPicPr>
        <p:blipFill>
          <a:blip r:embed="rId1"/>
          <a:stretch/>
        </p:blipFill>
        <p:spPr>
          <a:xfrm>
            <a:off x="228600" y="3733920"/>
            <a:ext cx="8610480" cy="1976400"/>
          </a:xfrm>
          <a:prstGeom prst="rect">
            <a:avLst/>
          </a:prstGeom>
          <a:ln w="0">
            <a:noFill/>
          </a:ln>
        </p:spPr>
      </p:pic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Gram + and Gram – Bacterium Cell Wal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Cellular Wall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mical nature of a cell wall can be determined by Gram Stai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finding out what color the cell produces when it is gram stained you can figure out the type of carbohydrates in the cell w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7" name="Picture 5" descr="Prokaryotes4"/>
          <p:cNvPicPr/>
          <p:nvPr/>
        </p:nvPicPr>
        <p:blipFill>
          <a:blip r:embed="rId1"/>
          <a:stretch/>
        </p:blipFill>
        <p:spPr>
          <a:xfrm>
            <a:off x="1371600" y="3471840"/>
            <a:ext cx="6400800" cy="3386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ove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55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lagella ~ Tail like structure the whips around to propel the bacteriu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illia ~ Miniature flagella surround the cell that help to “swim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on motile ~ Sticky cillia like structures that keep the bacterium from mov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Comic Sans MS"/>
              </a:rPr>
              <a:t>Flagella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1" name="Picture 5" descr="fladist"/>
          <p:cNvPicPr/>
          <p:nvPr/>
        </p:nvPicPr>
        <p:blipFill>
          <a:blip r:embed="rId1"/>
          <a:stretch/>
        </p:blipFill>
        <p:spPr>
          <a:xfrm>
            <a:off x="304920" y="2743200"/>
            <a:ext cx="8610480" cy="2087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-360" y="-4936680"/>
            <a:ext cx="304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fdef6"/>
              </a:solidFill>
              <a:latin typeface="Comic Sans MS"/>
            </a:endParaRPr>
          </a:p>
        </p:txBody>
      </p:sp>
      <p:pic>
        <p:nvPicPr>
          <p:cNvPr id="2523" name="Picture 5" descr="img0102"/>
          <p:cNvPicPr/>
          <p:nvPr/>
        </p:nvPicPr>
        <p:blipFill>
          <a:blip r:embed="rId1"/>
          <a:stretch/>
        </p:blipFill>
        <p:spPr>
          <a:xfrm>
            <a:off x="533520" y="1295280"/>
            <a:ext cx="3368520" cy="4572000"/>
          </a:xfrm>
          <a:prstGeom prst="rect">
            <a:avLst/>
          </a:prstGeom>
          <a:ln w="0">
            <a:noFill/>
          </a:ln>
        </p:spPr>
      </p:pic>
      <p:pic>
        <p:nvPicPr>
          <p:cNvPr id="2524" name="Picture 8" descr="CB"/>
          <p:cNvPicPr/>
          <p:nvPr/>
        </p:nvPicPr>
        <p:blipFill>
          <a:blip r:embed="rId2"/>
          <a:stretch/>
        </p:blipFill>
        <p:spPr>
          <a:xfrm>
            <a:off x="4267080" y="12952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cteria and their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tro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otro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terotro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7" name="Picture 9" descr="lin-bacteria-w"/>
          <p:cNvPicPr/>
          <p:nvPr/>
        </p:nvPicPr>
        <p:blipFill>
          <a:blip r:embed="rId1"/>
          <a:stretch/>
        </p:blipFill>
        <p:spPr>
          <a:xfrm>
            <a:off x="3581280" y="1676520"/>
            <a:ext cx="5410440" cy="351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utotroph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their own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Solar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g. Cyanobacte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0" name="Picture 5" descr="cyanobacteria"/>
          <p:cNvPicPr/>
          <p:nvPr/>
        </p:nvPicPr>
        <p:blipFill>
          <a:blip r:embed="rId1"/>
          <a:stretch/>
        </p:blipFill>
        <p:spPr>
          <a:xfrm>
            <a:off x="4572000" y="2212920"/>
            <a:ext cx="4114800" cy="3330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emotroph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ke own Ener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ing Chemical ener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g. Archaebacte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33" name="Picture 5" descr="archaebacteria"/>
          <p:cNvPicPr/>
          <p:nvPr/>
        </p:nvPicPr>
        <p:blipFill>
          <a:blip r:embed="rId1"/>
          <a:stretch/>
        </p:blipFill>
        <p:spPr>
          <a:xfrm>
            <a:off x="4572000" y="1881360"/>
            <a:ext cx="4343400" cy="3948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Heterotroph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tain f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ea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g. E-co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6" name="Picture 5" descr="x_e"/>
          <p:cNvPicPr/>
          <p:nvPr/>
        </p:nvPicPr>
        <p:blipFill>
          <a:blip r:embed="rId1"/>
          <a:stretch/>
        </p:blipFill>
        <p:spPr>
          <a:xfrm>
            <a:off x="4191120" y="2114640"/>
            <a:ext cx="4647960" cy="387324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acteria Respi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3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ligate Anaerob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cultative Anaerob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ligate Aerob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e without Oxy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live with or without oxy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not live without oxyge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9" name="Picture 17" descr="viruses"/>
          <p:cNvPicPr/>
          <p:nvPr/>
        </p:nvPicPr>
        <p:blipFill>
          <a:blip r:embed="rId1"/>
          <a:stretch/>
        </p:blipFill>
        <p:spPr>
          <a:xfrm>
            <a:off x="1165320" y="1523880"/>
            <a:ext cx="2868480" cy="3886200"/>
          </a:xfrm>
          <a:prstGeom prst="rect">
            <a:avLst/>
          </a:prstGeom>
          <a:ln w="0">
            <a:noFill/>
          </a:ln>
        </p:spPr>
      </p:pic>
      <p:pic>
        <p:nvPicPr>
          <p:cNvPr id="2460" name="Picture 22" descr="viruses2"/>
          <p:cNvPicPr/>
          <p:nvPr/>
        </p:nvPicPr>
        <p:blipFill>
          <a:blip r:embed="rId2"/>
          <a:stretch/>
        </p:blipFill>
        <p:spPr>
          <a:xfrm>
            <a:off x="4637160" y="1676520"/>
            <a:ext cx="2703600" cy="3809880"/>
          </a:xfrm>
          <a:prstGeom prst="rect">
            <a:avLst/>
          </a:prstGeom>
          <a:ln w="0">
            <a:noFill/>
          </a:ln>
        </p:spPr>
      </p:pic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ccecff"/>
                </a:solidFill>
                <a:latin typeface="Antique Olive"/>
              </a:rPr>
              <a:t>T4 Bacteriophage</a:t>
            </a:r>
            <a:endParaRPr b="0" lang="en-US" sz="5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cteria Repro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nary Fi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jug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re 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4" name="Picture 5" descr="img003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545" name="Rectangle 7"/>
          <p:cNvSpPr/>
          <p:nvPr/>
        </p:nvSpPr>
        <p:spPr>
          <a:xfrm>
            <a:off x="0" y="5410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ellular organism copies it’s genetic information then splits into two identical daught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ype of Bacteria S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rganism swap genetic information, that contains the information such as a resistance to penicil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8" name="Picture 5" descr="conjugation"/>
          <p:cNvPicPr/>
          <p:nvPr/>
        </p:nvPicPr>
        <p:blipFill>
          <a:blip r:embed="rId1"/>
          <a:stretch/>
        </p:blipFill>
        <p:spPr>
          <a:xfrm>
            <a:off x="4495680" y="457200"/>
            <a:ext cx="4338720" cy="64008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7996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Comic Sans MS"/>
              </a:rPr>
              <a:t>Spore Formation: Endospo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 type of dormant cel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xhibit no signs of li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ighly resistant to environmental stresses such 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High temper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Irradi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Strong ac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Disinfect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ndospores are formed by vegetative cells in response to environmental signals that indicate a limiting factor for vegetative growth, such as exhaustion of an essential nutri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1" name="Picture 5" descr="endospore"/>
          <p:cNvPicPr/>
          <p:nvPr/>
        </p:nvPicPr>
        <p:blipFill>
          <a:blip r:embed="rId1"/>
          <a:stretch/>
        </p:blipFill>
        <p:spPr>
          <a:xfrm>
            <a:off x="5029200" y="1447920"/>
            <a:ext cx="3821040" cy="5105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ymbio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e relationship between to species in which at least one species benefits from the o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e together for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sit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exploit the host cell, injuring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Mychobacterium tubercul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6" name="Picture 5" descr="Mycobacterium-tuberculosis"/>
          <p:cNvPicPr/>
          <p:nvPr/>
        </p:nvPicPr>
        <p:blipFill>
          <a:blip r:embed="rId1"/>
          <a:stretch/>
        </p:blipFill>
        <p:spPr>
          <a:xfrm>
            <a:off x="4282920" y="990720"/>
            <a:ext cx="4083120" cy="48765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utualis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mbiosis in which two of the species live together in such a way that both benefit from the relationsh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g. E-coli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9" name="Picture 4" descr="_394740_ecoli300"/>
          <p:cNvPicPr/>
          <p:nvPr/>
        </p:nvPicPr>
        <p:blipFill>
          <a:blip r:embed="rId1"/>
          <a:stretch/>
        </p:blipFill>
        <p:spPr>
          <a:xfrm>
            <a:off x="4572000" y="2400480"/>
            <a:ext cx="4114800" cy="28764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itrogen Fixations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 by which nitrogen in the atmosphere is converted into a form that can be used by living thing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2" name="Picture 6" descr="em_herps"/>
          <p:cNvPicPr/>
          <p:nvPr/>
        </p:nvPicPr>
        <p:blipFill>
          <a:blip r:embed="rId1"/>
          <a:stretch/>
        </p:blipFill>
        <p:spPr>
          <a:xfrm>
            <a:off x="1523880" y="1828800"/>
            <a:ext cx="6096240" cy="4067280"/>
          </a:xfrm>
          <a:prstGeom prst="rect">
            <a:avLst/>
          </a:prstGeom>
          <a:ln w="0">
            <a:noFill/>
          </a:ln>
        </p:spPr>
      </p:pic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Herpes Viru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4" name="Picture 5" descr="_394740_ecoli300"/>
          <p:cNvPicPr/>
          <p:nvPr/>
        </p:nvPicPr>
        <p:blipFill>
          <a:blip r:embed="rId1"/>
          <a:stretch/>
        </p:blipFill>
        <p:spPr>
          <a:xfrm>
            <a:off x="1523880" y="1447920"/>
            <a:ext cx="6019920" cy="3611520"/>
          </a:xfrm>
          <a:prstGeom prst="rect">
            <a:avLst/>
          </a:prstGeom>
          <a:ln w="0">
            <a:noFill/>
          </a:ln>
        </p:spPr>
      </p:pic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Escherichia Coli Bacterium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228240" y="5105160"/>
            <a:ext cx="85345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. coli is a bacterium.  That is a crude cell, it is not a virus because viruses are protein containers with DNA cores or RNA co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7" name="Picture 5" descr="tphage1"/>
          <p:cNvPicPr/>
          <p:nvPr/>
        </p:nvPicPr>
        <p:blipFill>
          <a:blip r:embed="rId1"/>
          <a:stretch/>
        </p:blipFill>
        <p:spPr>
          <a:xfrm>
            <a:off x="457200" y="380880"/>
            <a:ext cx="2571840" cy="1714680"/>
          </a:xfrm>
          <a:prstGeom prst="rect">
            <a:avLst/>
          </a:prstGeom>
          <a:ln w="0">
            <a:noFill/>
          </a:ln>
        </p:spPr>
      </p:pic>
      <p:pic>
        <p:nvPicPr>
          <p:cNvPr id="2468" name="Picture 7" descr="attaching phage"/>
          <p:cNvPicPr/>
          <p:nvPr/>
        </p:nvPicPr>
        <p:blipFill>
          <a:blip r:embed="rId2"/>
          <a:stretch/>
        </p:blipFill>
        <p:spPr>
          <a:xfrm>
            <a:off x="3124080" y="2286000"/>
            <a:ext cx="2248200" cy="1343160"/>
          </a:xfrm>
          <a:prstGeom prst="rect">
            <a:avLst/>
          </a:prstGeom>
          <a:ln w="0">
            <a:noFill/>
          </a:ln>
        </p:spPr>
      </p:pic>
      <p:pic>
        <p:nvPicPr>
          <p:cNvPr id="2469" name="Picture 9" descr="phagedna"/>
          <p:cNvPicPr/>
          <p:nvPr/>
        </p:nvPicPr>
        <p:blipFill>
          <a:blip r:embed="rId3"/>
          <a:stretch/>
        </p:blipFill>
        <p:spPr>
          <a:xfrm>
            <a:off x="6629400" y="2666880"/>
            <a:ext cx="961920" cy="1276560"/>
          </a:xfrm>
          <a:prstGeom prst="rect">
            <a:avLst/>
          </a:prstGeom>
          <a:ln w="0">
            <a:noFill/>
          </a:ln>
        </p:spPr>
      </p:pic>
      <p:pic>
        <p:nvPicPr>
          <p:cNvPr id="2470" name="Picture 13" descr="tphage2"/>
          <p:cNvPicPr/>
          <p:nvPr/>
        </p:nvPicPr>
        <p:blipFill>
          <a:blip r:embed="rId4"/>
          <a:stretch/>
        </p:blipFill>
        <p:spPr>
          <a:xfrm>
            <a:off x="2819520" y="4038480"/>
            <a:ext cx="4762440" cy="1114560"/>
          </a:xfrm>
          <a:prstGeom prst="rect">
            <a:avLst/>
          </a:prstGeom>
          <a:ln w="0">
            <a:noFill/>
          </a:ln>
        </p:spPr>
      </p:pic>
      <p:pic>
        <p:nvPicPr>
          <p:cNvPr id="2471" name="Picture 15" descr="t4movie"/>
          <p:cNvPicPr/>
          <p:nvPr/>
        </p:nvPicPr>
        <p:blipFill>
          <a:blip r:embed="rId5"/>
          <a:stretch/>
        </p:blipFill>
        <p:spPr>
          <a:xfrm>
            <a:off x="2438280" y="5791320"/>
            <a:ext cx="4896000" cy="857160"/>
          </a:xfrm>
          <a:prstGeom prst="rect">
            <a:avLst/>
          </a:prstGeom>
          <a:ln w="0">
            <a:noFill/>
          </a:ln>
        </p:spPr>
      </p:pic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2742840" y="228240"/>
            <a:ext cx="6095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. Coli and the Bacterioph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 type="subTitle"/>
          </p:nvPr>
        </p:nvSpPr>
        <p:spPr>
          <a:xfrm>
            <a:off x="2521080" y="5028840"/>
            <a:ext cx="51069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t looks like in real lif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The Structure Of a Vir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ruses are composed of a core of nucle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cleic acid core is surrounded by a protein coat called a caps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cleic core is either made up of DNA or RNA but never bo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76" name="Picture 8" descr="bacteriophage"/>
          <p:cNvPicPr/>
          <p:nvPr/>
        </p:nvPicPr>
        <p:blipFill>
          <a:blip r:embed="rId1"/>
          <a:stretch/>
        </p:blipFill>
        <p:spPr>
          <a:xfrm>
            <a:off x="4495680" y="1523880"/>
            <a:ext cx="4199040" cy="4724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7" name="Picture 8" descr="image012"/>
          <p:cNvPicPr/>
          <p:nvPr/>
        </p:nvPicPr>
        <p:blipFill>
          <a:blip r:embed="rId1"/>
          <a:stretch/>
        </p:blipFill>
        <p:spPr>
          <a:xfrm>
            <a:off x="0" y="895320"/>
            <a:ext cx="9144000" cy="5962680"/>
          </a:xfrm>
          <a:prstGeom prst="rect">
            <a:avLst/>
          </a:prstGeom>
          <a:ln w="0">
            <a:noFill/>
          </a:ln>
        </p:spPr>
      </p:pic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Cycle of Lytic and Lysogenic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accin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ruses grown on chicken embryos are attenuated vacc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other type of vaccine is made by heat killing the virus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23:14:57Z</dcterms:created>
  <dc:creator>Jeddy</dc:creator>
  <dc:description/>
  <dc:language>en-US</dc:language>
  <cp:lastModifiedBy>RomaK</cp:lastModifiedBy>
  <dcterms:modified xsi:type="dcterms:W3CDTF">2015-09-04T10:53:29Z</dcterms:modified>
  <cp:revision>24</cp:revision>
  <dc:subject/>
  <dc:title>Viruses &amp; Bacteria</dc:title>
</cp:coreProperties>
</file>