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7.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Narrow"/>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Click to move the slide</a:t>
            </a:r>
            <a:endParaRPr b="0" lang="en-US" sz="4400" spc="-1" strike="noStrike">
              <a:solidFill>
                <a:srgbClr val="ebd189"/>
              </a:solidFill>
              <a:latin typeface="Impact"/>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B6DFB-D18E-4EEA-AD0F-7BAE608D21F5}"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omen and Medicine</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History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Year 11</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nd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Elizabeth Blackwell</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Black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s is often the case, it was one or two determined individuals who were prepared to force openings for themselves and then for others, one of these was Elizabeth Blackwell.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s often the case, it was one or two determined individuals who were prepared to force openings for themselves and then for others, one of these was Elizabeth Blackw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ho was Elizabeth Blackwell?</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Blackwell was an American teacher who taught herself basic science and then trained through private instruction at the Charleston Medical School in New York. She was awarded the M.D. degree in 1849 from Geneva Medical College in New York, and was the first woman to become a modern doctor.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as Elizabeth Black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Blackwell was an American teacher who taught herself basic science and then trained through private instruction at the Charleston Medical School in New York. She was awarded the M.D. degree in 1849 from Geneva Medical College in New York, and was the first woman to become a modern doc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Once qualified she still faced opposition and was barred from working at the New York City Hospitals, so in 1857 she set up her own practice, staffed entirely by women. The success of this practice proved that a woman could run an efficient medical service.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qualified she still faced opposition and was barred from working at the New York City Hospitals, so in 1857 she set up her own practice, staffed entirely by women. The success of this practice proved that a woman could run an efficient medica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 </a:t>
            </a:r>
            <a:endParaRPr b="0" lang="en-US" sz="1200" spc="-1" strike="noStrike">
              <a:solidFill>
                <a:srgbClr val="eaeaea"/>
              </a:solidFill>
              <a:latin typeface="Arial Narrow"/>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Move to London</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869 Blackwell moved to London to found the London School of Medicine for Women. Elizabeth Blackwell became a doctor through her own efforts and expertise. Despite the resistance of fellow male students and doctors, she graduated at the very top of her clas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to Lond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69 Blackwell moved to London to found the London School of Medicine for Women. Elizabeth Blackwell became a doctor through her own efforts and expertise. Despite the resistance of fellow male students and doctors, she graduated at the very top of her cla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Blackwell set a precedent for women doctors in the modern world. On a visit to England in 1859 she met  Elizabeth Garrett who went on to become the first woman doctor in Britain and also a pioneer of women's medicine in Europe. </a:t>
            </a:r>
            <a:br>
              <a:rPr sz="1200"/>
            </a:b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Blackwell set a precedent for women doctors in the modern world. On a visit to England in 1859 she met  Elizabeth Garrett who went on to become the first woman doctor in Britain and also a pioneer of women's medicine in Europ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Elizabeth Garrett Anderson</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Garrett And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Garrett Anderson (1836-1917)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Garrett Anderson, like her role model Elizabeth Blackwell, did much to encourage the acceptance of women into the male-dominated medical world.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Garrett Anderson (1836-191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Garrett Anderson, like her role model Elizabeth Blackwell, did much to encourage the acceptance of women into the male-dominated medical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ho was Elizabeth Garrett Anderson?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859, at the age of 24, Anderson met the American doctor, Elizabeth Blackwell. The meeting inspired her to train as a nurse. She trained privately and was accepted into the British Society of Apothecaries in 1865.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as Elizabeth Garrett Ander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59, at the age of 24, Anderson met the American doctor, Elizabeth Blackwell. The meeting inspired her to train as a nurse. She trained privately and was accepted into the British Society of Apothecaries in 186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ttitude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omen are neither physically nor mentally strong enough to cope with the endless medical round…their delicate sensibilities surely equip them to be the handmaids of doctor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itu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re neither physically nor mentally strong enough to cope with the endless medical round…their delicate sensibilities surely equip them to be the handmaids of do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ociety of Apothecarie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acceptance of Anderson into the Society of Apothecaries established a precedent. Despite this though, the Society then changed its rules to stop other women becoming fellow member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ety of Apothec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ceptance of Anderson into the Society of Apothecaries established a precedent. Despite this though, the Society then changed its rules to stop other women becoming fellow me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However, this made Anderson even more determined to go further. She applied to British universities to train as a doctor, but was turned down in every case. Undeterred, she went to France and received the M.D. degree from the University of Paris in 1870. She returned to London and set up practice.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is made Anderson even more determined to go further. She applied to British universities to train as a doctor, but was turned down in every case. Undeterred, she went to France and received the M.D. degree from the University of Paris in 1870. She returned to London and set up prac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How did Anderson change medicine in Britain?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Garrett Anderson was the first British woman to qualify as a doctor. In 1874 she established the London School of Medicine for Women. Her determination paved the way for other women. In 1876 an Act of Parliament was passed which permitted women to enter all of the medical profession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Anderson change medicine in Brit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Garrett Anderson was the first British woman to qualify as a doctor. In 1874 she established the London School of Medicine for Women. Her determination paved the way for other women. In 1876 an Act of Parliament was passed which permitted women to enter all of the medical profes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ven today one of the leading hospitals for women in London is named after Anderson as a tribute to her part in breaking down prejudice in the medical profession. One of the arguments that the Suffragettes were able to use in the early 20th century was that women, as doctors, could be trusted with lives, yet were excluded from the basic right to vote.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oday one of the leading hospitals for women in London is named after Anderson as a tribute to her part in breaking down prejudice in the medical profession. One of the arguments that the Suffragettes were able to use in the early 20th century was that women, as doctors, could be trusted with lives, yet were excluded from the basic right to v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Garrett Anderson Hospital</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rrett Anderson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Bedlam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t is only within the last century that doctors have begun to understand how to treat people with mental illness. Two hundred and fifty years ago they were simply labelled as 'lunatics'. The word itself came from the Latin word for the moon ‘luna'. It was believed that the behaviour of lunatics was affected by the phases of the moon. The most famous of the hospitals for lunatics was St Mary of Bethlehem in London, or 'Bedlam'.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dl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only within the last century that doctors have begun to understand how to treat people with mental illness. Two hundred and fifty years ago they were simply labelled as 'lunatics'. The word itself came from the Latin word for the moon ‘luna'. It was believed that the behaviour of lunatics was affected by the phases of the moon. The most famous of the hospitals for lunatics was St Mary of Bethlehem in London, or 'Bedl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The Bethlehem Hospital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thlehem Hospi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adly, Bedlam was regarded as a peculiar form of entertainment. For a penny visitors could peer into the cells, sometimes teasing the poor sufferers, for amusement. Treatment was little more than torture. Patients were usually chained up all day, or kept quiet with opium, plunged into cold baths. Sometimes they had their blood let or were given laxatives and made to vomit.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dly, Bedlam was regarded as a peculiar form of entertainment. For a penny visitors could peer into the cells, sometimes teasing the poor sufferers, for amusement. Treatment was little more than torture. Patients were usually chained up all day, or kept quiet with opium, plunged into cold baths. Sometimes they had their blood let or were given laxatives and made to vom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Dr. Isaac Hawes a 17th century doctor wrote: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Nothing is more necessary for the recovery of lunatics than forcing them to respect fear. This is why maniacs recover much sooner if they are treated with torture in hovels (slums) instead of with medicine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Bedlam Hospital is now the Maudsley Hospital.</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Isaac Hawes a 17th century doctor wr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hing is more necessary for the recovery of lunatics than forcing them to respect fear. This is why maniacs recover much sooner if they are treated with torture in hovels (slums) instead of with medici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dlam Hospital is now the Maudsley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eaeaea"/>
                </a:solidFill>
                <a:latin typeface="Arial"/>
              </a:rPr>
              <a:t>Bedlam Site</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eaeaea"/>
                </a:solidFill>
                <a:latin typeface="Arial"/>
              </a:rPr>
              <a:t>http://www.museumoflondon.org.uk/archive/exhibits/bedlam/f_bed.htm</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Bedlam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http://www.museumoflondon.org.uk/archive/exhibits/bedlam/f_bed.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Back in the mid 19th century, middle class women were encouraged to live a domesticated life, persuaded that their ‘delicacies’ made them suitable only as helpers and ‘handmaids’ in a working environment. There were no opportunities to study and practise medicine and it took hard work and years of struggle to establish the position of women in medicine that we see today.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in the mid 19th century, middle class women were encouraged to live a domesticated life, persuaded that their ‘delicacies’ made them suitable only as helpers and ‘handmaids’ in a working environment. There were no opportunities to study and practise medicine and it took hard work and years of struggle to establish the position of women in medicine that we see to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Homework</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hy was it unseemly for a woman to study medicine?</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rite a paragraph, or two, on each of the following women:</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Garrett Anderson</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Blackwell</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as it unseemly for a woman to study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paragraph, or two, on each of the following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Garrett And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Black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 </a:t>
            </a:r>
            <a:endParaRPr b="0" lang="en-US" sz="1200" spc="-1" strike="noStrike">
              <a:solidFill>
                <a:srgbClr val="eaeaea"/>
              </a:solidFill>
              <a:latin typeface="Arial Narrow"/>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Not always the case!</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is Victorian perspective of women being unsuitable for the field of medicine was not always the accepted viewpoint; women have been equal to men in areas of therapy and care throughout history and in pre-patriarchal times were considered the natural healer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ways the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Victorian perspective of women being unsuitable for the field of medicine was not always the accepted viewpoint; women have been equal to men in areas of therapy and care throughout history and in pre-patriarchal times were considered the natural heal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ir acceptance in modern Western medicine began with their entrance into medical education; a long and arduous struggle by several determined pioneers, the history of whom is deeply connected to the medical school in Edinburgh.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acceptance in modern Western medicine began with their entrance into medical education; a long and arduous struggle by several determined pioneers, the history of whom is deeply connected to the medical school in Edinburg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Dr James Barry</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t was at the University of Edinburgh that a bizarre story is set. The Medical Faculty was where the late James Barry began his, or rather her, medical training as early as 1812.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James Bar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t the University of Edinburgh that a bizarre story is set. The Medical Faculty was where the late James Barry began his, or rather her, medical training as early as 181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is student, whose real name is unknown, was so keen to study medicine at a time when the social situation and politics wouldn’t allow it, that she decided to train and practise her whole life masquerading as a man! She was successful in her field and respected as a surgeon in the army. It was not until her death that her true identity as a woman was discovered and due to the outlandish nature of the story, her achievements as a doctor have been somewhat overshadowed.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udent, whose real name is unknown, was so keen to study medicine at a time when the social situation and politics wouldn’t allow it, that she decided to train and practise her whole life masquerading as a man! She was successful in her field and respected as a surgeon in the army. It was not until her death that her true identity as a woman was discovered and due to the outlandish nature of the story, her achievements as a doctor have been somewhat overshadow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Blackwell (1821-1910)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or thousands of years the medical professions were reserved almost exclusively for men. Since the 17th century it had become more difficult for women to be involved in medicine. The wise women of the Middles Ages disappeared and midwifery steadily became a job for doctor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Blackwell (1821-191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usands of years the medical professions were reserved almost exclusively for men. Since the 17th century it had become more difficult for women to be involved in medicine. The wise women of the Middles Ages disappeared and midwifery steadily became a job for do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9724E6-28AF-417D-BA5C-46627BD36B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8"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9"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6C38C-0C89-4C3D-9663-78A88ED1F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41"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2"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3"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4"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073101-E09D-4DF1-BECA-157DFBAD4E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46"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7"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8"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9"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0"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1"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C7A6A2-8F8A-4B0B-99B5-566AF1CDDC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16E0F0-580F-4CAF-975E-471C6CE84C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0"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91BB5A-A4E9-4E57-AB68-370A92E5B8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7E1837-4592-4218-B7E1-4A4C7ADDA1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4"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A381D8-8A1A-44C1-A784-B3FB3FB634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5CD73A-5285-4CE1-B4A5-4C1E859750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84E674-638E-4225-8ABA-F28E3999DF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9D114-75FB-4E53-A7F7-B701CBD7C0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17"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3747A-51FE-4D16-A279-739E3D1F2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83"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5"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EDDCC-F495-467F-895E-B2C7725354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87"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8"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9"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B0FCB-7269-46AE-9677-50B5536362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91"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2"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8D2DFA-D8F6-4C4A-A0BE-B7551D7779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9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5"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7"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D68FDE-08D6-47D8-8463-C9C8B93384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99"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0"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1"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2"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3"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4"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753145-609A-4EA2-88F6-1B7FBEC268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1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31120-4448-4828-8A77-F20ACA7FB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21"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2"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43BD9-C5BA-4181-860E-F6C2ABC3B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4C072-E6BA-4099-8EA3-8E8D892A3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703B5-18FD-4671-BA72-8BB9D52AC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26"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7"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8"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B6155-3BC6-4B60-858D-B4BB881D3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2"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C7884-4253-4DFB-9355-DA51F0244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5"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6"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6AE3B-EE6A-4BAE-9773-25720CB347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1160" y="-3240"/>
            <a:ext cx="9166320" cy="6897600"/>
            <a:chOff x="-11160" y="-3240"/>
            <a:chExt cx="9166320" cy="6897600"/>
          </a:xfrm>
        </p:grpSpPr>
        <p:grpSp>
          <p:nvGrpSpPr>
            <p:cNvPr id="1" name="Group 3"/>
            <p:cNvGrpSpPr/>
            <p:nvPr/>
          </p:nvGrpSpPr>
          <p:grpSpPr>
            <a:xfrm>
              <a:off x="-11160" y="15840"/>
              <a:ext cx="9166320" cy="6878520"/>
              <a:chOff x="-11160" y="15840"/>
              <a:chExt cx="9166320" cy="6878520"/>
            </a:xfrm>
          </p:grpSpPr>
          <p:sp>
            <p:nvSpPr>
              <p:cNvPr id="2" name="Freeform 4"/>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7176bb"/>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3" name="Freeform 5"/>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4" name="Freeform 6"/>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 name="Freeform 7"/>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6" name="Freeform 8"/>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7" name="Freeform 9"/>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8" name="Freeform 10"/>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9" name="Freeform 11"/>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grpSp>
        <p:pic>
          <p:nvPicPr>
            <p:cNvPr id="10" name="Picture 12" descr="Facbanna"/>
            <p:cNvPicPr/>
            <p:nvPr/>
          </p:nvPicPr>
          <p:blipFill>
            <a:blip r:embed="rId2"/>
            <a:stretch/>
          </p:blipFill>
          <p:spPr>
            <a:xfrm>
              <a:off x="3240" y="-3240"/>
              <a:ext cx="803160" cy="6858000"/>
            </a:xfrm>
            <a:prstGeom prst="rect">
              <a:avLst/>
            </a:prstGeom>
            <a:ln w="0">
              <a:noFill/>
            </a:ln>
          </p:spPr>
        </p:pic>
      </p:grpSp>
      <p:sp>
        <p:nvSpPr>
          <p:cNvPr id="1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Click to edit the title text format</a:t>
            </a:r>
            <a:endParaRPr b="0" lang="en-US" sz="4400" spc="-1" strike="noStrike">
              <a:solidFill>
                <a:srgbClr val="ebd189"/>
              </a:solidFill>
              <a:latin typeface="Impact"/>
            </a:endParaRPr>
          </a:p>
        </p:txBody>
      </p:sp>
      <p:sp>
        <p:nvSpPr>
          <p:cNvPr id="12"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735480" indent="-282960">
              <a:spcBef>
                <a:spcPts val="799"/>
              </a:spcBef>
              <a:buClr>
                <a:srgbClr val="ebd18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cond Outline Level</a:t>
            </a:r>
            <a:endParaRPr b="0" lang="en-US" sz="3200" spc="-1" strike="noStrike">
              <a:solidFill>
                <a:srgbClr val="eaeaea"/>
              </a:solidFill>
              <a:latin typeface="Arial Narrow"/>
            </a:endParaRPr>
          </a:p>
          <a:p>
            <a:pPr lvl="2" marL="1131480" indent="-226080">
              <a:spcBef>
                <a:spcPts val="799"/>
              </a:spcBef>
              <a:buClr>
                <a:srgbClr val="fcab4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Third Outline Level</a:t>
            </a:r>
            <a:endParaRPr b="0" lang="en-US" sz="3200" spc="-1" strike="noStrike">
              <a:solidFill>
                <a:srgbClr val="eaeaea"/>
              </a:solidFill>
              <a:latin typeface="Arial Narrow"/>
            </a:endParaRPr>
          </a:p>
          <a:p>
            <a:pPr lvl="3" marL="1584000" indent="-226080">
              <a:spcBef>
                <a:spcPts val="799"/>
              </a:spcBef>
              <a:buClr>
                <a:srgbClr val="b97c0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ourth Outline Level</a:t>
            </a:r>
            <a:endParaRPr b="0" lang="en-US" sz="3200" spc="-1" strike="noStrike">
              <a:solidFill>
                <a:srgbClr val="eaeaea"/>
              </a:solidFill>
              <a:latin typeface="Arial Narrow"/>
            </a:endParaRPr>
          </a:p>
          <a:p>
            <a:pPr lvl="4" marL="2036520" indent="-226080">
              <a:spcBef>
                <a:spcPts val="799"/>
              </a:spcBef>
              <a:buClr>
                <a:srgbClr val="7176b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ifth Outline Level</a:t>
            </a:r>
            <a:endParaRPr b="0" lang="en-US" sz="3200" spc="-1" strike="noStrike">
              <a:solidFill>
                <a:srgbClr val="eaeaea"/>
              </a:solidFill>
              <a:latin typeface="Arial Narrow"/>
            </a:endParaRPr>
          </a:p>
          <a:p>
            <a:pPr lvl="5"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ixth Outline Level</a:t>
            </a:r>
            <a:endParaRPr b="0" lang="en-US" sz="3200" spc="-1" strike="noStrike">
              <a:solidFill>
                <a:srgbClr val="eaeaea"/>
              </a:solidFill>
              <a:latin typeface="Arial Narrow"/>
            </a:endParaRPr>
          </a:p>
          <a:p>
            <a:pPr lvl="6"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venth Outline Level</a:t>
            </a:r>
            <a:endParaRPr b="0" lang="en-US" sz="3200" spc="-1" strike="noStrike">
              <a:solidFill>
                <a:srgbClr val="eaeaea"/>
              </a:solidFill>
              <a:latin typeface="Arial Narrow"/>
            </a:endParaRPr>
          </a:p>
        </p:txBody>
      </p:sp>
      <p:sp>
        <p:nvSpPr>
          <p:cNvPr id="13"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Narrow"/>
            </a:endParaRPr>
          </a:p>
        </p:txBody>
      </p:sp>
      <p:sp>
        <p:nvSpPr>
          <p:cNvPr id="14"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Narrow"/>
            </a:endParaRPr>
          </a:p>
        </p:txBody>
      </p:sp>
      <p:sp>
        <p:nvSpPr>
          <p:cNvPr id="15"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81574-C9FC-41B9-A00C-D310F3F2AC4A}" type="slidenum">
              <a:rPr b="0" lang="en-GB" sz="1400" spc="-1" strike="noStrike">
                <a:solidFill>
                  <a:srgbClr val="ebd18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pSp>
        <p:nvGrpSpPr>
          <p:cNvPr id="52" name="Group 2"/>
          <p:cNvGrpSpPr/>
          <p:nvPr/>
        </p:nvGrpSpPr>
        <p:grpSpPr>
          <a:xfrm>
            <a:off x="-11160" y="-3240"/>
            <a:ext cx="9166320" cy="6897600"/>
            <a:chOff x="-11160" y="-3240"/>
            <a:chExt cx="9166320" cy="6897600"/>
          </a:xfrm>
        </p:grpSpPr>
        <p:grpSp>
          <p:nvGrpSpPr>
            <p:cNvPr id="53" name="Group 3"/>
            <p:cNvGrpSpPr/>
            <p:nvPr/>
          </p:nvGrpSpPr>
          <p:grpSpPr>
            <a:xfrm>
              <a:off x="-11160" y="-360"/>
              <a:ext cx="9166320" cy="6894720"/>
              <a:chOff x="-11160" y="-360"/>
              <a:chExt cx="9166320" cy="6894720"/>
            </a:xfrm>
          </p:grpSpPr>
          <p:sp>
            <p:nvSpPr>
              <p:cNvPr id="54" name="Freeform 4"/>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7176bb"/>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5" name="Freeform 5"/>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6" name="Freeform 6"/>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7" name="Freeform 7"/>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8" name="Freeform 8"/>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9" name="Freeform 9"/>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60" name="Freeform 10"/>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61" name="Freeform 11"/>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62" name="Freeform 12"/>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grpSp>
        <p:pic>
          <p:nvPicPr>
            <p:cNvPr id="63" name="Picture 13" descr="Facbanna"/>
            <p:cNvPicPr/>
            <p:nvPr/>
          </p:nvPicPr>
          <p:blipFill>
            <a:blip r:embed="rId2"/>
            <a:stretch/>
          </p:blipFill>
          <p:spPr>
            <a:xfrm>
              <a:off x="3240" y="-3240"/>
              <a:ext cx="803160" cy="6858000"/>
            </a:xfrm>
            <a:prstGeom prst="rect">
              <a:avLst/>
            </a:prstGeom>
            <a:ln w="0">
              <a:noFill/>
            </a:ln>
          </p:spPr>
        </p:pic>
      </p:grpSp>
      <p:sp>
        <p:nvSpPr>
          <p:cNvPr id="6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Click to edit the title text format</a:t>
            </a:r>
            <a:endParaRPr b="0" lang="en-US" sz="4400" spc="-1" strike="noStrike">
              <a:solidFill>
                <a:srgbClr val="ebd189"/>
              </a:solidFill>
              <a:latin typeface="Impact"/>
            </a:endParaRPr>
          </a:p>
        </p:txBody>
      </p:sp>
      <p:sp>
        <p:nvSpPr>
          <p:cNvPr id="65"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735480" indent="-282960">
              <a:spcBef>
                <a:spcPts val="799"/>
              </a:spcBef>
              <a:buClr>
                <a:srgbClr val="ebd18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cond Outline Level</a:t>
            </a:r>
            <a:endParaRPr b="0" lang="en-US" sz="3200" spc="-1" strike="noStrike">
              <a:solidFill>
                <a:srgbClr val="eaeaea"/>
              </a:solidFill>
              <a:latin typeface="Arial Narrow"/>
            </a:endParaRPr>
          </a:p>
          <a:p>
            <a:pPr lvl="2" marL="1131480" indent="-226080">
              <a:spcBef>
                <a:spcPts val="799"/>
              </a:spcBef>
              <a:buClr>
                <a:srgbClr val="fcab4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Third Outline Level</a:t>
            </a:r>
            <a:endParaRPr b="0" lang="en-US" sz="3200" spc="-1" strike="noStrike">
              <a:solidFill>
                <a:srgbClr val="eaeaea"/>
              </a:solidFill>
              <a:latin typeface="Arial Narrow"/>
            </a:endParaRPr>
          </a:p>
          <a:p>
            <a:pPr lvl="3" marL="1584000" indent="-226080">
              <a:spcBef>
                <a:spcPts val="799"/>
              </a:spcBef>
              <a:buClr>
                <a:srgbClr val="b97c0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ourth Outline Level</a:t>
            </a:r>
            <a:endParaRPr b="0" lang="en-US" sz="3200" spc="-1" strike="noStrike">
              <a:solidFill>
                <a:srgbClr val="eaeaea"/>
              </a:solidFill>
              <a:latin typeface="Arial Narrow"/>
            </a:endParaRPr>
          </a:p>
          <a:p>
            <a:pPr lvl="4" marL="2036520" indent="-226080">
              <a:spcBef>
                <a:spcPts val="799"/>
              </a:spcBef>
              <a:buClr>
                <a:srgbClr val="7176b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ifth Outline Level</a:t>
            </a:r>
            <a:endParaRPr b="0" lang="en-US" sz="3200" spc="-1" strike="noStrike">
              <a:solidFill>
                <a:srgbClr val="eaeaea"/>
              </a:solidFill>
              <a:latin typeface="Arial Narrow"/>
            </a:endParaRPr>
          </a:p>
          <a:p>
            <a:pPr lvl="5"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ixth Outline Level</a:t>
            </a:r>
            <a:endParaRPr b="0" lang="en-US" sz="3200" spc="-1" strike="noStrike">
              <a:solidFill>
                <a:srgbClr val="eaeaea"/>
              </a:solidFill>
              <a:latin typeface="Arial Narrow"/>
            </a:endParaRPr>
          </a:p>
          <a:p>
            <a:pPr lvl="6"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venth Outline Level</a:t>
            </a:r>
            <a:endParaRPr b="0" lang="en-US" sz="3200" spc="-1" strike="noStrike">
              <a:solidFill>
                <a:srgbClr val="eaeaea"/>
              </a:solidFill>
              <a:latin typeface="Arial Narrow"/>
            </a:endParaRPr>
          </a:p>
        </p:txBody>
      </p:sp>
      <p:sp>
        <p:nvSpPr>
          <p:cNvPr id="66" name="PlaceHolder 3"/>
          <p:cNvSpPr>
            <a:spLocks noGrp="1"/>
          </p:cNvSpPr>
          <p:nvPr>
            <p:ph type="dt" idx="4"/>
          </p:nvPr>
        </p:nvSpPr>
        <p:spPr>
          <a:xfrm>
            <a:off x="11430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Narrow"/>
            </a:endParaRPr>
          </a:p>
        </p:txBody>
      </p:sp>
      <p:sp>
        <p:nvSpPr>
          <p:cNvPr id="67"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Narrow"/>
            </a:endParaRPr>
          </a:p>
        </p:txBody>
      </p:sp>
      <p:sp>
        <p:nvSpPr>
          <p:cNvPr id="68"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30D88-0C1A-42C6-A2E8-33502061DBA3}" type="slidenum">
              <a:rPr b="0" lang="en-GB" sz="1400" spc="-1" strike="noStrike">
                <a:solidFill>
                  <a:srgbClr val="ebd18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museumoflondon.org.uk/archive/exhibits/bedlam/f_bed.htm"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22856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Women and Medicine</a:t>
            </a:r>
            <a:endParaRPr b="0" lang="en-US" sz="4400" spc="-1" strike="noStrike">
              <a:solidFill>
                <a:srgbClr val="ebd189"/>
              </a:solidFill>
              <a:latin typeface="Impact"/>
            </a:endParaRPr>
          </a:p>
        </p:txBody>
      </p:sp>
      <p:sp>
        <p:nvSpPr>
          <p:cNvPr id="113" name="PlaceHolder 2"/>
          <p:cNvSpPr>
            <a:spLocks noGrp="1"/>
          </p:cNvSpPr>
          <p:nvPr>
            <p:ph type="subTitle"/>
          </p:nvPr>
        </p:nvSpPr>
        <p:spPr>
          <a:xfrm>
            <a:off x="2133720" y="411480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History </a:t>
            </a:r>
            <a:endParaRPr b="0" lang="en-US" sz="3200" spc="-1" strike="noStrike">
              <a:solidFill>
                <a:srgbClr val="eaeaea"/>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Year 11</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5" descr="35"/>
          <p:cNvPicPr/>
          <p:nvPr/>
        </p:nvPicPr>
        <p:blipFill>
          <a:blip r:embed="rId1"/>
          <a:stretch/>
        </p:blipFill>
        <p:spPr>
          <a:xfrm>
            <a:off x="2916360" y="1268280"/>
            <a:ext cx="3954240" cy="5383440"/>
          </a:xfrm>
          <a:prstGeom prst="rect">
            <a:avLst/>
          </a:prstGeom>
          <a:ln w="0">
            <a:noFill/>
          </a:ln>
        </p:spPr>
      </p:pic>
      <p:sp>
        <p:nvSpPr>
          <p:cNvPr id="130"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Elizabeth Blackwell</a:t>
            </a:r>
            <a:endParaRPr b="0" lang="en-US" sz="4400" spc="-1" strike="noStrike">
              <a:solidFill>
                <a:srgbClr val="ebd189"/>
              </a:solidFill>
              <a:latin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60" y="1676520"/>
            <a:ext cx="380988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As is often the case, it was one or two determined individuals who were prepared to force openings for themselves and then for others, one of these was Elizabeth Blackwell. </a:t>
            </a:r>
            <a:endParaRPr b="0" lang="en-US" sz="2800" spc="-1" strike="noStrike">
              <a:solidFill>
                <a:srgbClr val="eaeaea"/>
              </a:solidFill>
              <a:latin typeface="Arial Narrow"/>
            </a:endParaRPr>
          </a:p>
        </p:txBody>
      </p:sp>
      <p:pic>
        <p:nvPicPr>
          <p:cNvPr id="132" name="Picture 7" descr="11BlackwellSig"/>
          <p:cNvPicPr/>
          <p:nvPr/>
        </p:nvPicPr>
        <p:blipFill>
          <a:blip r:embed="rId1"/>
          <a:stretch/>
        </p:blipFill>
        <p:spPr>
          <a:xfrm>
            <a:off x="3924360" y="1916280"/>
            <a:ext cx="4664160" cy="3598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bd189"/>
                </a:solidFill>
                <a:latin typeface="Impact"/>
              </a:rPr>
              <a:t>Who was Elizabeth Blackwell?</a:t>
            </a:r>
            <a:endParaRPr b="0" lang="en-US" sz="4400" spc="-1" strike="noStrike">
              <a:solidFill>
                <a:srgbClr val="ebd189"/>
              </a:solidFill>
              <a:latin typeface="Impact"/>
            </a:endParaRPr>
          </a:p>
        </p:txBody>
      </p:sp>
      <p:sp>
        <p:nvSpPr>
          <p:cNvPr id="13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lizabeth Blackwell was an American teacher who taught herself basic science and then trained through private instruction at the Charleston Medical School in New York. She was awarded the M.D. degree in 1849 from Geneva Medical College in New York, and was the first woman to become a modern doctor.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Once qualified she still faced opposition and was barred from working at the New York City Hospitals, so in 1857 she set up her own practice, staffed entirely by women. The success of this practice proved that a woman could run an efficient medical service.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5" descr="HP1839_elizabethBlackwell"/>
          <p:cNvPicPr/>
          <p:nvPr/>
        </p:nvPicPr>
        <p:blipFill>
          <a:blip r:embed="rId1"/>
          <a:stretch/>
        </p:blipFill>
        <p:spPr>
          <a:xfrm>
            <a:off x="1619280" y="0"/>
            <a:ext cx="5769000" cy="6811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Move to London</a:t>
            </a:r>
            <a:endParaRPr b="0" lang="en-US" sz="4400" spc="-1" strike="noStrike">
              <a:solidFill>
                <a:srgbClr val="ebd189"/>
              </a:solidFill>
              <a:latin typeface="Impact"/>
            </a:endParaRPr>
          </a:p>
        </p:txBody>
      </p:sp>
      <p:sp>
        <p:nvSpPr>
          <p:cNvPr id="138"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In 1869 Blackwell moved to London to found the London School of Medicine for Women. Elizabeth Blackwell became a doctor through her own efforts and expertise. Despite the resistance of fellow male students and doctors, she graduated at the very top of her class.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lizabeth Blackwell set a precedent for women doctors in the modern world. On a visit to England in 1859 she met  Elizabeth Garrett who went on to become the first woman doctor in Britain and also a pioneer of women's medicine in Europe. </a:t>
            </a:r>
            <a:br>
              <a:rPr sz="3200"/>
            </a:br>
            <a:r>
              <a:rPr b="0" lang="en-GB" sz="3200" spc="-1" strike="noStrike">
                <a:solidFill>
                  <a:srgbClr val="eaeaea"/>
                </a:solidFill>
                <a:latin typeface="Arial Narrow"/>
              </a:rPr>
              <a:t>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5" descr="hosp1"/>
          <p:cNvPicPr/>
          <p:nvPr/>
        </p:nvPicPr>
        <p:blipFill>
          <a:blip r:embed="rId1"/>
          <a:stretch/>
        </p:blipFill>
        <p:spPr>
          <a:xfrm>
            <a:off x="4859280" y="836640"/>
            <a:ext cx="3973680" cy="5742000"/>
          </a:xfrm>
          <a:prstGeom prst="rect">
            <a:avLst/>
          </a:prstGeom>
          <a:ln w="0">
            <a:noFill/>
          </a:ln>
        </p:spPr>
      </p:pic>
      <p:pic>
        <p:nvPicPr>
          <p:cNvPr id="141" name="Picture 7" descr="ega_photo1"/>
          <p:cNvPicPr/>
          <p:nvPr/>
        </p:nvPicPr>
        <p:blipFill>
          <a:blip r:embed="rId2"/>
          <a:stretch/>
        </p:blipFill>
        <p:spPr>
          <a:xfrm>
            <a:off x="755640" y="1773360"/>
            <a:ext cx="3911760" cy="4881600"/>
          </a:xfrm>
          <a:prstGeom prst="rect">
            <a:avLst/>
          </a:prstGeom>
          <a:ln w="0">
            <a:noFill/>
          </a:ln>
        </p:spPr>
      </p:pic>
      <p:sp>
        <p:nvSpPr>
          <p:cNvPr id="142" name="Oval 8"/>
          <p:cNvSpPr/>
          <p:nvPr/>
        </p:nvSpPr>
        <p:spPr>
          <a:xfrm>
            <a:off x="1258920" y="476280"/>
            <a:ext cx="2521080" cy="1081080"/>
          </a:xfrm>
          <a:prstGeom prst="ellipse">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Arial Narrow"/>
              </a:rPr>
              <a:t>Elizabeth Garrett Anderson</a:t>
            </a:r>
            <a:endParaRPr b="0" lang="en-US" sz="1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bd189"/>
                </a:solidFill>
                <a:latin typeface="Impact"/>
              </a:rPr>
              <a:t>Elizabeth Garrett Anderson (1836-1917)</a:t>
            </a:r>
            <a:r>
              <a:rPr b="0" lang="en-GB" sz="4000" spc="-1" strike="noStrike">
                <a:solidFill>
                  <a:srgbClr val="ebd189"/>
                </a:solidFill>
                <a:latin typeface="Impact"/>
              </a:rPr>
              <a:t> </a:t>
            </a:r>
            <a:endParaRPr b="0" lang="en-US" sz="4000" spc="-1" strike="noStrike">
              <a:solidFill>
                <a:srgbClr val="ebd189"/>
              </a:solidFill>
              <a:latin typeface="Impact"/>
            </a:endParaRPr>
          </a:p>
        </p:txBody>
      </p:sp>
      <p:sp>
        <p:nvSpPr>
          <p:cNvPr id="144" name="PlaceHolder 2"/>
          <p:cNvSpPr>
            <a:spLocks noGrp="1"/>
          </p:cNvSpPr>
          <p:nvPr>
            <p:ph/>
          </p:nvPr>
        </p:nvSpPr>
        <p:spPr>
          <a:xfrm>
            <a:off x="1187280" y="1700280"/>
            <a:ext cx="381024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Elizabeth Garrett Anderson, like her role model Elizabeth Blackwell, did much to encourage the acceptance of women into the male-dominated medical world. </a:t>
            </a:r>
            <a:endParaRPr b="0" lang="en-US" sz="2800" spc="-1" strike="noStrike">
              <a:solidFill>
                <a:srgbClr val="eaeaea"/>
              </a:solidFill>
              <a:latin typeface="Arial Narrow"/>
            </a:endParaRPr>
          </a:p>
        </p:txBody>
      </p:sp>
      <p:pic>
        <p:nvPicPr>
          <p:cNvPr id="145" name="Picture 6" descr="victorian_operation"/>
          <p:cNvPicPr/>
          <p:nvPr/>
        </p:nvPicPr>
        <p:blipFill>
          <a:blip r:embed="rId1"/>
          <a:stretch/>
        </p:blipFill>
        <p:spPr>
          <a:xfrm>
            <a:off x="5797440" y="1341360"/>
            <a:ext cx="3346560" cy="500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bd189"/>
                </a:solidFill>
                <a:latin typeface="Impact"/>
              </a:rPr>
              <a:t>Who was Elizabeth Garrett Anderson?</a:t>
            </a:r>
            <a:r>
              <a:rPr b="0" lang="en-GB" sz="4000" spc="-1" strike="noStrike">
                <a:solidFill>
                  <a:srgbClr val="ebd189"/>
                </a:solidFill>
                <a:latin typeface="Impact"/>
              </a:rPr>
              <a:t> </a:t>
            </a:r>
            <a:endParaRPr b="0" lang="en-US" sz="4000" spc="-1" strike="noStrike">
              <a:solidFill>
                <a:srgbClr val="ebd189"/>
              </a:solidFill>
              <a:latin typeface="Impact"/>
            </a:endParaRPr>
          </a:p>
        </p:txBody>
      </p:sp>
      <p:sp>
        <p:nvSpPr>
          <p:cNvPr id="147"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In 1859, at the age of 24, Anderson met the American doctor, Elizabeth Blackwell. The meeting inspired her to train as a nurse. She trained privately and was accepted into the British Society of Apothecaries in 1865.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Attitudes</a:t>
            </a:r>
            <a:endParaRPr b="0" lang="en-US" sz="4400" spc="-1" strike="noStrike">
              <a:solidFill>
                <a:srgbClr val="ebd189"/>
              </a:solidFill>
              <a:latin typeface="Impact"/>
            </a:endParaRPr>
          </a:p>
        </p:txBody>
      </p:sp>
      <p:sp>
        <p:nvSpPr>
          <p:cNvPr id="115"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eaeaea"/>
                </a:solidFill>
                <a:latin typeface="Arial Narrow"/>
              </a:rPr>
              <a:t>"…women are neither physically nor mentally strong enough to cope with the endless medical round…their delicate sensibilities surely equip them to be the handmaids of doctors…"</a:t>
            </a:r>
            <a:r>
              <a:rPr b="0" lang="en-GB" sz="3200" spc="-1" strike="noStrike">
                <a:solidFill>
                  <a:srgbClr val="eaeaea"/>
                </a:solidFill>
                <a:latin typeface="Arial Narrow"/>
              </a:rPr>
              <a:t>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Society of Apothecaries</a:t>
            </a:r>
            <a:endParaRPr b="0" lang="en-US" sz="4400" spc="-1" strike="noStrike">
              <a:solidFill>
                <a:srgbClr val="ebd189"/>
              </a:solidFill>
              <a:latin typeface="Impact"/>
            </a:endParaRPr>
          </a:p>
        </p:txBody>
      </p:sp>
      <p:sp>
        <p:nvSpPr>
          <p:cNvPr id="149" name="PlaceHolder 2"/>
          <p:cNvSpPr>
            <a:spLocks noGrp="1"/>
          </p:cNvSpPr>
          <p:nvPr>
            <p:ph/>
          </p:nvPr>
        </p:nvSpPr>
        <p:spPr>
          <a:xfrm>
            <a:off x="755280" y="1628640"/>
            <a:ext cx="380988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The acceptance of Anderson into the Society of Apothecaries established a precedent. Despite this though, the Society then changed its rules to stop other women becoming fellow members. </a:t>
            </a:r>
            <a:endParaRPr b="0" lang="en-US" sz="2800" spc="-1" strike="noStrike">
              <a:solidFill>
                <a:srgbClr val="eaeaea"/>
              </a:solidFill>
              <a:latin typeface="Arial Narrow"/>
            </a:endParaRPr>
          </a:p>
        </p:txBody>
      </p:sp>
      <p:pic>
        <p:nvPicPr>
          <p:cNvPr id="150" name="Picture 7" descr="Arms of the Apothecaroes' Society"/>
          <p:cNvPicPr/>
          <p:nvPr/>
        </p:nvPicPr>
        <p:blipFill>
          <a:blip r:embed="rId1"/>
          <a:stretch/>
        </p:blipFill>
        <p:spPr>
          <a:xfrm>
            <a:off x="5076720" y="2060640"/>
            <a:ext cx="3372120" cy="3260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However, this made Anderson even more determined to go further. She applied to British universities to train as a doctor, but was turned down in every case. Undeterred, she went to France and received the M.D. degree from the University of Paris in 1870. She returned to London and set up practice.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bd189"/>
                </a:solidFill>
                <a:latin typeface="Impact"/>
              </a:rPr>
              <a:t>How did Anderson change medicine in Britain?</a:t>
            </a:r>
            <a:r>
              <a:rPr b="0" lang="en-GB" sz="4000" spc="-1" strike="noStrike">
                <a:solidFill>
                  <a:srgbClr val="ebd189"/>
                </a:solidFill>
                <a:latin typeface="Impact"/>
              </a:rPr>
              <a:t> </a:t>
            </a:r>
            <a:endParaRPr b="0" lang="en-US" sz="4000" spc="-1" strike="noStrike">
              <a:solidFill>
                <a:srgbClr val="ebd189"/>
              </a:solidFill>
              <a:latin typeface="Impact"/>
            </a:endParaRPr>
          </a:p>
        </p:txBody>
      </p:sp>
      <p:sp>
        <p:nvSpPr>
          <p:cNvPr id="153"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lizabeth Garrett Anderson was the first British woman to qualify as a doctor. In 1874 she established the London School of Medicine for Women. Her determination paved the way for other women. In 1876 an Act of Parliament was passed which permitted women to enter all of the medical professions.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ven today one of the leading hospitals for women in London is named after Anderson as a tribute to her part in breaking down prejudice in the medical profession. One of the arguments that the Suffragettes were able to use in the early 20th century was that women, as doctors, could be trusted with lives, yet were excluded from the basic right to vote.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Garrett Anderson Hospital</a:t>
            </a:r>
            <a:endParaRPr b="0" lang="en-US" sz="4400" spc="-1" strike="noStrike">
              <a:solidFill>
                <a:srgbClr val="ebd189"/>
              </a:solidFill>
              <a:latin typeface="Impact"/>
            </a:endParaRPr>
          </a:p>
        </p:txBody>
      </p:sp>
      <p:pic>
        <p:nvPicPr>
          <p:cNvPr id="156" name="Picture 5" descr="EGA"/>
          <p:cNvPicPr/>
          <p:nvPr/>
        </p:nvPicPr>
        <p:blipFill>
          <a:blip r:embed="rId1"/>
          <a:stretch/>
        </p:blipFill>
        <p:spPr>
          <a:xfrm>
            <a:off x="2484360" y="2781360"/>
            <a:ext cx="4044960" cy="2635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bd189"/>
                </a:solidFill>
                <a:latin typeface="Impact"/>
              </a:rPr>
              <a:t>Bedlam</a:t>
            </a:r>
            <a:r>
              <a:rPr b="0" lang="en-GB" sz="4400" spc="-1" strike="noStrike">
                <a:solidFill>
                  <a:srgbClr val="ebd189"/>
                </a:solidFill>
                <a:latin typeface="Impact"/>
              </a:rPr>
              <a:t> </a:t>
            </a:r>
            <a:endParaRPr b="0" lang="en-US" sz="4400" spc="-1" strike="noStrike">
              <a:solidFill>
                <a:srgbClr val="ebd189"/>
              </a:solidFill>
              <a:latin typeface="Impact"/>
            </a:endParaRPr>
          </a:p>
        </p:txBody>
      </p:sp>
      <p:sp>
        <p:nvSpPr>
          <p:cNvPr id="158"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It is only within the last century that doctors have begun to understand how to treat people with mental illness. Two hundred and fifty years ago they were simply labelled as 'lunatics'. The word itself came from the Latin word for the moon ‘luna'. It was believed that the behaviour of lunatics was affected by the phases of the moon. The most famous of the hospitals for lunatics was St Mary of Bethlehem in London, or 'Bedlam'. </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The Bethlehem Hospital </a:t>
            </a:r>
            <a:endParaRPr b="0" lang="en-US" sz="4400" spc="-1" strike="noStrike">
              <a:solidFill>
                <a:srgbClr val="ebd189"/>
              </a:solidFill>
              <a:latin typeface="Impact"/>
            </a:endParaRPr>
          </a:p>
        </p:txBody>
      </p:sp>
      <p:pic>
        <p:nvPicPr>
          <p:cNvPr id="160" name="Picture 5" descr="Bedlam"/>
          <p:cNvPicPr/>
          <p:nvPr/>
        </p:nvPicPr>
        <p:blipFill>
          <a:blip r:embed="rId1"/>
          <a:stretch/>
        </p:blipFill>
        <p:spPr>
          <a:xfrm>
            <a:off x="1476360" y="1557360"/>
            <a:ext cx="6240600" cy="4835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Sadly, Bedlam was regarded as a peculiar form of entertainment. For a penny visitors could peer into the cells, sometimes teasing the poor sufferers, for amusement. Treatment was little more than torture. Patients were usually chained up all day, or kept quiet with opium, plunged into cold baths. Sometimes they had their blood let or were given laxatives and made to vomit.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Dr. Isaac Hawes a 17th century doctor wrote: </a:t>
            </a:r>
            <a:endParaRPr b="0" lang="en-US" sz="3200" spc="-1" strike="noStrike">
              <a:solidFill>
                <a:srgbClr val="eaeaea"/>
              </a:solidFill>
              <a:latin typeface="Arial Narrow"/>
            </a:endParaRPr>
          </a:p>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Nothing is more necessary for the recovery of lunatics than forcing them to respect fear. This is why maniacs recover much sooner if they are treated with torture in hovels (slums) instead of with medicines'. </a:t>
            </a:r>
            <a:endParaRPr b="0" lang="en-US" sz="3200" spc="-1" strike="noStrike">
              <a:solidFill>
                <a:srgbClr val="eaeaea"/>
              </a:solidFill>
              <a:latin typeface="Arial Narrow"/>
            </a:endParaRPr>
          </a:p>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Bedlam Hospital is now the Maudsley Hospital.</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Bedlam Site</a:t>
            </a:r>
            <a:endParaRPr b="0" lang="en-US" sz="4400" spc="-1" strike="noStrike">
              <a:solidFill>
                <a:srgbClr val="ebd189"/>
              </a:solidFill>
              <a:latin typeface="Impact"/>
            </a:endParaRPr>
          </a:p>
        </p:txBody>
      </p:sp>
      <p:sp>
        <p:nvSpPr>
          <p:cNvPr id="16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b97c01"/>
                </a:solidFill>
                <a:uFillTx/>
                <a:latin typeface="Arial Narrow"/>
                <a:hlinkClick r:id="rId1"/>
              </a:rPr>
              <a:t>http://www.museumoflondon.org.uk/archive/exhibits/bedlam/f_bed.htm</a:t>
            </a:r>
            <a:endParaRPr b="0" lang="en-US" sz="3200" spc="-1" strike="noStrike">
              <a:solidFill>
                <a:srgbClr val="eaeaea"/>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lnSpc>
                <a:spcPct val="90000"/>
              </a:lnSpc>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Back in the mid 19th century, middle class women were encouraged to live a domesticated life, persuaded that their ‘delicacies’ made them suitable only as helpers and ‘handmaids’ in a working environment. There were no opportunities to study and practise medicine and it took hard work and years of struggle to establish the position of women in medicine that we see today.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Homework</a:t>
            </a:r>
            <a:endParaRPr b="0" lang="en-US" sz="4400" spc="-1" strike="noStrike">
              <a:solidFill>
                <a:srgbClr val="ebd189"/>
              </a:solidFill>
              <a:latin typeface="Impact"/>
            </a:endParaRPr>
          </a:p>
        </p:txBody>
      </p:sp>
      <p:sp>
        <p:nvSpPr>
          <p:cNvPr id="166"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Why was it unseemly for a woman to study medicine?</a:t>
            </a:r>
            <a:endParaRPr b="0" lang="en-US" sz="3200" spc="-1" strike="noStrike">
              <a:solidFill>
                <a:srgbClr val="eaeaea"/>
              </a:solidFill>
              <a:latin typeface="Arial Narrow"/>
            </a:endParaRPr>
          </a:p>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Write a paragraph, or two, on each of the following women:</a:t>
            </a:r>
            <a:endParaRPr b="0" lang="en-US" sz="3200" spc="-1" strike="noStrike">
              <a:solidFill>
                <a:srgbClr val="eaeaea"/>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lizabeth Garrett Anderson</a:t>
            </a:r>
            <a:endParaRPr b="0" lang="en-US" sz="3200" spc="-1" strike="noStrike">
              <a:solidFill>
                <a:srgbClr val="eaeaea"/>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lizabeth Blackwell</a:t>
            </a:r>
            <a:endParaRPr b="0" lang="en-US" sz="3200" spc="-1" strike="noStrike">
              <a:solidFill>
                <a:srgbClr val="eaeaea"/>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5" descr="tn_11"/>
          <p:cNvPicPr/>
          <p:nvPr/>
        </p:nvPicPr>
        <p:blipFill>
          <a:blip r:embed="rId1"/>
          <a:stretch/>
        </p:blipFill>
        <p:spPr>
          <a:xfrm>
            <a:off x="2627280" y="1197000"/>
            <a:ext cx="3807000" cy="454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Not always the case!</a:t>
            </a:r>
            <a:endParaRPr b="0" lang="en-US" sz="4400" spc="-1" strike="noStrike">
              <a:solidFill>
                <a:srgbClr val="ebd189"/>
              </a:solidFill>
              <a:latin typeface="Impact"/>
            </a:endParaRPr>
          </a:p>
        </p:txBody>
      </p:sp>
      <p:sp>
        <p:nvSpPr>
          <p:cNvPr id="119" name="PlaceHolder 2"/>
          <p:cNvSpPr>
            <a:spLocks noGrp="1"/>
          </p:cNvSpPr>
          <p:nvPr>
            <p:ph/>
          </p:nvPr>
        </p:nvSpPr>
        <p:spPr>
          <a:xfrm>
            <a:off x="900000" y="1557360"/>
            <a:ext cx="3810240" cy="4114800"/>
          </a:xfrm>
          <a:prstGeom prst="rect">
            <a:avLst/>
          </a:prstGeom>
          <a:noFill/>
          <a:ln w="0">
            <a:noFill/>
          </a:ln>
        </p:spPr>
        <p:txBody>
          <a:bodyPr anchor="t">
            <a:normAutofit/>
          </a:bodyPr>
          <a:p>
            <a:pPr marL="343080" indent="-343080">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rPr>
              <a:t>This Victorian perspective of women being unsuitable for the field of medicine was not always the accepted viewpoint; women have been equal to men in areas of therapy and care throughout history and in pre-patriarchal times were considered the natural healers. </a:t>
            </a:r>
            <a:endParaRPr b="0" lang="en-US" sz="2400" spc="-1" strike="noStrike">
              <a:solidFill>
                <a:srgbClr val="eaeaea"/>
              </a:solidFill>
              <a:latin typeface="Arial Narrow"/>
            </a:endParaRPr>
          </a:p>
        </p:txBody>
      </p:sp>
      <p:pic>
        <p:nvPicPr>
          <p:cNvPr id="120" name="Picture 6" descr="woman"/>
          <p:cNvPicPr/>
          <p:nvPr/>
        </p:nvPicPr>
        <p:blipFill>
          <a:blip r:embed="rId1"/>
          <a:stretch/>
        </p:blipFill>
        <p:spPr>
          <a:xfrm>
            <a:off x="5508720" y="1268280"/>
            <a:ext cx="2843280" cy="4959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971280" y="1700280"/>
            <a:ext cx="3809880" cy="4114800"/>
          </a:xfrm>
          <a:prstGeom prst="rect">
            <a:avLst/>
          </a:prstGeom>
          <a:noFill/>
          <a:ln w="0">
            <a:noFill/>
          </a:ln>
        </p:spPr>
        <p:txBody>
          <a:bodyPr anchor="t">
            <a:normAutofit/>
          </a:bodyPr>
          <a:p>
            <a:pPr marL="343080" indent="-343080">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rPr>
              <a:t>Their acceptance in modern Western medicine began with their entrance into medical education; a long and arduous struggle by several determined pioneers, the history of whom is deeply connected to the medical school in Edinburgh. </a:t>
            </a:r>
            <a:endParaRPr b="0" lang="en-US" sz="2400" spc="-1" strike="noStrike">
              <a:solidFill>
                <a:srgbClr val="eaeaea"/>
              </a:solidFill>
              <a:latin typeface="Arial Narrow"/>
            </a:endParaRPr>
          </a:p>
        </p:txBody>
      </p:sp>
      <p:pic>
        <p:nvPicPr>
          <p:cNvPr id="122" name="Picture 7" descr="royalmile"/>
          <p:cNvPicPr/>
          <p:nvPr/>
        </p:nvPicPr>
        <p:blipFill>
          <a:blip r:embed="rId1"/>
          <a:stretch/>
        </p:blipFill>
        <p:spPr>
          <a:xfrm>
            <a:off x="4932360" y="2060640"/>
            <a:ext cx="4019400" cy="2793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Dr James Barry</a:t>
            </a:r>
            <a:endParaRPr b="0" lang="en-US" sz="4400" spc="-1" strike="noStrike">
              <a:solidFill>
                <a:srgbClr val="ebd189"/>
              </a:solidFill>
              <a:latin typeface="Impact"/>
            </a:endParaRPr>
          </a:p>
        </p:txBody>
      </p:sp>
      <p:sp>
        <p:nvSpPr>
          <p:cNvPr id="124" name="PlaceHolder 2"/>
          <p:cNvSpPr>
            <a:spLocks noGrp="1"/>
          </p:cNvSpPr>
          <p:nvPr>
            <p:ph/>
          </p:nvPr>
        </p:nvSpPr>
        <p:spPr>
          <a:xfrm>
            <a:off x="900000" y="1844640"/>
            <a:ext cx="381024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It was at the University of Edinburgh that a bizarre story is set. The Medical Faculty was where the late </a:t>
            </a:r>
            <a:r>
              <a:rPr b="1" i="1" lang="en-GB" sz="2800" spc="-1" strike="noStrike">
                <a:solidFill>
                  <a:srgbClr val="eaeaea"/>
                </a:solidFill>
                <a:latin typeface="Arial Narrow"/>
              </a:rPr>
              <a:t>James Barry </a:t>
            </a:r>
            <a:r>
              <a:rPr b="0" lang="en-GB" sz="2800" spc="-1" strike="noStrike">
                <a:solidFill>
                  <a:srgbClr val="eaeaea"/>
                </a:solidFill>
                <a:latin typeface="Arial Narrow"/>
              </a:rPr>
              <a:t>began his, or rather </a:t>
            </a:r>
            <a:r>
              <a:rPr b="1" i="1" lang="en-GB" sz="2800" spc="-1" strike="noStrike">
                <a:solidFill>
                  <a:srgbClr val="eaeaea"/>
                </a:solidFill>
                <a:latin typeface="Arial Narrow"/>
              </a:rPr>
              <a:t>her</a:t>
            </a:r>
            <a:r>
              <a:rPr b="0" lang="en-GB" sz="2800" spc="-1" strike="noStrike">
                <a:solidFill>
                  <a:srgbClr val="eaeaea"/>
                </a:solidFill>
                <a:latin typeface="Arial Narrow"/>
              </a:rPr>
              <a:t>, medical training as early as 1812. </a:t>
            </a:r>
            <a:endParaRPr b="0" lang="en-US" sz="2800" spc="-1" strike="noStrike">
              <a:solidFill>
                <a:srgbClr val="eaeaea"/>
              </a:solidFill>
              <a:latin typeface="Arial Narrow"/>
            </a:endParaRPr>
          </a:p>
        </p:txBody>
      </p:sp>
      <p:pic>
        <p:nvPicPr>
          <p:cNvPr id="125" name="Picture 7" descr="barry"/>
          <p:cNvPicPr/>
          <p:nvPr/>
        </p:nvPicPr>
        <p:blipFill>
          <a:blip r:embed="rId1"/>
          <a:stretch/>
        </p:blipFill>
        <p:spPr>
          <a:xfrm>
            <a:off x="5292720" y="1341360"/>
            <a:ext cx="3263760" cy="4729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This student, whose real name is unknown, was so keen to study medicine at a time when the social situation and politics wouldn’t allow it, that she decided to train and practise her whole life masquerading as a man! She was successful in her field and respected as a surgeon in the army. It was not until her death that her true identity as a woman was discovered and due to the outlandish nature of the story, her achievements as a doctor have been somewhat overshadowed. </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bd189"/>
                </a:solidFill>
                <a:latin typeface="Impact"/>
              </a:rPr>
              <a:t>Elizabeth Blackwell (1821-1910)</a:t>
            </a:r>
            <a:r>
              <a:rPr b="0" lang="en-GB" sz="4400" spc="-1" strike="noStrike">
                <a:solidFill>
                  <a:srgbClr val="ebd189"/>
                </a:solidFill>
                <a:latin typeface="Impact"/>
              </a:rPr>
              <a:t> </a:t>
            </a:r>
            <a:endParaRPr b="0" lang="en-US" sz="4400" spc="-1" strike="noStrike">
              <a:solidFill>
                <a:srgbClr val="ebd189"/>
              </a:solidFill>
              <a:latin typeface="Impact"/>
            </a:endParaRPr>
          </a:p>
        </p:txBody>
      </p:sp>
      <p:sp>
        <p:nvSpPr>
          <p:cNvPr id="128"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For thousands of years the medical professions were reserved almost exclusively for men. Since the 17th century it had become more difficult for women to be involved in medicine. The wise women of the Middles Ages disappeared and midwifery steadily became a job for doctors.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7T13:10:35Z</dcterms:created>
  <dc:creator>Owner</dc:creator>
  <dc:description/>
  <dc:language>en-US</dc:language>
  <cp:lastModifiedBy>RomaK</cp:lastModifiedBy>
  <dcterms:modified xsi:type="dcterms:W3CDTF">2015-09-04T10:42:20Z</dcterms:modified>
  <cp:revision>10</cp:revision>
  <dc:subject/>
  <dc:title>Women and Medicine</dc:title>
</cp:coreProperties>
</file>