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gunshot.wav" ContentType="audio/x-wav"/>
  <Override PartName="/ppt/media/image3.png" ContentType="image/png"/>
  <Override PartName="/ppt/media/image11.wmf" ContentType="image/x-wmf"/>
  <Override PartName="/ppt/media/image7.wmf" ContentType="image/x-wmf"/>
  <Override PartName="/ppt/media/image12.png" ContentType="image/png"/>
  <Override PartName="/ppt/media/driveby.wav" ContentType="audio/x-wav"/>
  <Override PartName="/ppt/media/image19.png" ContentType="image/png"/>
  <Override PartName="/ppt/media/image18.wmf" ContentType="image/x-wmf"/>
  <Override PartName="/ppt/media/carbrake.wav" ContentType="audio/x-wav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whoosh.wav" ContentType="audio/x-wav"/>
  <Override PartName="/ppt/media/image13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4DF4-6D4F-4132-9CE4-C0CC368E159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0C7BB-21F4-4D83-B604-C8F87FBE4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Identify 3 major aerospace manufacturing compan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Explain how a person such as your self can own part of an airline comp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Fixed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Seaplanes: (flying boats) uses floats or hulls in place of conventional landing gear to take off and land on water 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Landplanes: classified by location of wing, landing gear type etc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Amphibians: can operate either on land or on wa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(ACCOUNTABLE TALK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ptember 3,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cus Point: How are Aircraft Classifi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al Objectives: (SWBAT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Explain the 2 primary classes of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Discuss types of heavier than air aircra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Identify 2 types of fixed wing aircraf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#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/3/2015 3:16 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) What are the two primary classes of aircraft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 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) Light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Non-rigid: “free balloon” or “hot air balloon”, has no internal or external framework. Has no steering mech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Rigid: blimp,  gas is contained in a fabric covered wooden or metal frame work. A gondola (control car)  is underneath which carries engines and personne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) Heavier-than air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II) Heavier-than ai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) Rotary wing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 Autogiro: non powered air driven blades. Forward flight is accomplished by use of a conventional engine and propeller. Forward motion caused free wheeling rotating blade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 Helicopt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1882-AE40-490C-B268-894643AA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2E99-47B1-450A-A769-2B439D1D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F5BB-3171-4C18-BEA5-CA9BB4F0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98F6-C222-4A44-9C26-38B3067BA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CF6EE1-776C-418A-B18B-45E45B869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29820-678A-4CBB-A505-5CC7A34F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8B470-7318-47BC-A023-761821F18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B00E0-D99B-4E80-A739-19F1FEB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94FA3-048A-4762-B319-8D4FC9094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8AEBE-CB4A-4C9A-AE10-77B1BCE5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F1FA5-0B34-41EF-BD79-3933DC1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BEC-AAD2-4252-8C23-DA2EE0E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1DF05-50F6-48D8-987E-0DF81D4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12FF-A7A7-4497-B5B5-6C0901F0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30513-601C-483D-BD34-A8F1AF34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930777-4456-4122-9966-485C8012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50CEF-3BCA-4174-887E-1F304D713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AC1A-127D-4CA7-BA2D-D7675E7E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B922-EA3C-40AB-B340-7B7D85C9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4A5-A4F2-41A1-BF8B-9655878B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72CB-E2FB-4BBC-B1CB-1FA4B98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D005-A065-45E7-939C-91866677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924E-947A-4557-80BE-AF3C0830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1FD5-450E-4395-95F8-F88F8B87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B3235385-92BD-4C54-8B11-89CD8BFB6DC2}" type="datetime13">
              <a:rPr b="0" lang="en-US" sz="1200" spc="-1" strike="noStrike">
                <a:solidFill>
                  <a:srgbClr val="000000"/>
                </a:solidFill>
                <a:latin typeface="Arial"/>
              </a:rPr>
              <a:t>08:5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5B45-CA27-47BF-9E5B-539C9B65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fld id="{A49D9069-7AA0-49DC-AE48-244AA6432BE8}" type="datetime13">
              <a:rPr b="0" lang="en-US" sz="1200" spc="-1" strike="noStrike">
                <a:solidFill>
                  <a:srgbClr val="ffffff"/>
                </a:solidFill>
                <a:latin typeface="Arial"/>
              </a:rPr>
              <a:t>08:59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DFA5-5BD4-4F70-84AC-F1CD659615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file:///tmp/home/.config/libreoffice/4/user/gallery/carbrake.wav" TargetMode="External"/><Relationship Id="rId3" Type="http://schemas.microsoft.com/office/2007/relationships/media" Target="file:///tmp/home/.config/libreoffice/4/user/gallery/carbrak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gunshot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2743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e3e3ff"/>
                </a:solidFill>
                <a:latin typeface="Arial"/>
              </a:rPr>
              <a:t>DO NOW</a:t>
            </a:r>
            <a:r>
              <a:rPr b="0" lang="en-US" sz="32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40291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LESSON 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57200" y="1676520"/>
            <a:ext cx="6035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. Identify 3 major aerospace manufacturing compani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1911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. Explain how a person such as your self can own part of an airline comp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9" descr="j0215086"/>
          <p:cNvPicPr/>
          <p:nvPr/>
        </p:nvPicPr>
        <p:blipFill>
          <a:blip r:embed="rId1"/>
          <a:stretch/>
        </p:blipFill>
        <p:spPr>
          <a:xfrm>
            <a:off x="7238880" y="609480"/>
            <a:ext cx="1660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Fixed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1knejj1i[1]"/>
          <p:cNvPicPr/>
          <p:nvPr/>
        </p:nvPicPr>
        <p:blipFill>
          <a:blip r:embed="rId1"/>
          <a:stretch/>
        </p:blipFill>
        <p:spPr>
          <a:xfrm>
            <a:off x="5867280" y="228600"/>
            <a:ext cx="2721240" cy="152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457200" y="1676520"/>
            <a:ext cx="8169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ea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flying boats) uses floats or hulls in place of conventional landing gear to take off and land on water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304920" y="3962520"/>
            <a:ext cx="794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andplan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assified by location of wing, landing gear type etc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4" descr="airplane-overall"/>
          <p:cNvPicPr/>
          <p:nvPr/>
        </p:nvPicPr>
        <p:blipFill>
          <a:blip r:embed="rId1"/>
          <a:stretch/>
        </p:blipFill>
        <p:spPr>
          <a:xfrm>
            <a:off x="304920" y="685800"/>
            <a:ext cx="8577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4"/>
          <p:cNvSpPr/>
          <p:nvPr/>
        </p:nvSpPr>
        <p:spPr>
          <a:xfrm>
            <a:off x="1050840" y="1692360"/>
            <a:ext cx="6797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mphibia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can operate either on land or on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5" descr="qbti3oiv[1]"/>
          <p:cNvPicPr/>
          <p:nvPr/>
        </p:nvPicPr>
        <p:blipFill>
          <a:blip r:embed="rId1"/>
          <a:stretch/>
        </p:blipFill>
        <p:spPr>
          <a:xfrm>
            <a:off x="3048120" y="3809880"/>
            <a:ext cx="380520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564480" y="1981080"/>
            <a:ext cx="419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SUMMARY (ACCOUNTABLE TALK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04920" y="243828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) What are the 2 primary classes of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457200" y="38098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) What are the 2 types of heavier than air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57200" y="54100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) What are the 3 types of fixed wing aircraf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6591960" y="685800"/>
            <a:ext cx="2369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D8C5-FE33-47BC-A1E7-D48404639A66}" type="datetime3">
              <a:rPr b="1" lang="en-US" sz="2800" spc="-1" strike="noStrike">
                <a:solidFill>
                  <a:srgbClr val="ffff00"/>
                </a:solidFill>
                <a:latin typeface="Garamond"/>
              </a:rPr>
              <a:t>July 28, 2026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9" descr="gyzhx0v1[1]"/>
          <p:cNvPicPr/>
          <p:nvPr/>
        </p:nvPicPr>
        <p:blipFill>
          <a:blip r:embed="rId1"/>
          <a:stretch/>
        </p:blipFill>
        <p:spPr>
          <a:xfrm rot="492000">
            <a:off x="6171840" y="2141280"/>
            <a:ext cx="2514600" cy="1420560"/>
          </a:xfrm>
          <a:prstGeom prst="rect">
            <a:avLst/>
          </a:prstGeom>
          <a:ln w="0">
            <a:noFill/>
          </a:ln>
        </p:spPr>
      </p:pic>
      <p:pic>
        <p:nvPicPr>
          <p:cNvPr id="184" name="Track 17.wma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85" name="Track 1.wma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7" dur="235507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36007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2435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Focus Point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 How are Aircraft Classifi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95640" y="1600200"/>
            <a:ext cx="420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 Black"/>
              </a:rPr>
              <a:t>Instructional Objectives: (SWBAT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33520" y="2286000"/>
            <a:ext cx="603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1) Explain the 2 primary classes of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80880" y="350532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2) Discuss types of heavier than air aircr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152280" y="4952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3) Identify 2 types of fixed wing aircraf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6094800" y="914400"/>
            <a:ext cx="256716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Lesson # 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4B6F-7354-4766-BF99-0516303C3FC3}" type="datetime">
              <a:rPr b="1" lang="en-US" sz="2800" spc="-1" strike="noStrike">
                <a:solidFill>
                  <a:srgbClr val="ffff00"/>
                </a:solidFill>
                <a:latin typeface="Garamond"/>
              </a:rPr>
              <a:t>07/28/26</a:t>
            </a:fld>
            <a:r>
              <a:rPr b="1" lang="en-US" sz="2800" spc="-1" strike="noStrike">
                <a:solidFill>
                  <a:srgbClr val="ffff00"/>
                </a:solidFill>
                <a:latin typeface="Garamond"/>
              </a:rPr>
              <a:t> </a:t>
            </a:r>
            <a:fld id="{F5363919-40F8-4278-A01F-DF6AB1714978}" type="datetime10">
              <a:rPr b="1" lang="en-US" sz="2800" spc="-1" strike="noStrike">
                <a:solidFill>
                  <a:srgbClr val="ffff00"/>
                </a:solidFill>
                <a:latin typeface="Garamond"/>
              </a:rPr>
              <a:t>08:59</a:t>
            </a:fld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1" descr="j0233070"/>
          <p:cNvPicPr/>
          <p:nvPr/>
        </p:nvPicPr>
        <p:blipFill>
          <a:blip r:embed="rId1"/>
          <a:stretch/>
        </p:blipFill>
        <p:spPr>
          <a:xfrm>
            <a:off x="6324480" y="2362320"/>
            <a:ext cx="1828800" cy="917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72787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4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I) What are the two primary classes of aircrafts: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) Lighter-than ai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1" descr="xu4r021a[1]"/>
          <p:cNvPicPr/>
          <p:nvPr/>
        </p:nvPicPr>
        <p:blipFill>
          <a:blip r:embed="rId1"/>
          <a:stretch/>
        </p:blipFill>
        <p:spPr>
          <a:xfrm rot="580800">
            <a:off x="5638680" y="4571640"/>
            <a:ext cx="2667240" cy="1425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516960" y="4130640"/>
            <a:ext cx="38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Heavier- than air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3" descr="yk1os4jy[1]"/>
          <p:cNvPicPr/>
          <p:nvPr/>
        </p:nvPicPr>
        <p:blipFill>
          <a:blip r:embed="rId2"/>
          <a:stretch/>
        </p:blipFill>
        <p:spPr>
          <a:xfrm rot="615000">
            <a:off x="5334120" y="2057400"/>
            <a:ext cx="304776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Lighter-than air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57200" y="1905120"/>
            <a:ext cx="7178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ydrogen was used (flammable ga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s gas to keep it al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ually slighter heavier helium (non flammable) was 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7" descr="ofsryk1a[1]"/>
          <p:cNvPicPr/>
          <p:nvPr/>
        </p:nvPicPr>
        <p:blipFill>
          <a:blip r:embed="rId1"/>
          <a:stretch/>
        </p:blipFill>
        <p:spPr>
          <a:xfrm>
            <a:off x="6705720" y="2133720"/>
            <a:ext cx="198108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Lighter-than air:</a:t>
            </a:r>
            <a:r>
              <a:rPr b="1" lang="en-US" sz="2800" spc="-1" strike="noStrike" u="sng">
                <a:solidFill>
                  <a:srgbClr val="3399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3" descr="3wgveq1a[1]"/>
          <p:cNvPicPr/>
          <p:nvPr/>
        </p:nvPicPr>
        <p:blipFill>
          <a:blip r:embed="rId1"/>
          <a:stretch/>
        </p:blipFill>
        <p:spPr>
          <a:xfrm>
            <a:off x="7010280" y="5486400"/>
            <a:ext cx="1839960" cy="853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4"/>
          <p:cNvSpPr/>
          <p:nvPr/>
        </p:nvSpPr>
        <p:spPr>
          <a:xfrm>
            <a:off x="228600" y="838080"/>
            <a:ext cx="7178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on-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“free balloon” or “hot air balloon”, has no internal or external framework. Has no steering mech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57200" y="3352680"/>
            <a:ext cx="7788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igid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limp,  gas is contained in a fabric covered wooden or metal frame work. A gondola (control car)  is underneath which carries engines and personne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4dx2hamv[1]"/>
          <p:cNvPicPr/>
          <p:nvPr/>
        </p:nvPicPr>
        <p:blipFill>
          <a:blip r:embed="rId2"/>
          <a:stretch/>
        </p:blipFill>
        <p:spPr>
          <a:xfrm>
            <a:off x="7543800" y="1295280"/>
            <a:ext cx="1116000" cy="18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: The Hindenburg was a German Zeppelin, after a successful passenger flight began across the Atlantic caught fire while landing in New jersey in May 1937, killing 36 people and injuring man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1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36 0.08276 L 0.108 0.08276 L 0.072 0.16686 L 0.108 0.24962 L 0.036 0.24962 L 0 0.33372 L -0.036 0.24962 L -0.108 0.24962 L -0.072 0.16686 L -0.108 0.08276 L -0.036 0.08276 L 0 0 Z">
                                      <p:cBhvr>
                                        <p:cTn id="10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762120" y="8377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avier-than air: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80880" y="297180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other ty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4" descr="wghzham_[1]"/>
          <p:cNvPicPr/>
          <p:nvPr/>
        </p:nvPicPr>
        <p:blipFill>
          <a:blip r:embed="rId1"/>
          <a:stretch/>
        </p:blipFill>
        <p:spPr>
          <a:xfrm>
            <a:off x="4038480" y="3962520"/>
            <a:ext cx="3722760" cy="1325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olzytqi0[1]"/>
          <p:cNvPicPr/>
          <p:nvPr/>
        </p:nvPicPr>
        <p:blipFill>
          <a:blip r:embed="rId2"/>
          <a:stretch/>
        </p:blipFill>
        <p:spPr>
          <a:xfrm>
            <a:off x="5638680" y="457200"/>
            <a:ext cx="266724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1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III) </a:t>
            </a:r>
            <a:r>
              <a:rPr b="1" lang="en-US" sz="3200" spc="-1" strike="noStrike" u="sng">
                <a:solidFill>
                  <a:srgbClr val="00ffcc"/>
                </a:solidFill>
                <a:uFillTx/>
                <a:latin typeface="Arial"/>
              </a:rPr>
              <a:t>Heavier-than ai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228600" y="838080"/>
            <a:ext cx="71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otary win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228600" y="1752480"/>
            <a:ext cx="7788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72"/>
              <a:buBlip>
                <a:blip r:embed="rId1"/>
              </a:buBlip>
              <a:tabLst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t is generated by moving blades overhead which act as “revolving wing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974880" y="3352680"/>
            <a:ext cx="8169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 Autogiro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on powered air driven blades. Forward flight is accomplished by use of a conventional engine and propeller. Forward motion caused free wheeling rotating blad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25" descr="ijtw4rnv[1]"/>
          <p:cNvPicPr/>
          <p:nvPr/>
        </p:nvPicPr>
        <p:blipFill>
          <a:blip r:embed="rId2"/>
          <a:stretch/>
        </p:blipFill>
        <p:spPr>
          <a:xfrm>
            <a:off x="5334120" y="533520"/>
            <a:ext cx="3378240" cy="101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ed by rotating bl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des may be tilted in any direction to control flight pa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143360" y="436680"/>
            <a:ext cx="26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elicopte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pkyq2wy1[1]"/>
          <p:cNvPicPr/>
          <p:nvPr/>
        </p:nvPicPr>
        <p:blipFill>
          <a:blip r:embed="rId1"/>
          <a:stretch/>
        </p:blipFill>
        <p:spPr>
          <a:xfrm>
            <a:off x="2362320" y="3962520"/>
            <a:ext cx="62071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2:14:57Z</dcterms:created>
  <dc:creator>T1</dc:creator>
  <dc:description>aircraft classification</dc:description>
  <cp:keywords>aircraft classification</cp:keywords>
  <dc:language>en-US</dc:language>
  <cp:lastModifiedBy>RomaK</cp:lastModifiedBy>
  <dcterms:modified xsi:type="dcterms:W3CDTF">2015-09-03T12:17:28Z</dcterms:modified>
  <cp:revision>57</cp:revision>
  <dc:subject>aircraft classification</dc:subject>
  <dc:title>aircraft classification</dc:title>
</cp:coreProperties>
</file>