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gunshot.wav" ContentType="audio/x-wav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driveby.wav" ContentType="audio/x-wav"/>
  <Override PartName="/ppt/media/image19.png" ContentType="image/png"/>
  <Override PartName="/ppt/media/image18.wmf" ContentType="image/x-wmf"/>
  <Override PartName="/ppt/media/carbrake.wav" ContentType="audio/x-wav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EDDF-5BF9-4B08-ADB5-DD72D9DB713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43B8-43CA-4417-8485-32395E44F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0EC-D69D-437C-8005-00251A2D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B74-E85A-4891-8595-27EA70B4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DDC-308A-4ACC-B2C9-66703791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6C3-5240-4A36-9EBE-A04B12CF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4D324-5BB2-4DC7-9685-BA1F4E40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7B270-E208-4C09-B388-99277A3D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5F574-4EC8-4610-817A-290F4075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CE0B8-ADBB-423A-81C1-57DEF63D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7C53B-94BC-49FE-BCBA-6CA54560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DDEC9-8F5B-47AB-B2E7-9F864709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4FD2D-1EC9-4656-B59C-7679889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682-EE38-4FB9-B426-C08A6198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CF9A6-5F8C-4C5D-B508-8AE51C50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D1FF3-BE95-4AFE-BA54-C4BB8E6C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AA373-3E91-45BD-B676-56924BA2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BA1EF-1A6E-410F-8634-40B35416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14E05-AFD7-4EA0-A489-DFD66B50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F89-81C5-49C7-BD54-703B5730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5CA-9C58-44BB-A11E-8AB60300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587-D7CC-4245-8450-FD7DB29B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73F-BA0D-4469-9795-4C432AF5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CBB-37B2-4ADB-B1FD-7D2C4890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102-51E5-4B89-854E-3BB6DBA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BD7-D941-4F8C-B1B9-2774F132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F838EAC5-1A6D-4048-A4D7-64550A0E96F1}" type="datetime13">
              <a:rPr b="0" lang="en-US" sz="1200" spc="-1" strike="noStrike">
                <a:solidFill>
                  <a:srgbClr val="000000"/>
                </a:solidFill>
                <a:latin typeface="Arial"/>
              </a:rPr>
              <a:t>06:42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FEB1-D790-4C7E-94B4-D9FFD941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5B59ABD8-B960-4410-93D7-D833C512F04C}" type="datetime13">
              <a:rPr b="0" lang="en-US" sz="1200" spc="-1" strike="noStrike">
                <a:solidFill>
                  <a:srgbClr val="ffffff"/>
                </a:solidFill>
                <a:latin typeface="Arial"/>
              </a:rPr>
              <a:t>06:42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0CC2-3259-47D7-8714-7A1497DAE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unshot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743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3e3ff"/>
                </a:solidFill>
                <a:latin typeface="Arial"/>
              </a:rPr>
              <a:t>DO NOW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029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ON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1676520"/>
            <a:ext cx="60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. Identify 3 major aerospace manufacturing compan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191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 Explain how a person such as your self can own part of an airlin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j0215086"/>
          <p:cNvPicPr/>
          <p:nvPr/>
        </p:nvPicPr>
        <p:blipFill>
          <a:blip r:embed="rId1"/>
          <a:stretch/>
        </p:blipFill>
        <p:spPr>
          <a:xfrm>
            <a:off x="7238880" y="60948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xed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1knejj1i[1]"/>
          <p:cNvPicPr/>
          <p:nvPr/>
        </p:nvPicPr>
        <p:blipFill>
          <a:blip r:embed="rId1"/>
          <a:stretch/>
        </p:blipFill>
        <p:spPr>
          <a:xfrm>
            <a:off x="5867280" y="228600"/>
            <a:ext cx="2721240" cy="152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457200" y="1676520"/>
            <a:ext cx="816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a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lying boats) uses floats or hulls in place of conventional landing gear to take off and land on water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04920" y="39625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nd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assified by location of wing, landing gear type 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irplane-overall"/>
          <p:cNvPicPr/>
          <p:nvPr/>
        </p:nvPicPr>
        <p:blipFill>
          <a:blip r:embed="rId1"/>
          <a:stretch/>
        </p:blipFill>
        <p:spPr>
          <a:xfrm>
            <a:off x="304920" y="685800"/>
            <a:ext cx="8577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050840" y="1692360"/>
            <a:ext cx="67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phib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n operate either on land or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qbti3oiv[1]"/>
          <p:cNvPicPr/>
          <p:nvPr/>
        </p:nvPicPr>
        <p:blipFill>
          <a:blip r:embed="rId1"/>
          <a:stretch/>
        </p:blipFill>
        <p:spPr>
          <a:xfrm>
            <a:off x="3048120" y="3809880"/>
            <a:ext cx="3805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64480" y="1981080"/>
            <a:ext cx="41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SUMMARY (ACCOUNTABLE TALK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04920" y="243828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57200" y="3809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" y="5410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591960" y="685800"/>
            <a:ext cx="2369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D625-2FD8-40FD-BA90-FB3B0C946218}" type="datetime3">
              <a:rPr b="1" lang="en-US" sz="2800" spc="-1" strike="noStrike">
                <a:solidFill>
                  <a:srgbClr val="ffff00"/>
                </a:solidFill>
                <a:latin typeface="Garamond"/>
              </a:rPr>
              <a:t>July 31, 2026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gyzhx0v1[1]"/>
          <p:cNvPicPr/>
          <p:nvPr/>
        </p:nvPicPr>
        <p:blipFill>
          <a:blip r:embed="rId1"/>
          <a:stretch/>
        </p:blipFill>
        <p:spPr>
          <a:xfrm rot="492000">
            <a:off x="6171840" y="2141280"/>
            <a:ext cx="2514600" cy="1420560"/>
          </a:xfrm>
          <a:prstGeom prst="rect">
            <a:avLst/>
          </a:prstGeom>
          <a:ln w="0">
            <a:noFill/>
          </a:ln>
        </p:spPr>
      </p:pic>
      <p:pic>
        <p:nvPicPr>
          <p:cNvPr id="184" name="Track 17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Track 1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3550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36007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2435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640" y="1600200"/>
            <a:ext cx="42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Instructional Objectives: (SWBA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3520" y="228600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) Explain the 2 primary classes of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3505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) Discuss types of heavier than air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52280" y="4952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) Identify 2 types of fixed wing aircraf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094800" y="914400"/>
            <a:ext cx="2567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BDD9-4623-4D84-B68C-41EABABAC506}" type="datetime">
              <a:rPr b="1" lang="en-US" sz="2800" spc="-1" strike="noStrike">
                <a:solidFill>
                  <a:srgbClr val="ffff00"/>
                </a:solidFill>
                <a:latin typeface="Garamond"/>
              </a:rPr>
              <a:t>07/31/26</a:t>
            </a:fld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fld id="{8679D37D-DCC9-4BD3-B9A5-C9B2601AA3A9}" type="datetime10">
              <a:rPr b="1" lang="en-US" sz="2800" spc="-1" strike="noStrike">
                <a:solidFill>
                  <a:srgbClr val="ffff00"/>
                </a:solidFill>
                <a:latin typeface="Garamond"/>
              </a:rPr>
              <a:t>06:42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j0233070"/>
          <p:cNvPicPr/>
          <p:nvPr/>
        </p:nvPicPr>
        <p:blipFill>
          <a:blip r:embed="rId1"/>
          <a:stretch/>
        </p:blipFill>
        <p:spPr>
          <a:xfrm>
            <a:off x="6324480" y="2362320"/>
            <a:ext cx="1828800" cy="91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7278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I) What are the two primary classes of aircrafts: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xu4r021a[1]"/>
          <p:cNvPicPr/>
          <p:nvPr/>
        </p:nvPicPr>
        <p:blipFill>
          <a:blip r:embed="rId1"/>
          <a:stretch/>
        </p:blipFill>
        <p:spPr>
          <a:xfrm rot="580800">
            <a:off x="5638680" y="4571640"/>
            <a:ext cx="2667240" cy="1425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16960" y="4130640"/>
            <a:ext cx="38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Heavier- than ai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yk1os4jy[1]"/>
          <p:cNvPicPr/>
          <p:nvPr/>
        </p:nvPicPr>
        <p:blipFill>
          <a:blip r:embed="rId2"/>
          <a:stretch/>
        </p:blipFill>
        <p:spPr>
          <a:xfrm rot="615000">
            <a:off x="5334120" y="2057400"/>
            <a:ext cx="30477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ghter-than ai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57200" y="1905120"/>
            <a:ext cx="7178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ofsryk1a[1]"/>
          <p:cNvPicPr/>
          <p:nvPr/>
        </p:nvPicPr>
        <p:blipFill>
          <a:blip r:embed="rId1"/>
          <a:stretch/>
        </p:blipFill>
        <p:spPr>
          <a:xfrm>
            <a:off x="6705720" y="2133720"/>
            <a:ext cx="19810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Lighter-than air:</a:t>
            </a: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3wgveq1a[1]"/>
          <p:cNvPicPr/>
          <p:nvPr/>
        </p:nvPicPr>
        <p:blipFill>
          <a:blip r:embed="rId1"/>
          <a:stretch/>
        </p:blipFill>
        <p:spPr>
          <a:xfrm>
            <a:off x="7010280" y="5486400"/>
            <a:ext cx="1839960" cy="853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28600" y="838080"/>
            <a:ext cx="7178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-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free balloon” or “hot air balloon”, has no internal or external framework. Has no steering mech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57200" y="3352680"/>
            <a:ext cx="778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imp,  gas is contained in a fabric covered wooden or metal frame work. A gondola (control car)  is underneath which carries engines and personn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4dx2hamv[1]"/>
          <p:cNvPicPr/>
          <p:nvPr/>
        </p:nvPicPr>
        <p:blipFill>
          <a:blip r:embed="rId2"/>
          <a:stretch/>
        </p:blipFill>
        <p:spPr>
          <a:xfrm>
            <a:off x="7543800" y="1295280"/>
            <a:ext cx="1116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76 L 0.108 0.08276 L 0.072 0.16686 L 0.108 0.24962 L 0.036 0.24962 L 0 0.33372 L -0.036 0.24962 L -0.108 0.24962 L -0.072 0.16686 L -0.108 0.08276 L -0.036 0.08276 L 0 0 Z">
                                      <p:cBhvr>
                                        <p:cTn id="10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vier-than air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297180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4" descr="wghzham_[1]"/>
          <p:cNvPicPr/>
          <p:nvPr/>
        </p:nvPicPr>
        <p:blipFill>
          <a:blip r:embed="rId1"/>
          <a:stretch/>
        </p:blipFill>
        <p:spPr>
          <a:xfrm>
            <a:off x="4038480" y="3962520"/>
            <a:ext cx="3722760" cy="1325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olzytqi0[1]"/>
          <p:cNvPicPr/>
          <p:nvPr/>
        </p:nvPicPr>
        <p:blipFill>
          <a:blip r:embed="rId2"/>
          <a:stretch/>
        </p:blipFill>
        <p:spPr>
          <a:xfrm>
            <a:off x="5638680" y="457200"/>
            <a:ext cx="26672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Heavier-than a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otary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28600" y="175248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974880" y="3352680"/>
            <a:ext cx="8169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Autogir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n powered air driven blades. Forward flight is accomplished by use of a conventional engine and propeller. Forward motion caused free wheeling rotating bl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5" descr="ijtw4rnv[1]"/>
          <p:cNvPicPr/>
          <p:nvPr/>
        </p:nvPicPr>
        <p:blipFill>
          <a:blip r:embed="rId2"/>
          <a:stretch/>
        </p:blipFill>
        <p:spPr>
          <a:xfrm>
            <a:off x="5334120" y="533520"/>
            <a:ext cx="337824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43360" y="43668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licop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pkyq2wy1[1]"/>
          <p:cNvPicPr/>
          <p:nvPr/>
        </p:nvPicPr>
        <p:blipFill>
          <a:blip r:embed="rId1"/>
          <a:stretch/>
        </p:blipFill>
        <p:spPr>
          <a:xfrm>
            <a:off x="2362320" y="3962520"/>
            <a:ext cx="62071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2:14:57Z</dcterms:created>
  <dc:creator>T1</dc:creator>
  <dc:description>aircraft classification</dc:description>
  <cp:keywords>aircraft classification</cp:keywords>
  <dc:language>en-US</dc:language>
  <cp:lastModifiedBy>RomaK</cp:lastModifiedBy>
  <dcterms:modified xsi:type="dcterms:W3CDTF">2015-09-03T12:17:28Z</dcterms:modified>
  <cp:revision>57</cp:revision>
  <dc:subject>aircraft classification</dc:subject>
  <dc:title>aircraft classification</dc:title>
</cp:coreProperties>
</file>