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E9D3-F3C4-4393-80B7-B4D2A74012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left hand if you think the diagram on the lef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 your right hand if you think the diagram on the right will go the hig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D49-C875-47E5-B0A9-571058B5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109-3711-47BC-95A0-DDD89163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53C-7BC3-49AC-AE51-6BE76167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1AB-9D6B-4D23-9206-F4F5E9E7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E0B-3CB0-443D-A6C3-CC84ACD7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03A-D7FF-40F1-AB2D-D5CF293B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BDC-A925-438D-A5DB-244787EC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799-4D60-4CDC-A0F1-D96FE80E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321-3A06-47BA-B14A-93B27386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D9A-89CA-4737-9744-882FE7C9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9B5-CF9F-4E54-8F5C-26A282B7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E98-31F9-410E-86BA-CBAA153A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A3B3-02B5-47DB-9F40-FE54CBCBD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itude of a rocket as compared to its mass and initial speed, in the absence of air resist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5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6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9"/>
          <p:cNvSpPr/>
          <p:nvPr/>
        </p:nvSpPr>
        <p:spPr>
          <a:xfrm>
            <a:off x="304920" y="32767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49528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77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84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9"/>
          <p:cNvSpPr/>
          <p:nvPr/>
        </p:nvSpPr>
        <p:spPr>
          <a:xfrm>
            <a:off x="762120" y="3124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41008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449568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533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3"/>
          <p:cNvGrpSpPr/>
          <p:nvPr/>
        </p:nvGrpSpPr>
        <p:grpSpPr>
          <a:xfrm>
            <a:off x="-228600" y="6019920"/>
            <a:ext cx="1371600" cy="3733200"/>
            <a:chOff x="-228600" y="6019920"/>
            <a:chExt cx="1371600" cy="3733200"/>
          </a:xfrm>
        </p:grpSpPr>
        <p:sp>
          <p:nvSpPr>
            <p:cNvPr id="195" name="Rectangle 24"/>
            <p:cNvSpPr/>
            <p:nvPr/>
          </p:nvSpPr>
          <p:spPr>
            <a:xfrm>
              <a:off x="1587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25"/>
            <p:cNvGrpSpPr/>
            <p:nvPr/>
          </p:nvGrpSpPr>
          <p:grpSpPr>
            <a:xfrm>
              <a:off x="-228600" y="6019920"/>
              <a:ext cx="1371600" cy="2257200"/>
              <a:chOff x="-228600" y="6019920"/>
              <a:chExt cx="1371600" cy="2257200"/>
            </a:xfrm>
          </p:grpSpPr>
          <p:sp>
            <p:nvSpPr>
              <p:cNvPr id="197" name="Freeform 26"/>
              <p:cNvSpPr/>
              <p:nvPr/>
            </p:nvSpPr>
            <p:spPr>
              <a:xfrm>
                <a:off x="-22860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7"/>
              <p:cNvSpPr/>
              <p:nvPr/>
            </p:nvSpPr>
            <p:spPr>
              <a:xfrm>
                <a:off x="9421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8"/>
              <p:cNvSpPr/>
              <p:nvPr/>
            </p:nvSpPr>
            <p:spPr>
              <a:xfrm>
                <a:off x="4827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9"/>
              <p:cNvSpPr/>
              <p:nvPr/>
            </p:nvSpPr>
            <p:spPr>
              <a:xfrm>
                <a:off x="2307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0"/>
              <p:cNvSpPr/>
              <p:nvPr/>
            </p:nvSpPr>
            <p:spPr>
              <a:xfrm>
                <a:off x="-213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1"/>
              <p:cNvSpPr/>
              <p:nvPr/>
            </p:nvSpPr>
            <p:spPr>
              <a:xfrm>
                <a:off x="226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32"/>
            <p:cNvSpPr/>
            <p:nvPr/>
          </p:nvSpPr>
          <p:spPr>
            <a:xfrm>
              <a:off x="1587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6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05548 E">
                                      <p:cBhvr>
                                        <p:cTn id="66" dur="1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7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1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17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22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30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237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247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249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257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259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91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93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0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0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7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7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292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299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9"/>
          <p:cNvSpPr/>
          <p:nvPr/>
        </p:nvSpPr>
        <p:spPr>
          <a:xfrm>
            <a:off x="304920" y="327672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724280" y="3429000"/>
            <a:ext cx="23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10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12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19" dur="1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21" dur="1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33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2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3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9"/>
          <p:cNvSpPr/>
          <p:nvPr/>
        </p:nvSpPr>
        <p:spPr>
          <a:xfrm>
            <a:off x="304920" y="327672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0"/>
          <p:cNvSpPr/>
          <p:nvPr/>
        </p:nvSpPr>
        <p:spPr>
          <a:xfrm>
            <a:off x="4724280" y="3429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rocket will go the highest. All rockets will be launched vertically from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51" name="Rectangle 9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0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5028840" y="5257800"/>
            <a:ext cx="1067040" cy="1600200"/>
            <a:chOff x="5028840" y="5257800"/>
            <a:chExt cx="1067040" cy="1600200"/>
          </a:xfrm>
        </p:grpSpPr>
        <p:sp>
          <p:nvSpPr>
            <p:cNvPr id="58" name="Rectangle 16"/>
            <p:cNvSpPr/>
            <p:nvPr/>
          </p:nvSpPr>
          <p:spPr>
            <a:xfrm>
              <a:off x="5410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7"/>
            <p:cNvSpPr/>
            <p:nvPr/>
          </p:nvSpPr>
          <p:spPr>
            <a:xfrm>
              <a:off x="5334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 flipH="1">
              <a:off x="5028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5029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5715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 flipH="1" flipV="1">
              <a:off x="5715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9418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87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45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52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410080" y="342900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363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365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46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.00833 -1.0319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60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7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38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9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398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05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19"/>
          <p:cNvSpPr/>
          <p:nvPr/>
        </p:nvSpPr>
        <p:spPr>
          <a:xfrm>
            <a:off x="304920" y="32767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5029200" y="34290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23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416" name="Rectangle 24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25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418" name="Freeform 26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7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8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9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0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1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Line 32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173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878 E">
                                      <p:cBhvr>
                                        <p:cTn id="17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187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3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438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304920" y="32767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800600" y="34290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WordArt 21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451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2"/>
          <p:cNvGrpSpPr/>
          <p:nvPr/>
        </p:nvGrpSpPr>
        <p:grpSpPr>
          <a:xfrm>
            <a:off x="6933960" y="5334120"/>
            <a:ext cx="1067040" cy="1523520"/>
            <a:chOff x="6933960" y="5334120"/>
            <a:chExt cx="1067040" cy="1523520"/>
          </a:xfrm>
        </p:grpSpPr>
        <p:sp>
          <p:nvSpPr>
            <p:cNvPr id="458" name="Rectangle 13"/>
            <p:cNvSpPr/>
            <p:nvPr/>
          </p:nvSpPr>
          <p:spPr>
            <a:xfrm>
              <a:off x="731520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4"/>
            <p:cNvSpPr/>
            <p:nvPr/>
          </p:nvSpPr>
          <p:spPr>
            <a:xfrm>
              <a:off x="723924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 flipH="1">
              <a:off x="693396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V="1">
              <a:off x="69343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>
              <a:off x="762012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 flipV="1">
              <a:off x="762012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 Box 19"/>
          <p:cNvSpPr/>
          <p:nvPr/>
        </p:nvSpPr>
        <p:spPr>
          <a:xfrm>
            <a:off x="83808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029200" y="32767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2666880" y="1523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SA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22"/>
          <p:cNvGrpSpPr/>
          <p:nvPr/>
        </p:nvGrpSpPr>
        <p:grpSpPr>
          <a:xfrm>
            <a:off x="7957800" y="6010560"/>
            <a:ext cx="1429560" cy="3756960"/>
            <a:chOff x="7957800" y="6010560"/>
            <a:chExt cx="1429560" cy="3756960"/>
          </a:xfrm>
        </p:grpSpPr>
        <p:sp>
          <p:nvSpPr>
            <p:cNvPr id="468" name="Rectangle 23"/>
            <p:cNvSpPr/>
            <p:nvPr/>
          </p:nvSpPr>
          <p:spPr>
            <a:xfrm flipH="1" rot="21465600">
              <a:off x="832536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4"/>
            <p:cNvGrpSpPr/>
            <p:nvPr/>
          </p:nvGrpSpPr>
          <p:grpSpPr>
            <a:xfrm>
              <a:off x="7957800" y="6010560"/>
              <a:ext cx="1429560" cy="2291760"/>
              <a:chOff x="7957800" y="6010560"/>
              <a:chExt cx="1429560" cy="2291760"/>
            </a:xfrm>
          </p:grpSpPr>
          <p:sp>
            <p:nvSpPr>
              <p:cNvPr id="470" name="Freeform 25"/>
              <p:cNvSpPr/>
              <p:nvPr/>
            </p:nvSpPr>
            <p:spPr>
              <a:xfrm flipH="1" rot="21465600">
                <a:off x="800028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"/>
              <p:cNvSpPr/>
              <p:nvPr/>
            </p:nvSpPr>
            <p:spPr>
              <a:xfrm flipH="1" rot="21465600">
                <a:off x="797616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"/>
              <p:cNvSpPr/>
              <p:nvPr/>
            </p:nvSpPr>
            <p:spPr>
              <a:xfrm flipH="1" rot="21465600">
                <a:off x="846360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8"/>
              <p:cNvSpPr/>
              <p:nvPr/>
            </p:nvSpPr>
            <p:spPr>
              <a:xfrm flipH="1" rot="21465600">
                <a:off x="861984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9"/>
              <p:cNvSpPr/>
              <p:nvPr/>
            </p:nvSpPr>
            <p:spPr>
              <a:xfrm flipH="1" rot="21465600">
                <a:off x="922716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30"/>
              <p:cNvSpPr/>
              <p:nvPr/>
            </p:nvSpPr>
            <p:spPr>
              <a:xfrm flipH="1" rot="21465600">
                <a:off x="887508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Line 31"/>
            <p:cNvSpPr/>
            <p:nvPr/>
          </p:nvSpPr>
          <p:spPr>
            <a:xfrm flipH="1">
              <a:off x="830124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32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478" name="Rectangle 33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34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480" name="Freeform 35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36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37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38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39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0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Line 41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7199 E">
                                      <p:cBhvr>
                                        <p:cTn id="200" dur="1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17754 E">
                                      <p:cBhvr>
                                        <p:cTn id="202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11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215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4524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how can you determine which rocket will go higher by knowing its initial mass and speed, in the absence of air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se three rockets in order from highest to low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456840" y="5257800"/>
            <a:ext cx="1067040" cy="1600200"/>
            <a:chOff x="456840" y="5257800"/>
            <a:chExt cx="1067040" cy="1600200"/>
          </a:xfrm>
        </p:grpSpPr>
        <p:sp>
          <p:nvSpPr>
            <p:cNvPr id="491" name="Rectangle 5"/>
            <p:cNvSpPr/>
            <p:nvPr/>
          </p:nvSpPr>
          <p:spPr>
            <a:xfrm>
              <a:off x="83808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6"/>
            <p:cNvSpPr/>
            <p:nvPr/>
          </p:nvSpPr>
          <p:spPr>
            <a:xfrm>
              <a:off x="76212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7"/>
            <p:cNvSpPr/>
            <p:nvPr/>
          </p:nvSpPr>
          <p:spPr>
            <a:xfrm flipH="1">
              <a:off x="45684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8"/>
            <p:cNvSpPr/>
            <p:nvPr/>
          </p:nvSpPr>
          <p:spPr>
            <a:xfrm flipV="1">
              <a:off x="4572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9"/>
            <p:cNvSpPr/>
            <p:nvPr/>
          </p:nvSpPr>
          <p:spPr>
            <a:xfrm>
              <a:off x="114300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0"/>
            <p:cNvSpPr/>
            <p:nvPr/>
          </p:nvSpPr>
          <p:spPr>
            <a:xfrm flipH="1" flipV="1">
              <a:off x="114300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11"/>
          <p:cNvGrpSpPr/>
          <p:nvPr/>
        </p:nvGrpSpPr>
        <p:grpSpPr>
          <a:xfrm>
            <a:off x="3962160" y="5257800"/>
            <a:ext cx="1067040" cy="1600200"/>
            <a:chOff x="3962160" y="5257800"/>
            <a:chExt cx="1067040" cy="1600200"/>
          </a:xfrm>
        </p:grpSpPr>
        <p:sp>
          <p:nvSpPr>
            <p:cNvPr id="498" name="Rectangle 12"/>
            <p:cNvSpPr/>
            <p:nvPr/>
          </p:nvSpPr>
          <p:spPr>
            <a:xfrm>
              <a:off x="43434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3"/>
            <p:cNvSpPr/>
            <p:nvPr/>
          </p:nvSpPr>
          <p:spPr>
            <a:xfrm>
              <a:off x="42674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4"/>
            <p:cNvSpPr/>
            <p:nvPr/>
          </p:nvSpPr>
          <p:spPr>
            <a:xfrm flipH="1">
              <a:off x="39621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5"/>
            <p:cNvSpPr/>
            <p:nvPr/>
          </p:nvSpPr>
          <p:spPr>
            <a:xfrm flipV="1">
              <a:off x="39625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6"/>
            <p:cNvSpPr/>
            <p:nvPr/>
          </p:nvSpPr>
          <p:spPr>
            <a:xfrm>
              <a:off x="46483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7"/>
            <p:cNvSpPr/>
            <p:nvPr/>
          </p:nvSpPr>
          <p:spPr>
            <a:xfrm flipH="1" flipV="1">
              <a:off x="4648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18"/>
          <p:cNvGrpSpPr/>
          <p:nvPr/>
        </p:nvGrpSpPr>
        <p:grpSpPr>
          <a:xfrm>
            <a:off x="6933960" y="5257800"/>
            <a:ext cx="1067040" cy="1600200"/>
            <a:chOff x="6933960" y="5257800"/>
            <a:chExt cx="1067040" cy="1600200"/>
          </a:xfrm>
        </p:grpSpPr>
        <p:sp>
          <p:nvSpPr>
            <p:cNvPr id="505" name="Rectangle 19"/>
            <p:cNvSpPr/>
            <p:nvPr/>
          </p:nvSpPr>
          <p:spPr>
            <a:xfrm>
              <a:off x="7315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0"/>
            <p:cNvSpPr/>
            <p:nvPr/>
          </p:nvSpPr>
          <p:spPr>
            <a:xfrm>
              <a:off x="7239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1"/>
            <p:cNvSpPr/>
            <p:nvPr/>
          </p:nvSpPr>
          <p:spPr>
            <a:xfrm flipH="1">
              <a:off x="6933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2"/>
            <p:cNvSpPr/>
            <p:nvPr/>
          </p:nvSpPr>
          <p:spPr>
            <a:xfrm flipV="1">
              <a:off x="6934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3"/>
            <p:cNvSpPr/>
            <p:nvPr/>
          </p:nvSpPr>
          <p:spPr>
            <a:xfrm>
              <a:off x="7620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4"/>
            <p:cNvSpPr/>
            <p:nvPr/>
          </p:nvSpPr>
          <p:spPr>
            <a:xfrm flipH="1" flipV="1">
              <a:off x="7620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38088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3505320" y="12952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781680" y="129528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30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2743200" y="3809880"/>
            <a:ext cx="4191120" cy="1169280"/>
          </a:xfrm>
          <a:prstGeom prst="rect">
            <a:avLst/>
          </a:prstGeom>
          <a:solidFill>
            <a:srgbClr val="f7f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C are t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1692E-006 L -3.33333E-006 -0.14979 E">
                                      <p:cBhvr>
                                        <p:cTn id="229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77115 E">
                                      <p:cBhvr>
                                        <p:cTn id="231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4979 E">
                                      <p:cBhvr>
                                        <p:cTn id="233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would air resistance affect the  altitud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914400" y="685800"/>
            <a:ext cx="7696080" cy="5718600"/>
          </a:xfrm>
          <a:prstGeom prst="rect">
            <a:avLst/>
          </a:prstGeom>
          <a:solidFill>
            <a:srgbClr val="fcf9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ings and speed animations not drawn to an exact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numbers are given in generic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diagrams on the right will be compared to this same rocket on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38080" y="457200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2971440" y="4572000"/>
            <a:ext cx="1067040" cy="1600200"/>
            <a:chOff x="2971440" y="4572000"/>
            <a:chExt cx="1067040" cy="1600200"/>
          </a:xfrm>
        </p:grpSpPr>
        <p:sp>
          <p:nvSpPr>
            <p:cNvPr id="68" name="Rectangle 6"/>
            <p:cNvSpPr/>
            <p:nvPr/>
          </p:nvSpPr>
          <p:spPr>
            <a:xfrm>
              <a:off x="3352680" y="51818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>
              <a:off x="3276720" y="45720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971440" y="5791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 flipV="1">
              <a:off x="29718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657600" y="57150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 flipH="1" flipV="1">
              <a:off x="3657600" y="60195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12"/>
          <p:cNvSpPr/>
          <p:nvPr/>
        </p:nvSpPr>
        <p:spPr>
          <a:xfrm>
            <a:off x="762120" y="35812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f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lef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ight h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think the diagram on the right will go the hig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0" y="6019920"/>
            <a:ext cx="1371600" cy="3733200"/>
            <a:chOff x="0" y="6019920"/>
            <a:chExt cx="1371600" cy="3733200"/>
          </a:xfrm>
        </p:grpSpPr>
        <p:sp>
          <p:nvSpPr>
            <p:cNvPr id="78" name="Rectangle 8"/>
            <p:cNvSpPr/>
            <p:nvPr/>
          </p:nvSpPr>
          <p:spPr>
            <a:xfrm>
              <a:off x="387360" y="828360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0" y="6019920"/>
              <a:ext cx="1371600" cy="2257200"/>
              <a:chOff x="0" y="6019920"/>
              <a:chExt cx="1371600" cy="2257200"/>
            </a:xfrm>
          </p:grpSpPr>
          <p:sp>
            <p:nvSpPr>
              <p:cNvPr id="80" name="Freeform 10"/>
              <p:cNvSpPr/>
              <p:nvPr/>
            </p:nvSpPr>
            <p:spPr>
              <a:xfrm>
                <a:off x="0" y="603612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1"/>
              <p:cNvSpPr/>
              <p:nvPr/>
            </p:nvSpPr>
            <p:spPr>
              <a:xfrm>
                <a:off x="1170720" y="709380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"/>
              <p:cNvSpPr/>
              <p:nvPr/>
            </p:nvSpPr>
            <p:spPr>
              <a:xfrm>
                <a:off x="711360" y="6262920"/>
                <a:ext cx="139320" cy="27468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3"/>
              <p:cNvSpPr/>
              <p:nvPr/>
            </p:nvSpPr>
            <p:spPr>
              <a:xfrm>
                <a:off x="459360" y="601992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4"/>
              <p:cNvSpPr/>
              <p:nvPr/>
            </p:nvSpPr>
            <p:spPr>
              <a:xfrm>
                <a:off x="15120" y="7041600"/>
                <a:ext cx="99720" cy="18576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"/>
              <p:cNvSpPr/>
              <p:nvPr/>
            </p:nvSpPr>
            <p:spPr>
              <a:xfrm>
                <a:off x="251280" y="634140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6"/>
            <p:cNvSpPr/>
            <p:nvPr/>
          </p:nvSpPr>
          <p:spPr>
            <a:xfrm>
              <a:off x="387360" y="8370720"/>
              <a:ext cx="70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88" name="Rectangle 18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19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90" name="Freeform 20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1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2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3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4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5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Line 26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276 L 0 -0.43828 E">
                                      <p:cBhvr>
                                        <p:cTn id="17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590920" y="762120"/>
            <a:ext cx="4495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ady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04" name="Rectangle 8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11" name="Rectangle 16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7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9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22"/>
          <p:cNvSpPr/>
          <p:nvPr/>
        </p:nvSpPr>
        <p:spPr>
          <a:xfrm>
            <a:off x="304920" y="3276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876920" y="342900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6"/>
          <p:cNvSpPr txBox="1"/>
          <p:nvPr/>
        </p:nvSpPr>
        <p:spPr>
          <a:xfrm>
            <a:off x="1752480" y="838080"/>
            <a:ext cx="58676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SWER</a:t>
            </a:r>
            <a:endParaRPr b="0" lang="en-US" sz="2800" spc="1" strike="noStrike">
              <a:ln w="0">
                <a:noFill/>
              </a:ln>
              <a:solidFill>
                <a:srgbClr val="cc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40388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2361960" y="5257800"/>
            <a:ext cx="1067040" cy="1600200"/>
            <a:chOff x="2361960" y="5257800"/>
            <a:chExt cx="1067040" cy="1600200"/>
          </a:xfrm>
        </p:grpSpPr>
        <p:sp>
          <p:nvSpPr>
            <p:cNvPr id="124" name="Rectangle 6"/>
            <p:cNvSpPr/>
            <p:nvPr/>
          </p:nvSpPr>
          <p:spPr>
            <a:xfrm>
              <a:off x="2743200" y="5867640"/>
              <a:ext cx="3049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7240" y="5257800"/>
              <a:ext cx="457200" cy="60984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H="1">
              <a:off x="2361960" y="64771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23623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3048120" y="640080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 flipV="1">
              <a:off x="3048120" y="670536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7695720" y="5334120"/>
            <a:ext cx="1067040" cy="1523520"/>
            <a:chOff x="7695720" y="5334120"/>
            <a:chExt cx="1067040" cy="1523520"/>
          </a:xfrm>
        </p:grpSpPr>
        <p:sp>
          <p:nvSpPr>
            <p:cNvPr id="131" name="Rectangle 13"/>
            <p:cNvSpPr/>
            <p:nvPr/>
          </p:nvSpPr>
          <p:spPr>
            <a:xfrm>
              <a:off x="8076960" y="5914800"/>
              <a:ext cx="304920" cy="87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8001000" y="5334120"/>
              <a:ext cx="457200" cy="580680"/>
            </a:xfrm>
            <a:prstGeom prst="triangle">
              <a:avLst>
                <a:gd name="adj" fmla="val 50000"/>
              </a:avLst>
            </a:prstGeom>
            <a:solidFill>
              <a:srgbClr val="fba3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 flipH="1">
              <a:off x="7695720" y="6495120"/>
              <a:ext cx="30492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 flipV="1">
              <a:off x="76960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8381880" y="6422400"/>
              <a:ext cx="30492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 flipH="1" flipV="1">
              <a:off x="8381880" y="6712920"/>
              <a:ext cx="3808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9"/>
          <p:cNvSpPr/>
          <p:nvPr/>
        </p:nvSpPr>
        <p:spPr>
          <a:xfrm>
            <a:off x="304920" y="327672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5410080" y="3429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0" y="2057400"/>
            <a:ext cx="4648320" cy="480060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5257800" y="2438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Rounded MT Bold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7119720" y="6010560"/>
            <a:ext cx="1429560" cy="3756960"/>
            <a:chOff x="7119720" y="6010560"/>
            <a:chExt cx="1429560" cy="3756960"/>
          </a:xfrm>
        </p:grpSpPr>
        <p:sp>
          <p:nvSpPr>
            <p:cNvPr id="142" name="Rectangle 37"/>
            <p:cNvSpPr/>
            <p:nvPr/>
          </p:nvSpPr>
          <p:spPr>
            <a:xfrm flipH="1" rot="21465600">
              <a:off x="7487280" y="8284680"/>
              <a:ext cx="703080" cy="1469520"/>
            </a:xfrm>
            <a:prstGeom prst="rect">
              <a:avLst/>
            </a:prstGeom>
            <a:solidFill>
              <a:srgbClr val="b7a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7119720" y="6010560"/>
              <a:ext cx="1429560" cy="2291760"/>
              <a:chOff x="7119720" y="6010560"/>
              <a:chExt cx="1429560" cy="2291760"/>
            </a:xfrm>
          </p:grpSpPr>
          <p:sp>
            <p:nvSpPr>
              <p:cNvPr id="144" name="Freeform 39"/>
              <p:cNvSpPr/>
              <p:nvPr/>
            </p:nvSpPr>
            <p:spPr>
              <a:xfrm flipH="1" rot="21465600">
                <a:off x="7162200" y="6035760"/>
                <a:ext cx="1343160" cy="2241000"/>
              </a:xfrm>
              <a:custGeom>
                <a:avLst/>
                <a:gdLst/>
                <a:ahLst/>
                <a:rect l="l" t="t" r="r" b="b"/>
                <a:pathLst>
                  <a:path w="2792" h="3280">
                    <a:moveTo>
                      <a:pt x="1928" y="3280"/>
                    </a:moveTo>
                    <a:cubicBezTo>
                      <a:pt x="1904" y="3156"/>
                      <a:pt x="1880" y="3032"/>
                      <a:pt x="1928" y="2944"/>
                    </a:cubicBezTo>
                    <a:cubicBezTo>
                      <a:pt x="1976" y="2856"/>
                      <a:pt x="2120" y="2880"/>
                      <a:pt x="2216" y="2752"/>
                    </a:cubicBezTo>
                    <a:cubicBezTo>
                      <a:pt x="2312" y="2624"/>
                      <a:pt x="2408" y="2360"/>
                      <a:pt x="2504" y="2176"/>
                    </a:cubicBezTo>
                    <a:cubicBezTo>
                      <a:pt x="2600" y="1992"/>
                      <a:pt x="2792" y="1752"/>
                      <a:pt x="2792" y="1648"/>
                    </a:cubicBezTo>
                    <a:cubicBezTo>
                      <a:pt x="2792" y="1544"/>
                      <a:pt x="2616" y="1512"/>
                      <a:pt x="2504" y="1552"/>
                    </a:cubicBezTo>
                    <a:cubicBezTo>
                      <a:pt x="2392" y="1592"/>
                      <a:pt x="2232" y="1752"/>
                      <a:pt x="2120" y="1888"/>
                    </a:cubicBezTo>
                    <a:cubicBezTo>
                      <a:pt x="2008" y="2024"/>
                      <a:pt x="1896" y="2376"/>
                      <a:pt x="1832" y="2368"/>
                    </a:cubicBezTo>
                    <a:cubicBezTo>
                      <a:pt x="1768" y="2360"/>
                      <a:pt x="1752" y="1976"/>
                      <a:pt x="1736" y="1840"/>
                    </a:cubicBezTo>
                    <a:cubicBezTo>
                      <a:pt x="1720" y="1704"/>
                      <a:pt x="1728" y="1632"/>
                      <a:pt x="1736" y="1552"/>
                    </a:cubicBezTo>
                    <a:cubicBezTo>
                      <a:pt x="1744" y="1472"/>
                      <a:pt x="1776" y="1440"/>
                      <a:pt x="1784" y="1360"/>
                    </a:cubicBezTo>
                    <a:cubicBezTo>
                      <a:pt x="1792" y="1280"/>
                      <a:pt x="1792" y="1200"/>
                      <a:pt x="1784" y="1072"/>
                    </a:cubicBezTo>
                    <a:cubicBezTo>
                      <a:pt x="1776" y="944"/>
                      <a:pt x="1752" y="696"/>
                      <a:pt x="1736" y="592"/>
                    </a:cubicBezTo>
                    <a:cubicBezTo>
                      <a:pt x="1720" y="488"/>
                      <a:pt x="1720" y="472"/>
                      <a:pt x="1688" y="448"/>
                    </a:cubicBezTo>
                    <a:cubicBezTo>
                      <a:pt x="1656" y="424"/>
                      <a:pt x="1576" y="368"/>
                      <a:pt x="1544" y="448"/>
                    </a:cubicBezTo>
                    <a:cubicBezTo>
                      <a:pt x="1512" y="528"/>
                      <a:pt x="1512" y="792"/>
                      <a:pt x="1496" y="928"/>
                    </a:cubicBezTo>
                    <a:cubicBezTo>
                      <a:pt x="1480" y="1064"/>
                      <a:pt x="1448" y="1160"/>
                      <a:pt x="1448" y="1264"/>
                    </a:cubicBezTo>
                    <a:cubicBezTo>
                      <a:pt x="1448" y="1368"/>
                      <a:pt x="1496" y="1448"/>
                      <a:pt x="1496" y="1552"/>
                    </a:cubicBezTo>
                    <a:cubicBezTo>
                      <a:pt x="1496" y="1656"/>
                      <a:pt x="1464" y="1816"/>
                      <a:pt x="1448" y="1888"/>
                    </a:cubicBezTo>
                    <a:cubicBezTo>
                      <a:pt x="1432" y="1960"/>
                      <a:pt x="1416" y="2064"/>
                      <a:pt x="1400" y="1984"/>
                    </a:cubicBezTo>
                    <a:cubicBezTo>
                      <a:pt x="1384" y="1904"/>
                      <a:pt x="1368" y="1704"/>
                      <a:pt x="1352" y="1408"/>
                    </a:cubicBezTo>
                    <a:cubicBezTo>
                      <a:pt x="1336" y="1112"/>
                      <a:pt x="1352" y="416"/>
                      <a:pt x="1304" y="208"/>
                    </a:cubicBezTo>
                    <a:cubicBezTo>
                      <a:pt x="1256" y="0"/>
                      <a:pt x="1112" y="72"/>
                      <a:pt x="1064" y="160"/>
                    </a:cubicBezTo>
                    <a:cubicBezTo>
                      <a:pt x="1016" y="248"/>
                      <a:pt x="1008" y="432"/>
                      <a:pt x="1016" y="736"/>
                    </a:cubicBezTo>
                    <a:cubicBezTo>
                      <a:pt x="1024" y="1040"/>
                      <a:pt x="1112" y="1792"/>
                      <a:pt x="1112" y="1984"/>
                    </a:cubicBezTo>
                    <a:cubicBezTo>
                      <a:pt x="1112" y="2176"/>
                      <a:pt x="1064" y="2120"/>
                      <a:pt x="1016" y="1888"/>
                    </a:cubicBezTo>
                    <a:cubicBezTo>
                      <a:pt x="968" y="1656"/>
                      <a:pt x="896" y="776"/>
                      <a:pt x="824" y="592"/>
                    </a:cubicBezTo>
                    <a:cubicBezTo>
                      <a:pt x="752" y="408"/>
                      <a:pt x="592" y="536"/>
                      <a:pt x="584" y="784"/>
                    </a:cubicBezTo>
                    <a:cubicBezTo>
                      <a:pt x="576" y="1032"/>
                      <a:pt x="856" y="1960"/>
                      <a:pt x="776" y="2080"/>
                    </a:cubicBezTo>
                    <a:cubicBezTo>
                      <a:pt x="696" y="2200"/>
                      <a:pt x="208" y="1544"/>
                      <a:pt x="104" y="1504"/>
                    </a:cubicBezTo>
                    <a:cubicBezTo>
                      <a:pt x="0" y="1464"/>
                      <a:pt x="32" y="1696"/>
                      <a:pt x="152" y="1840"/>
                    </a:cubicBezTo>
                    <a:cubicBezTo>
                      <a:pt x="272" y="1984"/>
                      <a:pt x="704" y="2208"/>
                      <a:pt x="824" y="2368"/>
                    </a:cubicBezTo>
                    <a:cubicBezTo>
                      <a:pt x="944" y="2528"/>
                      <a:pt x="816" y="2680"/>
                      <a:pt x="872" y="2800"/>
                    </a:cubicBezTo>
                    <a:cubicBezTo>
                      <a:pt x="928" y="2920"/>
                      <a:pt x="1112" y="3008"/>
                      <a:pt x="1160" y="3088"/>
                    </a:cubicBezTo>
                    <a:cubicBezTo>
                      <a:pt x="1208" y="3168"/>
                      <a:pt x="1184" y="3224"/>
                      <a:pt x="1160" y="3280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 flipH="1" rot="21465600">
                <a:off x="7138080" y="7116840"/>
                <a:ext cx="200880" cy="322920"/>
              </a:xfrm>
              <a:custGeom>
                <a:avLst/>
                <a:gdLst/>
                <a:ahLst/>
                <a:rect l="l" t="t" r="r" b="b"/>
                <a:pathLst>
                  <a:path w="312" h="376">
                    <a:moveTo>
                      <a:pt x="304" y="32"/>
                    </a:moveTo>
                    <a:cubicBezTo>
                      <a:pt x="296" y="8"/>
                      <a:pt x="256" y="0"/>
                      <a:pt x="208" y="32"/>
                    </a:cubicBezTo>
                    <a:cubicBezTo>
                      <a:pt x="160" y="64"/>
                      <a:pt x="32" y="168"/>
                      <a:pt x="16" y="224"/>
                    </a:cubicBezTo>
                    <a:cubicBezTo>
                      <a:pt x="0" y="280"/>
                      <a:pt x="72" y="376"/>
                      <a:pt x="112" y="368"/>
                    </a:cubicBezTo>
                    <a:cubicBezTo>
                      <a:pt x="152" y="360"/>
                      <a:pt x="224" y="232"/>
                      <a:pt x="256" y="176"/>
                    </a:cubicBezTo>
                    <a:cubicBezTo>
                      <a:pt x="288" y="120"/>
                      <a:pt x="312" y="56"/>
                      <a:pt x="3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 flipH="1" rot="21465600">
                <a:off x="7625520" y="6267600"/>
                <a:ext cx="139320" cy="275040"/>
              </a:xfrm>
              <a:custGeom>
                <a:avLst/>
                <a:gdLst/>
                <a:ahLst/>
                <a:rect l="l" t="t" r="r" b="b"/>
                <a:pathLst>
                  <a:path w="216" h="320">
                    <a:moveTo>
                      <a:pt x="24" y="152"/>
                    </a:moveTo>
                    <a:cubicBezTo>
                      <a:pt x="16" y="200"/>
                      <a:pt x="0" y="272"/>
                      <a:pt x="24" y="296"/>
                    </a:cubicBezTo>
                    <a:cubicBezTo>
                      <a:pt x="48" y="320"/>
                      <a:pt x="136" y="312"/>
                      <a:pt x="168" y="296"/>
                    </a:cubicBezTo>
                    <a:cubicBezTo>
                      <a:pt x="200" y="280"/>
                      <a:pt x="216" y="240"/>
                      <a:pt x="216" y="200"/>
                    </a:cubicBezTo>
                    <a:cubicBezTo>
                      <a:pt x="216" y="160"/>
                      <a:pt x="192" y="88"/>
                      <a:pt x="168" y="56"/>
                    </a:cubicBezTo>
                    <a:cubicBezTo>
                      <a:pt x="144" y="24"/>
                      <a:pt x="104" y="0"/>
                      <a:pt x="72" y="8"/>
                    </a:cubicBezTo>
                    <a:cubicBezTo>
                      <a:pt x="40" y="16"/>
                      <a:pt x="32" y="104"/>
                      <a:pt x="24" y="15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 flipH="1" rot="21465600">
                <a:off x="7781760" y="6016680"/>
                <a:ext cx="226440" cy="349560"/>
              </a:xfrm>
              <a:custGeom>
                <a:avLst/>
                <a:gdLst/>
                <a:ahLst/>
                <a:rect l="l" t="t" r="r" b="b"/>
                <a:pathLst>
                  <a:path w="352" h="408">
                    <a:moveTo>
                      <a:pt x="0" y="208"/>
                    </a:moveTo>
                    <a:cubicBezTo>
                      <a:pt x="8" y="264"/>
                      <a:pt x="16" y="320"/>
                      <a:pt x="48" y="352"/>
                    </a:cubicBezTo>
                    <a:cubicBezTo>
                      <a:pt x="80" y="384"/>
                      <a:pt x="144" y="408"/>
                      <a:pt x="192" y="400"/>
                    </a:cubicBezTo>
                    <a:cubicBezTo>
                      <a:pt x="240" y="392"/>
                      <a:pt x="320" y="344"/>
                      <a:pt x="336" y="304"/>
                    </a:cubicBezTo>
                    <a:cubicBezTo>
                      <a:pt x="352" y="264"/>
                      <a:pt x="312" y="208"/>
                      <a:pt x="288" y="160"/>
                    </a:cubicBezTo>
                    <a:cubicBezTo>
                      <a:pt x="264" y="112"/>
                      <a:pt x="232" y="32"/>
                      <a:pt x="192" y="16"/>
                    </a:cubicBezTo>
                    <a:cubicBezTo>
                      <a:pt x="152" y="0"/>
                      <a:pt x="80" y="16"/>
                      <a:pt x="48" y="64"/>
                    </a:cubicBezTo>
                    <a:cubicBezTo>
                      <a:pt x="16" y="112"/>
                      <a:pt x="8" y="208"/>
                      <a:pt x="0" y="304"/>
                    </a:cubicBezTo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 flipH="1" rot="21465600">
                <a:off x="8389080" y="7017840"/>
                <a:ext cx="99720" cy="185400"/>
              </a:xfrm>
              <a:custGeom>
                <a:avLst/>
                <a:gdLst/>
                <a:ahLst/>
                <a:rect l="l" t="t" r="r" b="b"/>
                <a:pathLst>
                  <a:path w="208" h="272">
                    <a:moveTo>
                      <a:pt x="16" y="16"/>
                    </a:moveTo>
                    <a:cubicBezTo>
                      <a:pt x="32" y="0"/>
                      <a:pt x="80" y="40"/>
                      <a:pt x="112" y="64"/>
                    </a:cubicBezTo>
                    <a:cubicBezTo>
                      <a:pt x="144" y="88"/>
                      <a:pt x="208" y="128"/>
                      <a:pt x="208" y="160"/>
                    </a:cubicBezTo>
                    <a:cubicBezTo>
                      <a:pt x="208" y="192"/>
                      <a:pt x="144" y="240"/>
                      <a:pt x="112" y="256"/>
                    </a:cubicBezTo>
                    <a:cubicBezTo>
                      <a:pt x="80" y="272"/>
                      <a:pt x="32" y="272"/>
                      <a:pt x="16" y="256"/>
                    </a:cubicBezTo>
                    <a:cubicBezTo>
                      <a:pt x="0" y="240"/>
                      <a:pt x="16" y="200"/>
                      <a:pt x="16" y="160"/>
                    </a:cubicBezTo>
                    <a:cubicBezTo>
                      <a:pt x="16" y="120"/>
                      <a:pt x="0" y="32"/>
                      <a:pt x="16" y="16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 flipH="1" rot="21465600">
                <a:off x="8037000" y="6329160"/>
                <a:ext cx="190800" cy="302760"/>
              </a:xfrm>
              <a:custGeom>
                <a:avLst/>
                <a:gdLst/>
                <a:ahLst/>
                <a:rect l="l" t="t" r="r" b="b"/>
                <a:pathLst>
                  <a:path w="296" h="352">
                    <a:moveTo>
                      <a:pt x="104" y="32"/>
                    </a:moveTo>
                    <a:cubicBezTo>
                      <a:pt x="136" y="16"/>
                      <a:pt x="168" y="0"/>
                      <a:pt x="200" y="32"/>
                    </a:cubicBezTo>
                    <a:cubicBezTo>
                      <a:pt x="232" y="64"/>
                      <a:pt x="296" y="176"/>
                      <a:pt x="296" y="224"/>
                    </a:cubicBezTo>
                    <a:cubicBezTo>
                      <a:pt x="296" y="272"/>
                      <a:pt x="240" y="304"/>
                      <a:pt x="200" y="320"/>
                    </a:cubicBezTo>
                    <a:cubicBezTo>
                      <a:pt x="160" y="336"/>
                      <a:pt x="88" y="352"/>
                      <a:pt x="56" y="320"/>
                    </a:cubicBezTo>
                    <a:cubicBezTo>
                      <a:pt x="24" y="288"/>
                      <a:pt x="0" y="184"/>
                      <a:pt x="8" y="128"/>
                    </a:cubicBezTo>
                    <a:cubicBezTo>
                      <a:pt x="16" y="72"/>
                      <a:pt x="72" y="48"/>
                      <a:pt x="104" y="32"/>
                    </a:cubicBez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45"/>
            <p:cNvSpPr/>
            <p:nvPr/>
          </p:nvSpPr>
          <p:spPr>
            <a:xfrm flipH="1">
              <a:off x="7463160" y="8358840"/>
              <a:ext cx="702720" cy="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1692E-006 L 3.33333E-006 -0.16089 E">
                                      <p:cBhvr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6671E-006 L 0 -0.79889 E">
                                      <p:cBhvr>
                                        <p:cTn id="3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9307E-006 L -3.33333E-006 -0.42718 E">
                                      <p:cBhvr>
                                        <p:cTn id="51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6:33:27Z</dcterms:created>
  <dc:creator>Home</dc:creator>
  <dc:description/>
  <dc:language>en-US</dc:language>
  <cp:lastModifiedBy>RomaK</cp:lastModifiedBy>
  <dcterms:modified xsi:type="dcterms:W3CDTF">2015-09-03T12:17:47Z</dcterms:modified>
  <cp:revision>13</cp:revision>
  <dc:subject/>
  <dc:title>Altitude of a rocket as compared to its mass and initial velocity</dc:title>
</cp:coreProperties>
</file>