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D30D-96E6-4B84-886C-A0349EC824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3E7-4DCB-4CD9-8016-7B8FCA54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60E-580B-487A-B41F-12FC86C4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7D8-70DA-4E68-817C-1FB064A2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216-5EAC-4658-B746-3BBAF20C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4A94-2FC9-454A-BFB4-BBFF1B1E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6FC9-94A2-4107-B945-A5CCD539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5D2F-F23F-428E-8E85-E1472BE1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E923-12D2-4A72-8945-772C9B4B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12C5-85C0-4A37-9C16-B3555EE8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A516-25A4-4710-96B7-55168F48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8236-D407-416E-97DC-7EE6275F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F44-E998-4055-A4BB-8EC54D80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8A5A-4407-447D-ADF5-497A98DC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156C-4616-4BCF-807B-B0A0FDD3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58FC-7EBF-4DB4-B6A5-BAA4E885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256E-9BAD-421D-9706-D694342E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285F-3C01-4D9C-9DD3-45282ECF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A84-E48F-4724-AB66-D86836F0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E33-BEC9-4F71-8BB0-0CB6D2EB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73C-80D2-419A-9388-448D30E7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35A-AD08-4098-A08F-A244D000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92C-F356-4FA9-A661-FFEDCCAB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2D7-0D2D-4267-BB6C-72EB2593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ECB-8F23-43AE-A1BF-F0DC3358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CB78-4F9D-4611-948A-AD4C2BC74E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D4F8-6BB6-4967-8494-D49FEE7270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18:09Z</dcterms:modified>
  <cp:revision>32</cp:revision>
  <dc:subject/>
  <dc:title>basic space</dc:title>
</cp:coreProperties>
</file>