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0FE1-63E7-420D-A90E-5FC9752886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005-71E0-4E7A-8EF6-A242CF41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DD0-6CD6-4ADA-978C-21750B32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A72-33EA-4F32-A162-99173854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EC9-6E4E-4DC0-897C-7E16ED3E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55C5-8888-49BF-8BCE-2FE34375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79B0-03D3-42D7-A7AD-64E6766D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4AA8-2D22-4158-A0E4-58EE1CBE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E9CA-AA49-4E28-93E1-F6645C74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600F-7F5D-4A00-BA6A-D51619C2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FE64-4734-4035-91AB-877B94E6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2471-1C99-4CB4-BC5B-7B1D8D1B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66D-F3FF-4C18-AD3D-3FA04517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E765-55AE-431C-817D-003187CE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E0AC-0546-4B9C-9915-FAA16D2B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19BD-3EDE-4B4F-9B0B-48591758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EA8F-AA5F-464E-83F6-D8FF8852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7979-2F89-404E-A777-AB195015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3665-8B6F-4579-A0BA-77B35D44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255-E4CD-4E3A-8C7F-AB952A06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2A0-D950-45AE-AAD5-7E2354F8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A5E-5396-4154-A325-E2C98F2D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60A-6BE8-4D52-A47A-A456ECFF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976-F77B-493C-B1FC-9560E6E2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608-E8FC-43AA-AABF-E73E94AD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6FD7-D516-4082-AF26-AB6CD46F87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A810-63F8-4607-B4DA-14ADC097C3F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18:09Z</dcterms:modified>
  <cp:revision>32</cp:revision>
  <dc:subject/>
  <dc:title>basic space</dc:title>
</cp:coreProperties>
</file>