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0A73-F6E6-421B-9C12-61501FEEB0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ar (our sun )is part of a galax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lanet (earth) orbits a st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moon (our moon) orbits a planet (earth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ar (our sun )is part of a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et (earth) orbits a s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on (our moon) orbits a planet (ear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 waves are detected by large curved dishes similar to the dish aerials in T.V. syste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waves are detected by large curved dishes similar to the dish aerials in T.V.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light year is the distance travelled by light in a ye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light from the sun 8 minutes to get to the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ight year is the distance travelled by light in a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light from the sun 8 minutes to get to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4 light years for light to reach the nearest star (alpha centauri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light 100,000 light years to get to the edge of our galax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4 light years for light to reach the nearest star (alpha centaur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light 100,000 light years to get to the edge of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two types of telescope ,the refractor and the reflect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telescope ,the refractor and the refle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or works by light bending or refrac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lector works by light reflec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or works by light bending or refrac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lector works by light reflec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ing Telescop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ing telescope consi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 two convex lens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bjective lens collects l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distant objects such 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ts and stars.  It forms an image of the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yepiece lens then magnifies this ima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ng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ng telescope cons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 two convex le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ive lens collects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istant objects such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ts and stars.  It forms an image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yepiece lens then magnifies this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can be made of  light ,radio and micro waves from the electromagnetic spectru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an be made of  light ,radio and micro waves from the electromagnetic spect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61A6-694C-4324-B509-512356F13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29FC-E5A4-400E-B696-5B62E9C3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1A05-C2D6-4DEC-AC61-D023DBFB4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EFC5-C724-42EB-9622-99241057D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9566-03C4-4F0F-95FE-24DD2E310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F9D7-8BE3-40C5-8726-ECCC33CB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56E2-9B87-43F7-B6C6-A241D8BE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7126-5D5B-496A-969A-F0DFB017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F58F-14DF-4868-97C8-FF94E76B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3A66-2EF6-4B2B-BB77-EBECA4D5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B241-A895-4BAC-9E3E-7BD7EA01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1F3F-75A1-480D-97B8-8A5F5B87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FEA9-8F7F-4AB5-B30A-29470C7F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563D-9FFE-4FCE-AC53-813B841D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4629-5E29-49A6-9010-8CC01141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FD77-B24B-4619-A1E3-30A429FD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837F-4456-4807-AFBD-A47E24973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DA8D-65B6-4B5A-986A-DF2EA6C3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F485-5E60-461F-B942-AF5B8BD0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65FA-A6A2-4847-9DC6-058B9017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00AD-F3EA-4195-BFDE-76D9C69D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29BB-CE94-41BB-9B1C-6D5282AB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3394-A404-448D-8524-B017C4E0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6613-3D68-47E2-BCA0-303DE883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CE36-BCD4-4EFA-A116-4FD5B2E1D05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D348-D884-4F5B-9FC7-C08D2B74BCF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star (our sun )is part of a galax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planet (earth) orbits a star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moon (our moon) orbits a planet (earth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Radio waves are detected by large curved dishes similar to the dish aerials in T.V.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One light year is the distance travelled by light in a year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light from the sun 8 minutes to get to the earth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4 light years for light to reach the nearest star (alpha centauri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light 100,000 light years to get to the edge of our galax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There are two types of telescope ,the refractor and the reflector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The refractor works by light bending or refract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The reflector works by light reflect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7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2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Tahoma"/>
              </a:rPr>
              <a:t>The Refracting Telescop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0" y="1295280"/>
            <a:ext cx="8915400" cy="80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refracting telescope consis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of  two convex lense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objective lens collects ligh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from distant objects such a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planets and stars.  It forms an image of the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eyepiece lens then magnifies this imag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255760" y="2567160"/>
            <a:ext cx="4632480" cy="25603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Use can be made of  light ,radio and micro waves from the electromagnetic spectru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18:09Z</dcterms:modified>
  <cp:revision>32</cp:revision>
  <dc:subject/>
  <dc:title>basic space</dc:title>
</cp:coreProperties>
</file>