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D340-55AD-4909-9BB8-F457B00954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weighs mor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kilogram of feathers or a kilogram of i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weighs more: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kilogram of feathers or a kilogram of ir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an empty Measuring Cylin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a certain Volume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Measuring Cylinder an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Mass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 of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Measuring Cyl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 – 25 = 2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1.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 of Liquid = Mass of Measuring Cylinder and Liquid – Mass of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mpty Measuring Cylind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5 – 25 = 2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1.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its M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gas to be 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eig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is the Mass  of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vacuum fl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.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0 =0.020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 -150 = 20.0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vacuum fl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.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0 =0.020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70 -150 = 20.0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ens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Mass per unit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0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Which has the greatest mass and therefore the most den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Densit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is the Mass per unit 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Which has the greatest mass and therefore the most dens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or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3 or kg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cm-3 or kgm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volume occupied by 0.25kg of e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50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 m = 0.25 = 0.000272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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m3 or k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cm-3 or kgm-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Q) Liquid water has a density of 1000kgm-3, while ice has density of 920kgm-3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volume occupied by 0.25kg of ea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Equatio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50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=  m = 0.25 = 0.000272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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 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three lengths and calculate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e V = l x w x h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0 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240 =10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 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0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0 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0  c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240 =10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 2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2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the Measuring Cylinder with Water to a known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out the Volume of Water that is displa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6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360 =12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36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360 =12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OF AN IRREGULA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use a Eureka Can to find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mass of the solid on a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ater until just overflo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a Measuring Cylinder under the sp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the Water and read off the Volu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440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.0 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m = 440 =11.0 g/cm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   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NSITY OF AN IRREGULAR SOL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 = 440 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.0 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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  m = 440 =11.0 g/cm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V     4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125-ACF7-4000-9518-87E3516B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0B99-7426-4A95-B767-FFA5B16C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549-A78F-4376-B908-E1C2268F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C7B-9832-4FB6-A23C-298427FC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912E-3516-4DEC-AB71-32AFE12F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325E-32CD-4880-9A36-539C23A7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DCCD-2150-4FC1-81AF-D80C2F2F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CDB1-8792-453A-BAC5-6B60E68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E073-1F7C-46F3-900F-420102BB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FA37-C57F-4E91-AC1E-B7DC4A3E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9E95-5402-4B99-A463-ECD64E8C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320-111C-4C4B-97C8-4CE20CB8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607B-FE92-43C1-BDE3-A9B8EE9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F30A-6BF3-40D7-9723-2E594B70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25CA-D76E-4829-8FA8-E1860884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BBE8-F56C-4BC4-8007-965824D4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A580-728D-46CD-9208-77BE87CC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888-1796-4EC2-8114-CAC4D83F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152-482C-4468-B559-53C497ED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47C-150B-4E17-B035-F9D53976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2EF-1E82-4F8F-9BD3-90792E92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E3F-30EA-430F-AE8D-8537C2F4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2E1-DA21-4B96-9449-2DE83723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B65-9C5B-4AB1-BED6-93AB4C92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0CF3-FEA5-4968-B096-0A63CA2197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3FD4-6099-4B82-88D9-FFE68256EC6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rtonionline.com/personaggi/iron_ma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bbd71"/>
                </a:solidFill>
                <a:latin typeface="Arial"/>
              </a:rPr>
              <a:t>DENSIT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EL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6" descr="dd00583_[1]"/>
          <p:cNvPicPr/>
          <p:nvPr/>
        </p:nvPicPr>
        <p:blipFill>
          <a:blip r:embed="rId1"/>
          <a:stretch/>
        </p:blipFill>
        <p:spPr>
          <a:xfrm>
            <a:off x="1619280" y="4508640"/>
            <a:ext cx="12492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j0140395[1]"/>
          <p:cNvPicPr/>
          <p:nvPr/>
        </p:nvPicPr>
        <p:blipFill>
          <a:blip r:embed="rId2"/>
          <a:stretch/>
        </p:blipFill>
        <p:spPr>
          <a:xfrm>
            <a:off x="5867280" y="5084640"/>
            <a:ext cx="1052640" cy="881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468360" y="54936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Q) Which weighs more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Tahoma"/>
              </a:rPr>
              <a:t>A kilogram of feathers or a kilogram of ir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00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LIQUI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59280" y="1196640"/>
            <a:ext cx="608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an empty Measuring Cyli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dd a certain Volume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d the Mass of the Measuring Cylinder and 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the Mass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lculate Density of Li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464000" cy="4464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7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Mass of Liquid = Mass of Measuring Cylinder and Liquid – Mass of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                                                         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empty Measuring Cyli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0" y="292428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826920" y="3141720"/>
            <a:ext cx="86544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219564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1979640" y="4076640"/>
            <a:ext cx="28872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0" y="2924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5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900000" y="5589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a500"/>
                </a:solidFill>
                <a:latin typeface="Tahoma"/>
              </a:rPr>
              <a:t>45 – 25 = 20 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3492360" y="5661000"/>
            <a:ext cx="439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.00 g/cm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187280" y="260280"/>
          <a:ext cx="6480360" cy="638172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081080"/>
                <a:gridCol w="1077840"/>
                <a:gridCol w="1079640"/>
                <a:gridCol w="1081080"/>
              </a:tblGrid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empty Measuring Cylin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Measuring Cylinder and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 of Liqu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DENSITY OF A GA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16360" y="1628640"/>
            <a:ext cx="3981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move the air from a flask of a known Volume, using a vacuum pu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its M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gas to be tes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we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difference is the Mass  of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3" name="Picture 7" descr="BOILFLS2"/>
          <p:cNvPicPr/>
          <p:nvPr/>
        </p:nvPicPr>
        <p:blipFill>
          <a:blip r:embed="rId1"/>
          <a:stretch/>
        </p:blipFill>
        <p:spPr>
          <a:xfrm rot="5400000">
            <a:off x="734760" y="1607760"/>
            <a:ext cx="1584360" cy="24066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21"/>
          <p:cNvGrpSpPr/>
          <p:nvPr/>
        </p:nvGrpSpPr>
        <p:grpSpPr>
          <a:xfrm>
            <a:off x="1692360" y="2708280"/>
            <a:ext cx="2016000" cy="216000"/>
            <a:chOff x="1692360" y="2708280"/>
            <a:chExt cx="2016000" cy="216000"/>
          </a:xfrm>
        </p:grpSpPr>
        <p:sp>
          <p:nvSpPr>
            <p:cNvPr id="325" name="Line 8"/>
            <p:cNvSpPr/>
            <p:nvPr/>
          </p:nvSpPr>
          <p:spPr>
            <a:xfrm>
              <a:off x="1692360" y="2708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>
              <a:off x="1692360" y="2924280"/>
              <a:ext cx="50472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0"/>
            <p:cNvSpPr/>
            <p:nvPr/>
          </p:nvSpPr>
          <p:spPr>
            <a:xfrm>
              <a:off x="2700360" y="2708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1"/>
            <p:cNvSpPr/>
            <p:nvPr/>
          </p:nvSpPr>
          <p:spPr>
            <a:xfrm>
              <a:off x="2700360" y="2924280"/>
              <a:ext cx="1008000" cy="0"/>
            </a:xfrm>
            <a:prstGeom prst="line">
              <a:avLst/>
            </a:prstGeom>
            <a:ln w="255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9" name="Text Box 12"/>
          <p:cNvSpPr/>
          <p:nvPr/>
        </p:nvSpPr>
        <p:spPr>
          <a:xfrm>
            <a:off x="2268360" y="206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To vacuum flas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Line 13"/>
          <p:cNvSpPr/>
          <p:nvPr/>
        </p:nvSpPr>
        <p:spPr>
          <a:xfrm>
            <a:off x="3348000" y="2781360"/>
            <a:ext cx="865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468360" y="3933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00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5"/>
          <p:cNvSpPr/>
          <p:nvPr/>
        </p:nvSpPr>
        <p:spPr>
          <a:xfrm flipV="1">
            <a:off x="900000" y="3357720"/>
            <a:ext cx="0" cy="57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1835280" y="342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5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17"/>
          <p:cNvSpPr/>
          <p:nvPr/>
        </p:nvSpPr>
        <p:spPr>
          <a:xfrm flipH="1" flipV="1">
            <a:off x="1547280" y="3357360"/>
            <a:ext cx="28764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902600" y="3429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170.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0" y="5373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20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0.0200 g/c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  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3276360" y="2781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Text Box 23"/>
          <p:cNvSpPr/>
          <p:nvPr/>
        </p:nvSpPr>
        <p:spPr>
          <a:xfrm>
            <a:off x="1116000" y="472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8a500"/>
                </a:solidFill>
                <a:latin typeface="Tahoma"/>
              </a:rPr>
              <a:t>170 -150 = 20.0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What is Densit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54450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66"/>
                </a:solidFill>
                <a:latin typeface="Tahoma"/>
              </a:rPr>
              <a:t>Density is the Mass per unit Volu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1763640" y="2636640"/>
            <a:ext cx="1081080" cy="1008360"/>
            <a:chOff x="1763640" y="2636640"/>
            <a:chExt cx="1081080" cy="1008360"/>
          </a:xfrm>
        </p:grpSpPr>
        <p:sp>
          <p:nvSpPr>
            <p:cNvPr id="167" name="Line 4"/>
            <p:cNvSpPr/>
            <p:nvPr/>
          </p:nvSpPr>
          <p:spPr>
            <a:xfrm>
              <a:off x="176364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Line 5"/>
            <p:cNvSpPr/>
            <p:nvPr/>
          </p:nvSpPr>
          <p:spPr>
            <a:xfrm>
              <a:off x="1763640" y="2852640"/>
              <a:ext cx="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Line 6"/>
            <p:cNvSpPr/>
            <p:nvPr/>
          </p:nvSpPr>
          <p:spPr>
            <a:xfrm>
              <a:off x="1763640" y="285264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2484360" y="285264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Line 9"/>
            <p:cNvSpPr/>
            <p:nvPr/>
          </p:nvSpPr>
          <p:spPr>
            <a:xfrm>
              <a:off x="1763640" y="3645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2124000" y="2637000"/>
              <a:ext cx="720720" cy="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Line 12"/>
            <p:cNvSpPr/>
            <p:nvPr/>
          </p:nvSpPr>
          <p:spPr>
            <a:xfrm>
              <a:off x="2844720" y="2637000"/>
              <a:ext cx="0" cy="79200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Line 13"/>
            <p:cNvSpPr/>
            <p:nvPr/>
          </p:nvSpPr>
          <p:spPr>
            <a:xfrm flipV="1">
              <a:off x="248436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 flipV="1">
              <a:off x="1763640" y="2636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484360" y="3428640"/>
              <a:ext cx="360360" cy="215640"/>
            </a:xfrm>
            <a:prstGeom prst="line">
              <a:avLst/>
            </a:prstGeom>
            <a:ln w="12600">
              <a:solidFill>
                <a:srgbClr val="f8a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3780000" y="2636640"/>
            <a:ext cx="1081080" cy="1008360"/>
            <a:chOff x="3780000" y="2636640"/>
            <a:chExt cx="1081080" cy="1008360"/>
          </a:xfrm>
        </p:grpSpPr>
        <p:sp>
          <p:nvSpPr>
            <p:cNvPr id="178" name="Line 18"/>
            <p:cNvSpPr/>
            <p:nvPr/>
          </p:nvSpPr>
          <p:spPr>
            <a:xfrm>
              <a:off x="378000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3780000" y="2852640"/>
              <a:ext cx="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20"/>
            <p:cNvSpPr/>
            <p:nvPr/>
          </p:nvSpPr>
          <p:spPr>
            <a:xfrm>
              <a:off x="3780000" y="285264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4500720" y="285264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780000" y="3645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4140360" y="2637000"/>
              <a:ext cx="720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24"/>
            <p:cNvSpPr/>
            <p:nvPr/>
          </p:nvSpPr>
          <p:spPr>
            <a:xfrm>
              <a:off x="4861080" y="2637000"/>
              <a:ext cx="0" cy="792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 flipV="1">
              <a:off x="450072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 flipV="1">
              <a:off x="3780000" y="2636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4500720" y="3428640"/>
              <a:ext cx="360360" cy="2156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8" name="Group 28"/>
          <p:cNvGrpSpPr/>
          <p:nvPr/>
        </p:nvGrpSpPr>
        <p:grpSpPr>
          <a:xfrm>
            <a:off x="5867280" y="2565000"/>
            <a:ext cx="1081080" cy="1008360"/>
            <a:chOff x="5867280" y="2565000"/>
            <a:chExt cx="1081080" cy="1008360"/>
          </a:xfrm>
        </p:grpSpPr>
        <p:sp>
          <p:nvSpPr>
            <p:cNvPr id="189" name="Line 29"/>
            <p:cNvSpPr/>
            <p:nvPr/>
          </p:nvSpPr>
          <p:spPr>
            <a:xfrm>
              <a:off x="586728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5867280" y="2781000"/>
              <a:ext cx="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5867280" y="278100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6588000" y="278100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5867280" y="3573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6227640" y="2565360"/>
              <a:ext cx="7207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6948360" y="2565360"/>
              <a:ext cx="0" cy="7920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 flipV="1">
              <a:off x="658800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 flipV="1">
              <a:off x="5867280" y="2565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 flipV="1">
              <a:off x="6588000" y="3357000"/>
              <a:ext cx="360360" cy="21564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Text Box 39"/>
          <p:cNvSpPr/>
          <p:nvPr/>
        </p:nvSpPr>
        <p:spPr>
          <a:xfrm>
            <a:off x="1979640" y="21337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3995640" y="2133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41"/>
          <p:cNvSpPr/>
          <p:nvPr/>
        </p:nvSpPr>
        <p:spPr>
          <a:xfrm>
            <a:off x="6300720" y="213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2"/>
          <p:cNvSpPr/>
          <p:nvPr/>
        </p:nvSpPr>
        <p:spPr>
          <a:xfrm>
            <a:off x="176364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3780000" y="3068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586728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45"/>
          <p:cNvSpPr/>
          <p:nvPr/>
        </p:nvSpPr>
        <p:spPr>
          <a:xfrm>
            <a:off x="324000" y="119700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If you take the same volume of different substances, then they will weigh different amou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76364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0.5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370836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867280" y="378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8.0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49"/>
          <p:cNvSpPr/>
          <p:nvPr/>
        </p:nvSpPr>
        <p:spPr>
          <a:xfrm>
            <a:off x="250920" y="4724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Which has the greatest mass and therefore the most dens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51" descr="is?M9Hz5Cr5PCooSMJrO65kAMhrQ_O4D1esCBIN7CYDj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421000"/>
            <a:ext cx="121896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52"/>
          <p:cNvSpPr/>
          <p:nvPr/>
        </p:nvSpPr>
        <p:spPr>
          <a:xfrm>
            <a:off x="7020000" y="3716280"/>
            <a:ext cx="1152360" cy="792360"/>
          </a:xfrm>
          <a:prstGeom prst="wedgeRoundRectCallout">
            <a:avLst>
              <a:gd name="adj1" fmla="val 43527"/>
              <a:gd name="adj2" fmla="val -165430"/>
              <a:gd name="adj3" fmla="val 16667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ahoma"/>
              </a:rPr>
              <a:t>IR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763640" y="1484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nsity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80000" y="141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ahoma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635280" y="1916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4859280" y="907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 or k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4932360" y="2997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324000" y="26370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or kg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82"/>
          <p:cNvSpPr/>
          <p:nvPr/>
        </p:nvSpPr>
        <p:spPr>
          <a:xfrm flipH="1">
            <a:off x="4284720" y="1125360"/>
            <a:ext cx="50328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83"/>
          <p:cNvSpPr/>
          <p:nvPr/>
        </p:nvSpPr>
        <p:spPr>
          <a:xfrm>
            <a:off x="4427640" y="2492280"/>
            <a:ext cx="720720" cy="5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84"/>
          <p:cNvSpPr/>
          <p:nvPr/>
        </p:nvSpPr>
        <p:spPr>
          <a:xfrm flipV="1">
            <a:off x="971640" y="1916280"/>
            <a:ext cx="1152360" cy="57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1835280" y="3645000"/>
            <a:ext cx="1728720" cy="14770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8a5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=  </a:t>
            </a:r>
            <a:r>
              <a:rPr b="0" lang="en-GB" sz="3600" spc="-1" strike="noStrike" u="sng">
                <a:solidFill>
                  <a:srgbClr val="f8a500"/>
                </a:solidFill>
                <a:uFillTx/>
                <a:latin typeface="Tahoma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       </a:t>
            </a:r>
            <a:r>
              <a:rPr b="0" lang="en-GB" sz="3600" spc="-1" strike="noStrike">
                <a:solidFill>
                  <a:srgbClr val="f8a500"/>
                </a:solidFill>
                <a:latin typeface="Tahoma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4248000" y="3645000"/>
            <a:ext cx="489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Q) Liquid water has a density of 100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, while ice has density of 920kgm</a:t>
            </a:r>
            <a:r>
              <a:rPr b="0" lang="en-GB" sz="2400" spc="-1" strike="noStrike" baseline="30000">
                <a:solidFill>
                  <a:srgbClr val="ff7c80"/>
                </a:solidFill>
                <a:latin typeface="Tahoma"/>
              </a:rPr>
              <a:t>-3</a:t>
            </a: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7c80"/>
                </a:solidFill>
                <a:latin typeface="Tahoma"/>
              </a:rPr>
              <a:t>Calculate the volume occupied by 0.25kg of e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9512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90000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Tahoma"/>
              </a:rPr>
              <a:t>Density Equatio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Group 97"/>
          <p:cNvGrpSpPr/>
          <p:nvPr/>
        </p:nvGrpSpPr>
        <p:grpSpPr>
          <a:xfrm>
            <a:off x="6012000" y="1197000"/>
            <a:ext cx="2895480" cy="2438280"/>
            <a:chOff x="6012000" y="1197000"/>
            <a:chExt cx="2895480" cy="2438280"/>
          </a:xfrm>
        </p:grpSpPr>
        <p:sp>
          <p:nvSpPr>
            <p:cNvPr id="226" name="AutoShape 98"/>
            <p:cNvSpPr/>
            <p:nvPr/>
          </p:nvSpPr>
          <p:spPr>
            <a:xfrm>
              <a:off x="6012000" y="1197000"/>
              <a:ext cx="2895480" cy="2438280"/>
            </a:xfrm>
            <a:prstGeom prst="flowChartExtra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Text Box 99"/>
            <p:cNvSpPr/>
            <p:nvPr/>
          </p:nvSpPr>
          <p:spPr>
            <a:xfrm>
              <a:off x="7230960" y="16542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Text Box 100"/>
            <p:cNvSpPr/>
            <p:nvPr/>
          </p:nvSpPr>
          <p:spPr>
            <a:xfrm>
              <a:off x="791676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V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01"/>
            <p:cNvSpPr/>
            <p:nvPr/>
          </p:nvSpPr>
          <p:spPr>
            <a:xfrm>
              <a:off x="6469200" y="3025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Symbol"/>
                  <a:ea typeface="Symbol"/>
                </a:rPr>
                <a:t>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102"/>
            <p:cNvSpPr/>
            <p:nvPr/>
          </p:nvSpPr>
          <p:spPr>
            <a:xfrm>
              <a:off x="6773760" y="2568600"/>
              <a:ext cx="129564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103"/>
            <p:cNvSpPr/>
            <p:nvPr/>
          </p:nvSpPr>
          <p:spPr>
            <a:xfrm flipV="1">
              <a:off x="723096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104"/>
            <p:cNvSpPr/>
            <p:nvPr/>
          </p:nvSpPr>
          <p:spPr>
            <a:xfrm flipH="1" flipV="1">
              <a:off x="7230600" y="3025800"/>
              <a:ext cx="38124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Rectangle 105"/>
          <p:cNvSpPr/>
          <p:nvPr/>
        </p:nvSpPr>
        <p:spPr>
          <a:xfrm>
            <a:off x="0" y="522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50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0" y="6035760"/>
            <a:ext cx="42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V = 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Tahoma"/>
              </a:rPr>
              <a:t>0.25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= 0.000272m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9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 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508360" y="1628640"/>
            <a:ext cx="3384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asure the three lengths and calculate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ie V = l x w x h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Group 26"/>
          <p:cNvGrpSpPr/>
          <p:nvPr/>
        </p:nvGrpSpPr>
        <p:grpSpPr>
          <a:xfrm>
            <a:off x="900000" y="2421000"/>
            <a:ext cx="4392720" cy="2808360"/>
            <a:chOff x="900000" y="2421000"/>
            <a:chExt cx="4392720" cy="2808360"/>
          </a:xfrm>
        </p:grpSpPr>
        <p:sp>
          <p:nvSpPr>
            <p:cNvPr id="238" name="Line 4"/>
            <p:cNvSpPr/>
            <p:nvPr/>
          </p:nvSpPr>
          <p:spPr>
            <a:xfrm>
              <a:off x="900000" y="314172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90000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900000" y="522936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3995640" y="314172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V="1">
              <a:off x="90000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 flipV="1">
              <a:off x="399564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 flipV="1">
              <a:off x="3995640" y="242100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 flipV="1">
              <a:off x="900000" y="4508640"/>
              <a:ext cx="129564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529272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2195640" y="2421000"/>
              <a:ext cx="0" cy="208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2195640" y="242100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2195640" y="4508640"/>
              <a:ext cx="30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0" name="Line 16"/>
          <p:cNvSpPr/>
          <p:nvPr/>
        </p:nvSpPr>
        <p:spPr>
          <a:xfrm>
            <a:off x="468360" y="3141720"/>
            <a:ext cx="0" cy="2016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900000" y="5589720"/>
            <a:ext cx="3095640" cy="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11280" y="2349360"/>
            <a:ext cx="1224000" cy="648000"/>
          </a:xfrm>
          <a:prstGeom prst="line">
            <a:avLst/>
          </a:prstGeom>
          <a:ln w="93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835280" y="5589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.0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611280" y="24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2.0 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3.0  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23"/>
          <p:cNvSpPr/>
          <p:nvPr/>
        </p:nvSpPr>
        <p:spPr>
          <a:xfrm flipV="1" rot="10800000">
            <a:off x="900000" y="3499200"/>
            <a:ext cx="49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24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0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 2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Text Box 24"/>
          <p:cNvSpPr/>
          <p:nvPr/>
        </p:nvSpPr>
        <p:spPr>
          <a:xfrm>
            <a:off x="3132000" y="184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2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Line 25"/>
          <p:cNvSpPr/>
          <p:nvPr/>
        </p:nvSpPr>
        <p:spPr>
          <a:xfrm flipH="1">
            <a:off x="2916000" y="2205000"/>
            <a:ext cx="360360" cy="57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187280" y="260280"/>
          <a:ext cx="6096240" cy="61311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id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eigh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 g/cm</a:t>
                      </a:r>
                      <a:r>
                        <a:rPr b="0" lang="en-GB" sz="1400" spc="-1" strike="noStrike" baseline="30000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0" name="Picture 134" descr="j0140395[1]"/>
          <p:cNvPicPr/>
          <p:nvPr/>
        </p:nvPicPr>
        <p:blipFill>
          <a:blip r:embed="rId1"/>
          <a:stretch/>
        </p:blipFill>
        <p:spPr>
          <a:xfrm>
            <a:off x="7740720" y="333360"/>
            <a:ext cx="1052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403280" y="836640"/>
          <a:ext cx="6096240" cy="639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403280" y="1484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03280" y="2637000"/>
          <a:ext cx="6096240" cy="57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403280" y="206064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403280" y="3213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1403280" y="3716280"/>
          <a:ext cx="6096240" cy="5763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403280" y="4292640"/>
          <a:ext cx="6096240" cy="647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403280" y="494172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Le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03280" y="5445000"/>
          <a:ext cx="6096240" cy="51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Mar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403280" y="5950080"/>
          <a:ext cx="6096240" cy="517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a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2012760" cy="431964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>
            <a:off x="2340000" y="4437000"/>
            <a:ext cx="576360" cy="0"/>
          </a:xfrm>
          <a:prstGeom prst="line">
            <a:avLst/>
          </a:prstGeom>
          <a:ln w="255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284720" y="2349360"/>
            <a:ext cx="460836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ll the Measuring Cylinder with Water to a known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rk out the Volume of Water that is displac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the Dens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Freeform 9"/>
          <p:cNvSpPr/>
          <p:nvPr/>
        </p:nvSpPr>
        <p:spPr>
          <a:xfrm rot="16864800">
            <a:off x="2108880" y="1427760"/>
            <a:ext cx="1065240" cy="31428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2340000" y="3429000"/>
            <a:ext cx="576360" cy="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11"/>
          <p:cNvSpPr/>
          <p:nvPr/>
        </p:nvSpPr>
        <p:spPr>
          <a:xfrm flipV="1">
            <a:off x="3132000" y="3429000"/>
            <a:ext cx="0" cy="1008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332000" y="429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5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1360800" y="3284640"/>
            <a:ext cx="9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ff"/>
                </a:solidFill>
                <a:latin typeface="Tahoma"/>
              </a:rPr>
              <a:t>80 cm</a:t>
            </a:r>
            <a:r>
              <a:rPr b="1" lang="en-GB" sz="1800" spc="-1" strike="noStrike" baseline="30000">
                <a:solidFill>
                  <a:srgbClr val="6699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479880" y="14130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36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1763640" y="1628640"/>
            <a:ext cx="720720" cy="1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4284720" y="1413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Tahoma"/>
              </a:rPr>
              <a:t>360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=12.0 g/cm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V    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6944 L -0.00139 0.56296 E">
                                      <p:cBhvr>
                                        <p:cTn id="476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DENSITY OF AN IRREGULAR SOLID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 use a Eureka Can to find the Volu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1332000" y="2781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1332000" y="4941720"/>
            <a:ext cx="165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Line 6"/>
          <p:cNvSpPr/>
          <p:nvPr/>
        </p:nvSpPr>
        <p:spPr>
          <a:xfrm flipV="1">
            <a:off x="2987640" y="3573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987640" y="357336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987640" y="3284640"/>
            <a:ext cx="21600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Line 9"/>
          <p:cNvSpPr/>
          <p:nvPr/>
        </p:nvSpPr>
        <p:spPr>
          <a:xfrm flipV="1">
            <a:off x="2987640" y="27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05928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393372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2916360" y="58053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Line 13"/>
          <p:cNvSpPr/>
          <p:nvPr/>
        </p:nvSpPr>
        <p:spPr>
          <a:xfrm flipV="1">
            <a:off x="291636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Line 14"/>
          <p:cNvSpPr/>
          <p:nvPr/>
        </p:nvSpPr>
        <p:spPr>
          <a:xfrm flipH="1" flipV="1">
            <a:off x="3492000" y="5589360"/>
            <a:ext cx="14292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1332000" y="3573360"/>
            <a:ext cx="1655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Freeform 16"/>
          <p:cNvSpPr/>
          <p:nvPr/>
        </p:nvSpPr>
        <p:spPr>
          <a:xfrm rot="16864800">
            <a:off x="1589040" y="2234520"/>
            <a:ext cx="1065240" cy="1004760"/>
          </a:xfrm>
          <a:custGeom>
            <a:avLst/>
            <a:gdLst/>
            <a:ahLst/>
            <a:rect l="l" t="t" r="r" b="b"/>
            <a:pathLst>
              <a:path w="981" h="614">
                <a:moveTo>
                  <a:pt x="279" y="0"/>
                </a:moveTo>
                <a:cubicBezTo>
                  <a:pt x="246" y="21"/>
                  <a:pt x="208" y="36"/>
                  <a:pt x="179" y="63"/>
                </a:cubicBezTo>
                <a:cubicBezTo>
                  <a:pt x="140" y="99"/>
                  <a:pt x="117" y="150"/>
                  <a:pt x="79" y="188"/>
                </a:cubicBezTo>
                <a:cubicBezTo>
                  <a:pt x="45" y="331"/>
                  <a:pt x="0" y="543"/>
                  <a:pt x="142" y="614"/>
                </a:cubicBezTo>
                <a:cubicBezTo>
                  <a:pt x="225" y="610"/>
                  <a:pt x="309" y="612"/>
                  <a:pt x="392" y="601"/>
                </a:cubicBezTo>
                <a:cubicBezTo>
                  <a:pt x="425" y="597"/>
                  <a:pt x="449" y="564"/>
                  <a:pt x="480" y="551"/>
                </a:cubicBezTo>
                <a:cubicBezTo>
                  <a:pt x="504" y="541"/>
                  <a:pt x="555" y="526"/>
                  <a:pt x="555" y="526"/>
                </a:cubicBezTo>
                <a:cubicBezTo>
                  <a:pt x="598" y="468"/>
                  <a:pt x="636" y="403"/>
                  <a:pt x="668" y="338"/>
                </a:cubicBezTo>
                <a:cubicBezTo>
                  <a:pt x="676" y="323"/>
                  <a:pt x="689" y="256"/>
                  <a:pt x="705" y="251"/>
                </a:cubicBezTo>
                <a:cubicBezTo>
                  <a:pt x="765" y="233"/>
                  <a:pt x="830" y="242"/>
                  <a:pt x="893" y="238"/>
                </a:cubicBezTo>
                <a:cubicBezTo>
                  <a:pt x="910" y="234"/>
                  <a:pt x="927" y="231"/>
                  <a:pt x="943" y="226"/>
                </a:cubicBezTo>
                <a:cubicBezTo>
                  <a:pt x="956" y="222"/>
                  <a:pt x="981" y="226"/>
                  <a:pt x="981" y="213"/>
                </a:cubicBezTo>
                <a:cubicBezTo>
                  <a:pt x="981" y="154"/>
                  <a:pt x="848" y="123"/>
                  <a:pt x="805" y="113"/>
                </a:cubicBezTo>
                <a:cubicBezTo>
                  <a:pt x="730" y="143"/>
                  <a:pt x="658" y="174"/>
                  <a:pt x="580" y="188"/>
                </a:cubicBezTo>
                <a:cubicBezTo>
                  <a:pt x="567" y="196"/>
                  <a:pt x="557" y="216"/>
                  <a:pt x="542" y="213"/>
                </a:cubicBezTo>
                <a:cubicBezTo>
                  <a:pt x="493" y="203"/>
                  <a:pt x="530" y="89"/>
                  <a:pt x="530" y="88"/>
                </a:cubicBezTo>
                <a:cubicBezTo>
                  <a:pt x="475" y="70"/>
                  <a:pt x="423" y="51"/>
                  <a:pt x="367" y="38"/>
                </a:cubicBezTo>
                <a:cubicBezTo>
                  <a:pt x="315" y="3"/>
                  <a:pt x="344" y="17"/>
                  <a:pt x="279" y="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2987640" y="3573360"/>
            <a:ext cx="289080" cy="287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3276720" y="3860640"/>
            <a:ext cx="0" cy="1944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3276720" y="3860640"/>
            <a:ext cx="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3851280" y="2133720"/>
            <a:ext cx="52927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ind the mass of the solid on a bal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water until just overflow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lace a Measuring Cylinder under the spo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 the Obj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llect the Water and read off the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lculate Den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520" y="24922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m = 440 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Line 26"/>
          <p:cNvSpPr/>
          <p:nvPr/>
        </p:nvSpPr>
        <p:spPr>
          <a:xfrm flipH="1" flipV="1">
            <a:off x="1186920" y="2707920"/>
            <a:ext cx="50508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1619280" y="5229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8a500"/>
                </a:solidFill>
                <a:latin typeface="Tahoma"/>
              </a:rPr>
              <a:t>40.0 cm</a:t>
            </a:r>
            <a:r>
              <a:rPr b="0" lang="en-GB" sz="1800" spc="-1" strike="noStrike" baseline="30000">
                <a:solidFill>
                  <a:srgbClr val="f8a5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Line 28"/>
          <p:cNvSpPr/>
          <p:nvPr/>
        </p:nvSpPr>
        <p:spPr>
          <a:xfrm flipV="1">
            <a:off x="2771640" y="4797360"/>
            <a:ext cx="432000" cy="50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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= 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m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Tahoma"/>
              </a:rPr>
              <a:t>440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=11.0 g/cm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</a:rPr>
              <a:t>V     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5903 L 0.00035 0.2375 E">
                                      <p:cBhvr>
                                        <p:cTn id="60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13" dur="3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0.00017 -0.16806 E">
                                      <p:cBhvr>
                                        <p:cTn id="620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57200" y="277920"/>
          <a:ext cx="8229600" cy="5852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ENSIT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/cm</a:t>
                      </a:r>
                      <a:r>
                        <a:rPr b="0" lang="en-GB" sz="3600" spc="-1" strike="noStrike" baseline="30000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lumin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I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r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Wo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0:20:28Z</dcterms:created>
  <dc:creator>gel</dc:creator>
  <dc:description/>
  <dc:language>en-US</dc:language>
  <cp:lastModifiedBy>RomaK</cp:lastModifiedBy>
  <dcterms:modified xsi:type="dcterms:W3CDTF">2015-09-03T12:20:26Z</dcterms:modified>
  <cp:revision>43</cp:revision>
  <dc:subject/>
  <dc:title>DENSITY</dc:title>
</cp:coreProperties>
</file>