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F8B8-2577-4693-9E39-6F60CF802B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weighs mor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kilogram of feathers or a kilogram of i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weighs more: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kilogram of feathers or a kilogram of ir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an empty Measuring Cyl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a certain Volume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Measuring Cylinder an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Mass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Measuring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 – 25 = 2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1.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pty Measuring Cylind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 – 25 = 2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1.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its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gas to be 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eig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is the Mass 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acuum fl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0.02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 -150 = 20.0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vacuum fl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0.02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 -150 = 20.0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ens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Mass per unit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has the greatest mass and therefore the most den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Densit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is the Mass per unit 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has the greatest mass and therefore the most dens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or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3 or kg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cm-3 or kg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volume occupied by 0.25kg of e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50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72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m3 or k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cm-3 or kgm-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volume occupied by 0.25kg of ea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Equa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50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72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three lengths and calculate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e V = l x w x h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0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40 =10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0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0 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0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40 =10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 2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2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the Measuring Cylinder with Water to a known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out the Volume of Water that is displa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6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360 =12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36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360 =12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se a Eureka Can to find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water until just overf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a Measuring Cylinder under the sp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the Water and read off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4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440 =11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4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440 =11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C86-2925-4871-B7F6-C207C249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5B9-FE8C-4111-B10F-4547250B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A3F-97B9-432C-B007-24D6CC73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F83-ADDF-4069-83E8-BE31754E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52E5-BE27-4468-987E-83211064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CC13-5FBD-4358-AEF4-6C4AA2D9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348E-5273-4721-9AD0-C2E7F626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3607-04B1-4801-9C54-C17A7179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1770-26E1-4B1B-A889-85F4B65E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B50E-E6CC-48F2-B66F-F5BD3B69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978C-0619-490A-B1CD-2E1D8674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11A-E413-44A7-9B27-421037E6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5FDB-5357-46FA-A549-BDA09EED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D6A6-6C97-4160-AEE1-FCE8A85C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C9E6-CD32-41E5-B8DE-CBCD22FC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1692-580D-43B3-B30C-FB6E7C8F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7E81-2760-4092-98CF-D0917AC4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42D-1DC2-4BC7-A4BE-E83A6AEE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C72-8482-473C-B576-4FE59977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6F3-3147-4739-81F3-25AFB91C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669-6B25-4B3B-8394-A5980E86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A8B-A0B0-42FA-99A9-D8A88C2C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641-1E57-4E27-8607-47627742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5F8-A484-49A7-BBE7-202BDCF1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8504-F98F-4C43-AB09-CDD84FA368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E713-C681-40E6-9FFF-F873279194B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rtonionline.com/personaggi/iron_ma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dd00583_[1]"/>
          <p:cNvPicPr/>
          <p:nvPr/>
        </p:nvPicPr>
        <p:blipFill>
          <a:blip r:embed="rId1"/>
          <a:stretch/>
        </p:blipFill>
        <p:spPr>
          <a:xfrm>
            <a:off x="1619280" y="4508640"/>
            <a:ext cx="12492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j0140395[1]"/>
          <p:cNvPicPr/>
          <p:nvPr/>
        </p:nvPicPr>
        <p:blipFill>
          <a:blip r:embed="rId2"/>
          <a:stretch/>
        </p:blipFill>
        <p:spPr>
          <a:xfrm>
            <a:off x="5867280" y="5084640"/>
            <a:ext cx="1052640" cy="881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468360" y="54936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Q) Which weighs more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A kilogram of feathers or a kilogram of ir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LIQUI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59280" y="1196640"/>
            <a:ext cx="60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0" y="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Mass of Liquid = Mass of Measuring Cylinder and Liquid – Mass of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                         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empty Measuring Cyli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0" y="292428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826920" y="3141720"/>
            <a:ext cx="86544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19564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1979640" y="4076640"/>
            <a:ext cx="28872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0" y="2924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900000" y="5589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a500"/>
                </a:solidFill>
                <a:latin typeface="Tahoma"/>
              </a:rPr>
              <a:t>45 – 25 = 20 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3492360" y="5661000"/>
            <a:ext cx="439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.00 g/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187280" y="260280"/>
          <a:ext cx="6480360" cy="6381720"/>
        </p:xfrm>
        <a:graphic>
          <a:graphicData uri="http://schemas.openxmlformats.org/drawingml/2006/table">
            <a:tbl>
              <a:tblPr/>
              <a:tblGrid>
                <a:gridCol w="1081080"/>
                <a:gridCol w="1079640"/>
                <a:gridCol w="1081080"/>
                <a:gridCol w="1077840"/>
                <a:gridCol w="1079640"/>
                <a:gridCol w="1081080"/>
              </a:tblGrid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empty Measuring Cyli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Measuring Cylinder and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G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16360" y="1628640"/>
            <a:ext cx="3981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7" descr="BOILFLS2"/>
          <p:cNvPicPr/>
          <p:nvPr/>
        </p:nvPicPr>
        <p:blipFill>
          <a:blip r:embed="rId1"/>
          <a:stretch/>
        </p:blipFill>
        <p:spPr>
          <a:xfrm rot="5400000">
            <a:off x="734760" y="1607760"/>
            <a:ext cx="1584360" cy="24066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21"/>
          <p:cNvGrpSpPr/>
          <p:nvPr/>
        </p:nvGrpSpPr>
        <p:grpSpPr>
          <a:xfrm>
            <a:off x="1692360" y="2708280"/>
            <a:ext cx="2016000" cy="216000"/>
            <a:chOff x="1692360" y="2708280"/>
            <a:chExt cx="2016000" cy="216000"/>
          </a:xfrm>
        </p:grpSpPr>
        <p:sp>
          <p:nvSpPr>
            <p:cNvPr id="325" name="Line 8"/>
            <p:cNvSpPr/>
            <p:nvPr/>
          </p:nvSpPr>
          <p:spPr>
            <a:xfrm>
              <a:off x="1692360" y="2708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1692360" y="2924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2700360" y="2708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2700360" y="2924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9" name="Text Box 12"/>
          <p:cNvSpPr/>
          <p:nvPr/>
        </p:nvSpPr>
        <p:spPr>
          <a:xfrm>
            <a:off x="2268360" y="2060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To vacuum flas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3348000" y="2781360"/>
            <a:ext cx="865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46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00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15"/>
          <p:cNvSpPr/>
          <p:nvPr/>
        </p:nvSpPr>
        <p:spPr>
          <a:xfrm flipV="1">
            <a:off x="900000" y="3357720"/>
            <a:ext cx="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835280" y="3429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5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17"/>
          <p:cNvSpPr/>
          <p:nvPr/>
        </p:nvSpPr>
        <p:spPr>
          <a:xfrm flipH="1" flipV="1">
            <a:off x="1547280" y="3357360"/>
            <a:ext cx="287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190260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7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0" y="537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0.0200 g/c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  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22"/>
          <p:cNvSpPr/>
          <p:nvPr/>
        </p:nvSpPr>
        <p:spPr>
          <a:xfrm flipH="1">
            <a:off x="3276360" y="2781360"/>
            <a:ext cx="9363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1116000" y="472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a500"/>
                </a:solidFill>
                <a:latin typeface="Tahoma"/>
              </a:rPr>
              <a:t>170 -150 = 20.0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What is Dens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54450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Tahoma"/>
              </a:rPr>
              <a:t>Density is the Mass per unit Volu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1763640" y="2636640"/>
            <a:ext cx="1081080" cy="1008360"/>
            <a:chOff x="1763640" y="2636640"/>
            <a:chExt cx="1081080" cy="1008360"/>
          </a:xfrm>
        </p:grpSpPr>
        <p:sp>
          <p:nvSpPr>
            <p:cNvPr id="167" name="Line 4"/>
            <p:cNvSpPr/>
            <p:nvPr/>
          </p:nvSpPr>
          <p:spPr>
            <a:xfrm>
              <a:off x="176364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1763640" y="2852640"/>
              <a:ext cx="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6"/>
            <p:cNvSpPr/>
            <p:nvPr/>
          </p:nvSpPr>
          <p:spPr>
            <a:xfrm>
              <a:off x="1763640" y="285264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248436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>
              <a:off x="1763640" y="3645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11"/>
            <p:cNvSpPr/>
            <p:nvPr/>
          </p:nvSpPr>
          <p:spPr>
            <a:xfrm>
              <a:off x="2124000" y="2637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2844720" y="263700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Line 13"/>
            <p:cNvSpPr/>
            <p:nvPr/>
          </p:nvSpPr>
          <p:spPr>
            <a:xfrm flipV="1">
              <a:off x="248436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 flipV="1">
              <a:off x="176364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484360" y="3428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3780000" y="2636640"/>
            <a:ext cx="1081080" cy="1008360"/>
            <a:chOff x="3780000" y="2636640"/>
            <a:chExt cx="1081080" cy="1008360"/>
          </a:xfrm>
        </p:grpSpPr>
        <p:sp>
          <p:nvSpPr>
            <p:cNvPr id="178" name="Line 18"/>
            <p:cNvSpPr/>
            <p:nvPr/>
          </p:nvSpPr>
          <p:spPr>
            <a:xfrm>
              <a:off x="378000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3780000" y="2852640"/>
              <a:ext cx="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>
              <a:off x="3780000" y="285264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450072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780000" y="3645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4140360" y="2637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24"/>
            <p:cNvSpPr/>
            <p:nvPr/>
          </p:nvSpPr>
          <p:spPr>
            <a:xfrm>
              <a:off x="4861080" y="263700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25"/>
            <p:cNvSpPr/>
            <p:nvPr/>
          </p:nvSpPr>
          <p:spPr>
            <a:xfrm flipV="1">
              <a:off x="450072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26"/>
            <p:cNvSpPr/>
            <p:nvPr/>
          </p:nvSpPr>
          <p:spPr>
            <a:xfrm flipV="1">
              <a:off x="378000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V="1">
              <a:off x="4500720" y="3428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8" name="Group 28"/>
          <p:cNvGrpSpPr/>
          <p:nvPr/>
        </p:nvGrpSpPr>
        <p:grpSpPr>
          <a:xfrm>
            <a:off x="5867280" y="2565000"/>
            <a:ext cx="1081080" cy="1008360"/>
            <a:chOff x="5867280" y="2565000"/>
            <a:chExt cx="1081080" cy="1008360"/>
          </a:xfrm>
        </p:grpSpPr>
        <p:sp>
          <p:nvSpPr>
            <p:cNvPr id="189" name="Line 29"/>
            <p:cNvSpPr/>
            <p:nvPr/>
          </p:nvSpPr>
          <p:spPr>
            <a:xfrm>
              <a:off x="586728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>
              <a:off x="5867280" y="2781000"/>
              <a:ext cx="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Line 31"/>
            <p:cNvSpPr/>
            <p:nvPr/>
          </p:nvSpPr>
          <p:spPr>
            <a:xfrm>
              <a:off x="5867280" y="278100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Line 32"/>
            <p:cNvSpPr/>
            <p:nvPr/>
          </p:nvSpPr>
          <p:spPr>
            <a:xfrm>
              <a:off x="658800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33"/>
            <p:cNvSpPr/>
            <p:nvPr/>
          </p:nvSpPr>
          <p:spPr>
            <a:xfrm>
              <a:off x="5867280" y="3573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34"/>
            <p:cNvSpPr/>
            <p:nvPr/>
          </p:nvSpPr>
          <p:spPr>
            <a:xfrm>
              <a:off x="6227640" y="2565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6948360" y="256536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36"/>
            <p:cNvSpPr/>
            <p:nvPr/>
          </p:nvSpPr>
          <p:spPr>
            <a:xfrm flipV="1">
              <a:off x="658800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Line 37"/>
            <p:cNvSpPr/>
            <p:nvPr/>
          </p:nvSpPr>
          <p:spPr>
            <a:xfrm flipV="1">
              <a:off x="586728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Line 38"/>
            <p:cNvSpPr/>
            <p:nvPr/>
          </p:nvSpPr>
          <p:spPr>
            <a:xfrm flipV="1">
              <a:off x="6588000" y="3357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Text Box 39"/>
          <p:cNvSpPr/>
          <p:nvPr/>
        </p:nvSpPr>
        <p:spPr>
          <a:xfrm>
            <a:off x="1979640" y="21337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3995640" y="2133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630072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2"/>
          <p:cNvSpPr/>
          <p:nvPr/>
        </p:nvSpPr>
        <p:spPr>
          <a:xfrm>
            <a:off x="176364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324000" y="119700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176364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370836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86728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250920" y="4724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Which has the greatest mass and therefore the most den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1" descr="is?M9Hz5Cr5PCooSMJrO65kAMhrQ_O4D1esCBIN7CYDj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421000"/>
            <a:ext cx="1218960" cy="10666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2"/>
          <p:cNvSpPr/>
          <p:nvPr/>
        </p:nvSpPr>
        <p:spPr>
          <a:xfrm>
            <a:off x="7020000" y="3716280"/>
            <a:ext cx="1152360" cy="792360"/>
          </a:xfrm>
          <a:prstGeom prst="wedgeRoundRectCallout">
            <a:avLst>
              <a:gd name="adj1" fmla="val 43527"/>
              <a:gd name="adj2" fmla="val -165430"/>
              <a:gd name="adj3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763640" y="1484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80000" y="1413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635280" y="1916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4859280" y="907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4932360" y="299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324000" y="263700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82"/>
          <p:cNvSpPr/>
          <p:nvPr/>
        </p:nvSpPr>
        <p:spPr>
          <a:xfrm flipH="1">
            <a:off x="4284720" y="1125360"/>
            <a:ext cx="50328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83"/>
          <p:cNvSpPr/>
          <p:nvPr/>
        </p:nvSpPr>
        <p:spPr>
          <a:xfrm>
            <a:off x="4427640" y="2492280"/>
            <a:ext cx="72072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84"/>
          <p:cNvSpPr/>
          <p:nvPr/>
        </p:nvSpPr>
        <p:spPr>
          <a:xfrm flipV="1">
            <a:off x="971640" y="1916280"/>
            <a:ext cx="1152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1835280" y="3645000"/>
            <a:ext cx="1728720" cy="14770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8a5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=  </a:t>
            </a:r>
            <a:r>
              <a:rPr b="0" lang="en-GB" sz="3600" spc="-1" strike="noStrike" u="sng">
                <a:solidFill>
                  <a:srgbClr val="f8a500"/>
                </a:solidFill>
                <a:uFillTx/>
                <a:latin typeface="Tahoma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     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4248000" y="3645000"/>
            <a:ext cx="489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Liquid water has a density of 100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, while ice has density of 92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Calculate the volume occupied by 0.25kg of ea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9512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900000" y="260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Tahoma"/>
              </a:rPr>
              <a:t>Density Equ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5" name="Group 97"/>
          <p:cNvGrpSpPr/>
          <p:nvPr/>
        </p:nvGrpSpPr>
        <p:grpSpPr>
          <a:xfrm>
            <a:off x="6012000" y="1197000"/>
            <a:ext cx="2895480" cy="2438280"/>
            <a:chOff x="6012000" y="1197000"/>
            <a:chExt cx="2895480" cy="2438280"/>
          </a:xfrm>
        </p:grpSpPr>
        <p:sp>
          <p:nvSpPr>
            <p:cNvPr id="226" name="AutoShape 98"/>
            <p:cNvSpPr/>
            <p:nvPr/>
          </p:nvSpPr>
          <p:spPr>
            <a:xfrm>
              <a:off x="6012000" y="1197000"/>
              <a:ext cx="2895480" cy="2438280"/>
            </a:xfrm>
            <a:prstGeom prst="flowChartExtra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Text Box 99"/>
            <p:cNvSpPr/>
            <p:nvPr/>
          </p:nvSpPr>
          <p:spPr>
            <a:xfrm>
              <a:off x="7230960" y="16542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Text Box 100"/>
            <p:cNvSpPr/>
            <p:nvPr/>
          </p:nvSpPr>
          <p:spPr>
            <a:xfrm>
              <a:off x="791676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Text Box 101"/>
            <p:cNvSpPr/>
            <p:nvPr/>
          </p:nvSpPr>
          <p:spPr>
            <a:xfrm>
              <a:off x="646920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102"/>
            <p:cNvSpPr/>
            <p:nvPr/>
          </p:nvSpPr>
          <p:spPr>
            <a:xfrm>
              <a:off x="6773760" y="2568600"/>
              <a:ext cx="129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103"/>
            <p:cNvSpPr/>
            <p:nvPr/>
          </p:nvSpPr>
          <p:spPr>
            <a:xfrm flipV="1">
              <a:off x="723096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Line 104"/>
            <p:cNvSpPr/>
            <p:nvPr/>
          </p:nvSpPr>
          <p:spPr>
            <a:xfrm flipH="1" flipV="1">
              <a:off x="723060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Rectangle 105"/>
          <p:cNvSpPr/>
          <p:nvPr/>
        </p:nvSpPr>
        <p:spPr>
          <a:xfrm>
            <a:off x="0" y="522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50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106"/>
          <p:cNvSpPr/>
          <p:nvPr/>
        </p:nvSpPr>
        <p:spPr>
          <a:xfrm>
            <a:off x="0" y="60357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72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9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 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508360" y="1628640"/>
            <a:ext cx="338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26"/>
          <p:cNvGrpSpPr/>
          <p:nvPr/>
        </p:nvGrpSpPr>
        <p:grpSpPr>
          <a:xfrm>
            <a:off x="900000" y="2421000"/>
            <a:ext cx="4392720" cy="2808360"/>
            <a:chOff x="900000" y="2421000"/>
            <a:chExt cx="4392720" cy="2808360"/>
          </a:xfrm>
        </p:grpSpPr>
        <p:sp>
          <p:nvSpPr>
            <p:cNvPr id="238" name="Line 4"/>
            <p:cNvSpPr/>
            <p:nvPr/>
          </p:nvSpPr>
          <p:spPr>
            <a:xfrm>
              <a:off x="900000" y="314172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90000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900000" y="522936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399564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 flipV="1">
              <a:off x="90000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 flipV="1">
              <a:off x="399564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 flipV="1">
              <a:off x="399564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 flipV="1">
              <a:off x="90000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529272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219564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2195640" y="242100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2195640" y="450864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0" name="Line 16"/>
          <p:cNvSpPr/>
          <p:nvPr/>
        </p:nvSpPr>
        <p:spPr>
          <a:xfrm>
            <a:off x="468360" y="3141720"/>
            <a:ext cx="0" cy="2016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900000" y="5589720"/>
            <a:ext cx="309564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611280" y="2349360"/>
            <a:ext cx="1224000" cy="648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83528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.0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611280" y="24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.0 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0" y="42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3.0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23"/>
          <p:cNvSpPr/>
          <p:nvPr/>
        </p:nvSpPr>
        <p:spPr>
          <a:xfrm flipV="1" rot="10800000">
            <a:off x="900000" y="3499200"/>
            <a:ext cx="49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4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0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 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3132000" y="184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2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25"/>
          <p:cNvSpPr/>
          <p:nvPr/>
        </p:nvSpPr>
        <p:spPr>
          <a:xfrm flipH="1">
            <a:off x="2916000" y="2205000"/>
            <a:ext cx="360360" cy="57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187280" y="260280"/>
          <a:ext cx="6096240" cy="613116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id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igh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134" descr="j0140395[1]"/>
          <p:cNvPicPr/>
          <p:nvPr/>
        </p:nvPicPr>
        <p:blipFill>
          <a:blip r:embed="rId1"/>
          <a:stretch/>
        </p:blipFill>
        <p:spPr>
          <a:xfrm>
            <a:off x="7740720" y="333360"/>
            <a:ext cx="10522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403280" y="836640"/>
          <a:ext cx="6096240" cy="639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403280" y="1484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403280" y="2637000"/>
          <a:ext cx="6096240" cy="57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403280" y="206064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403280" y="3213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403280" y="3716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403280" y="4292640"/>
          <a:ext cx="6096240" cy="647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403280" y="494172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403280" y="5445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Mar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403280" y="5950080"/>
          <a:ext cx="6096240" cy="517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2012760" cy="4319640"/>
          </a:xfrm>
          <a:prstGeom prst="rect">
            <a:avLst/>
          </a:prstGeom>
          <a:ln w="0">
            <a:noFill/>
          </a:ln>
        </p:spPr>
      </p:pic>
      <p:sp>
        <p:nvSpPr>
          <p:cNvPr id="273" name="Line 5"/>
          <p:cNvSpPr/>
          <p:nvPr/>
        </p:nvSpPr>
        <p:spPr>
          <a:xfrm>
            <a:off x="2340000" y="4437000"/>
            <a:ext cx="576360" cy="0"/>
          </a:xfrm>
          <a:prstGeom prst="line">
            <a:avLst/>
          </a:prstGeom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284720" y="2349360"/>
            <a:ext cx="460836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Freeform 9"/>
          <p:cNvSpPr/>
          <p:nvPr/>
        </p:nvSpPr>
        <p:spPr>
          <a:xfrm rot="16864800">
            <a:off x="2108880" y="1427760"/>
            <a:ext cx="1065240" cy="31428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340000" y="3429000"/>
            <a:ext cx="576360" cy="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3132000" y="3429000"/>
            <a:ext cx="0" cy="100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332000" y="429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5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360800" y="3284640"/>
            <a:ext cx="9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8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479880" y="1413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36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1763640" y="1628640"/>
            <a:ext cx="720720" cy="1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4284720" y="1413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36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2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6944 L -0.00139 0.56296 E">
                                      <p:cBhvr>
                                        <p:cTn id="476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1332000" y="2781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332000" y="494172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6"/>
          <p:cNvSpPr/>
          <p:nvPr/>
        </p:nvSpPr>
        <p:spPr>
          <a:xfrm flipV="1">
            <a:off x="2987640" y="3573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987640" y="357336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987640" y="328464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9"/>
          <p:cNvSpPr/>
          <p:nvPr/>
        </p:nvSpPr>
        <p:spPr>
          <a:xfrm flipV="1">
            <a:off x="298764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05928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2916360" y="58053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Line 13"/>
          <p:cNvSpPr/>
          <p:nvPr/>
        </p:nvSpPr>
        <p:spPr>
          <a:xfrm flipV="1">
            <a:off x="291636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14"/>
          <p:cNvSpPr/>
          <p:nvPr/>
        </p:nvSpPr>
        <p:spPr>
          <a:xfrm flipH="1" flipV="1">
            <a:off x="349200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1332000" y="357336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reeform 16"/>
          <p:cNvSpPr/>
          <p:nvPr/>
        </p:nvSpPr>
        <p:spPr>
          <a:xfrm rot="16864800">
            <a:off x="1589040" y="2234520"/>
            <a:ext cx="1065240" cy="100476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2987640" y="3573360"/>
            <a:ext cx="2890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3276720" y="3860640"/>
            <a:ext cx="0" cy="194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3059280" y="5805360"/>
            <a:ext cx="433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3276720" y="386064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3851280" y="2133720"/>
            <a:ext cx="52927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1520" y="24922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4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26"/>
          <p:cNvSpPr/>
          <p:nvPr/>
        </p:nvSpPr>
        <p:spPr>
          <a:xfrm flipH="1" flipV="1">
            <a:off x="1186920" y="2707920"/>
            <a:ext cx="50508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619280" y="522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8"/>
          <p:cNvSpPr/>
          <p:nvPr/>
        </p:nvSpPr>
        <p:spPr>
          <a:xfrm flipV="1">
            <a:off x="2771640" y="4797360"/>
            <a:ext cx="432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440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11.0 g/cm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V     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5903 L 0.00035 0.2375 E">
                                      <p:cBhvr>
                                        <p:cTn id="60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3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00017 -0.16806 E">
                                      <p:cBhvr>
                                        <p:cTn id="620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57200" y="277920"/>
          <a:ext cx="8229600" cy="58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0:20:28Z</dcterms:created>
  <dc:creator>gel</dc:creator>
  <dc:description/>
  <dc:language>en-US</dc:language>
  <cp:lastModifiedBy>RomaK</cp:lastModifiedBy>
  <dcterms:modified xsi:type="dcterms:W3CDTF">2015-09-03T12:20:26Z</dcterms:modified>
  <cp:revision>43</cp:revision>
  <dc:subject/>
  <dc:title>DENSITY</dc:title>
</cp:coreProperties>
</file>