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11.jpeg" ContentType="image/jpeg"/>
  <Override PartName="/ppt/media/image5.gif" ContentType="image/gif"/>
  <Override PartName="/ppt/media/image10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676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6CC49-B77C-4691-A9E4-B0A3CA49C6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Edison’s bright id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fe and times of an inventor and business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of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Edison’s bright id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fe and times of an inventor and business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of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Alva Ed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47 - 19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Alva Ed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47 - 19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mportant Thurs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noticed that Tom's forehead was unusually wide and his head was bigger than normal.  He made no secret of his belief that Tom’s brains were  scrambl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Edison was born on Thursday February the 11th, 1847 in the town of Milan, Amer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omas was seven his teacher finally lost his patience with his constant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of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mportant Thurs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noticed that Tom's forehead was unusually wide and his head was bigger than normal.  He made no secret of his belief that Tom’s brains were  scrambl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Edison was born on Thursday February the 11th, 1847 in the town of Milan, Amer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omas was seven his teacher finally lost his patience with his constant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do when you get home from schoo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of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do when you get home from schoo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ison’s first important invention was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nograph.  A machine that could recor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reproduce sound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his greatest success was the developmen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electric light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en you turn on the light                and listen to music think of Thomas Edi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urn the lights 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lay Emine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of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ison’s first important invention was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nograph.  A machine that could recor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reproduce sound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his greatest success was the developmen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electric light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en you turn on the light                and listen to music think of Thomas Edi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urn the lights 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lay Emine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ey and f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electricity spread around the world. The success of his electric light brought Thomas Edison to new heights of fame and wealth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ison's electric companies continued to grow until in 1889 they were brought together to form Edison General Electri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of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ey and f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electricity spread around the world. The success of his electric light brought Thomas Edison to new heights of fame and wealth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ison's electric companies continued to grow until in 1889 they were brought together to form Edison General Electri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 sweet 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884, during this period of success, Tom's wife Mary died.  A year later, while on holiday at a friends house in New England, he met Mina Miller and they fell in lo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uple married in February 188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of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 sweet 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884, during this period of success, Tom's wife Mary died.  A year later, while on holiday at a friends house in New England, he met Mina Miller and they fell in lo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uple married in February 188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of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movie 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working on the phonograph, Thomas began working on a device that, "does for the eye what the phonograph does for the ear", this was to become motion pictu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first demonstrated motion pictures in 1891, and began making "movies" two years l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movie 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working on the phonograph, Thomas began working on a device that, "does for the eye what the phonograph does for the ear", this was to become motion pictu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first demonstrated motion pictures in 1891, and began making "movies" two years l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very beautiful over ther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Edison died on Sunday October the 18th, 1931. He was 84 years 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ly before passing away, he awoke from a coma and quietly whispered wife Mina, who had been keeping a vigil all night by his side:  "It is very beautiful over there...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of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very beautiful over ther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Edison died on Sunday October the 18th, 1931. He was 84 years 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ly before passing away, he awoke from a coma and quietly whispered wife Mina, who had been keeping a vigil all night by his side:  "It is very beautiful over there...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 Thomas Edison a geniu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what he had to say about it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Genius is 1% inspiration and 99%  perspiration. A 'genius' is often simply a talented person who has done all of his or her homework.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of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 Thomas Edison a geniu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what he had to say about it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Genius is 1% inspiration and 99%  perspiration. A 'genius' is often simply a talented person who has done all of his or her homework.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E263-3A27-49D8-9744-C810E675D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99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FD96-F1C3-4C8B-806F-A86AFE96B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99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31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3DFF-A50C-496C-AF4F-C0E9F0450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600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216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9984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600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216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6842-2D90-496E-B804-BB1C82837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4F01-0483-4B76-961D-BCF863395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23B1-4FF6-49E2-B4CF-E00EB3F34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BE59-E839-427F-8BB1-069314C44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EFD8-A962-42EB-BAD5-C15F1A281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99840" y="27432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098A-3803-4946-8077-51EE540FA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99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A3B7-482F-4C68-9B5A-E3EC6A2C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31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2B3D-A638-4B49-B9E0-07D8D22C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99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DE25-8BED-47AE-AEEE-2686FAC7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00200" y="6244920"/>
            <a:ext cx="1371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9532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91520" y="6248160"/>
            <a:ext cx="1295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D5BAD-A283-4F56-9E43-C866B0C16559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76500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Gill Sans MT Schoolbook"/>
              </a:rPr>
              <a:t>Thomas Edison’s bright ideas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2133360"/>
            <a:ext cx="91440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The life and times of an inventor and businessm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8064360" y="6670800"/>
            <a:ext cx="12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34920" y="4428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1 of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8064360" y="6670800"/>
            <a:ext cx="12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34920" y="4428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10 of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47280" y="475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66"/>
                </a:solidFill>
                <a:latin typeface="Gill Sans MT Schoolbook"/>
              </a:rPr>
              <a:t>Thomas Alva Edison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00" name="Picture 8" descr="edison9"/>
          <p:cNvPicPr/>
          <p:nvPr/>
        </p:nvPicPr>
        <p:blipFill>
          <a:blip r:embed="rId1"/>
          <a:stretch/>
        </p:blipFill>
        <p:spPr>
          <a:xfrm>
            <a:off x="3851280" y="1628640"/>
            <a:ext cx="2295360" cy="27370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9"/>
          <p:cNvSpPr/>
          <p:nvPr/>
        </p:nvSpPr>
        <p:spPr>
          <a:xfrm>
            <a:off x="4140360" y="4797360"/>
            <a:ext cx="172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1847 - 19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15640" y="48528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Gill Sans MT Schoolbook"/>
              </a:rPr>
              <a:t>An important Thursday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2160720" y="4724280"/>
            <a:ext cx="694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He noticed that Tom's forehead was unusually wide and his head was bigger than normal.  He made no secret of his belief that Tom’s brains were  scrambl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2124000" y="1541520"/>
            <a:ext cx="47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Thomas Edison was born on Thursday February the 11th, 1847 in the town of Milan, Ame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2124000" y="3130560"/>
            <a:ext cx="460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When Thomas was seven his teacher finally lost his patience with his constant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2" descr="baby_drinking_from_sippy_cup_hg_blk"/>
          <p:cNvPicPr/>
          <p:nvPr/>
        </p:nvPicPr>
        <p:blipFill>
          <a:blip r:embed="rId1"/>
          <a:stretch/>
        </p:blipFill>
        <p:spPr>
          <a:xfrm>
            <a:off x="6970680" y="1268280"/>
            <a:ext cx="2209680" cy="33339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3"/>
          <p:cNvSpPr/>
          <p:nvPr/>
        </p:nvSpPr>
        <p:spPr>
          <a:xfrm>
            <a:off x="34920" y="4428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2 of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8064360" y="6670800"/>
            <a:ext cx="12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18920" y="2420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Gill Sans MT Schoolbook"/>
              </a:rPr>
              <a:t>What do you do when you get home from school?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34920" y="4428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3 of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8064360" y="6670800"/>
            <a:ext cx="12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6" descr="boy_yelling_into_microphone_hg_blk"/>
          <p:cNvPicPr/>
          <p:nvPr/>
        </p:nvPicPr>
        <p:blipFill>
          <a:blip r:embed="rId1"/>
          <a:stretch/>
        </p:blipFill>
        <p:spPr>
          <a:xfrm>
            <a:off x="7020000" y="166680"/>
            <a:ext cx="1990800" cy="33336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79640" y="2708280"/>
            <a:ext cx="684216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Edison’s first important invention was the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phonograph.  A machine that could record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and reproduce sound. 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But his greatest success was the development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of the electric light. </a:t>
            </a:r>
            <a:br>
              <a:rPr sz="2400"/>
            </a:br>
            <a:br>
              <a:rPr sz="1800"/>
            </a:b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So when you turn on the light                and listen to music think of Thomas Edison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2268360" y="83664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Gill Sans MT Schoolbook"/>
              </a:rPr>
              <a:t>I turn the lights on </a:t>
            </a:r>
            <a:br>
              <a:rPr sz="3600"/>
            </a:br>
            <a:r>
              <a:rPr b="0" lang="en-GB" sz="3600" spc="-1" strike="noStrike">
                <a:solidFill>
                  <a:srgbClr val="ffff66"/>
                </a:solidFill>
                <a:latin typeface="Gill Sans MT Schoolbook"/>
              </a:rPr>
              <a:t>and play Eminem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34920" y="4428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4 of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5"/>
          <p:cNvSpPr/>
          <p:nvPr/>
        </p:nvSpPr>
        <p:spPr>
          <a:xfrm>
            <a:off x="8064360" y="6670800"/>
            <a:ext cx="12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7" descr="switch_perspective_lg_blk"/>
          <p:cNvPicPr/>
          <p:nvPr/>
        </p:nvPicPr>
        <p:blipFill>
          <a:blip r:embed="rId2"/>
          <a:stretch/>
        </p:blipFill>
        <p:spPr>
          <a:xfrm>
            <a:off x="6227640" y="5229360"/>
            <a:ext cx="74772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25040" y="48528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Gill Sans MT Schoolbook"/>
              </a:rPr>
              <a:t>Money and fame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2268360" y="1881360"/>
            <a:ext cx="590580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As electricity spread around the world. The success of his electric light brought Thomas Edison to new heights of fame and wealth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Edison's electric companies continued to grow until in 1889 they were brought together to form Edison General Electri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0" descr="money_hand_flipping_bill_lg_blk"/>
          <p:cNvPicPr/>
          <p:nvPr/>
        </p:nvPicPr>
        <p:blipFill>
          <a:blip r:embed="rId1"/>
          <a:stretch/>
        </p:blipFill>
        <p:spPr>
          <a:xfrm>
            <a:off x="7518240" y="5013360"/>
            <a:ext cx="1733760" cy="13618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1"/>
          <p:cNvSpPr/>
          <p:nvPr/>
        </p:nvSpPr>
        <p:spPr>
          <a:xfrm>
            <a:off x="34920" y="4428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5 of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8064360" y="6670800"/>
            <a:ext cx="12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66"/>
                </a:solidFill>
                <a:latin typeface="Gill Sans MT Schoolbook"/>
              </a:rPr>
              <a:t>Home sweet hom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92000" y="1988640"/>
            <a:ext cx="7086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In 1884, during this period of success, Tom's wife Mary died.  A year later, while on holiday at a friends house in New England, he met Mina Miller and they fell in lov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The couple married in February 1886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8064360" y="6670800"/>
            <a:ext cx="12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34920" y="4428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6 of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2" descr="bride_groom_kissing_lg_blk"/>
          <p:cNvPicPr/>
          <p:nvPr/>
        </p:nvPicPr>
        <p:blipFill>
          <a:blip r:embed="rId1"/>
          <a:stretch/>
        </p:blipFill>
        <p:spPr>
          <a:xfrm>
            <a:off x="7093080" y="4076640"/>
            <a:ext cx="188424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5"/>
          <p:cNvSpPr/>
          <p:nvPr/>
        </p:nvSpPr>
        <p:spPr>
          <a:xfrm>
            <a:off x="8064360" y="6670800"/>
            <a:ext cx="12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34920" y="4428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7 of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76000" y="48528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Gill Sans MT Schoolbook"/>
              </a:rPr>
              <a:t>The first movie star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83" name="Picture 9" descr="inventor_explaining_schematics_hg_blk"/>
          <p:cNvPicPr/>
          <p:nvPr/>
        </p:nvPicPr>
        <p:blipFill>
          <a:blip r:embed="rId1"/>
          <a:stretch/>
        </p:blipFill>
        <p:spPr>
          <a:xfrm>
            <a:off x="6710400" y="1484280"/>
            <a:ext cx="2469960" cy="24703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0"/>
          <p:cNvSpPr/>
          <p:nvPr/>
        </p:nvSpPr>
        <p:spPr>
          <a:xfrm>
            <a:off x="2411280" y="1484280"/>
            <a:ext cx="424836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While working on the phonograph, Thomas began working on a device that, "does for the eye what the phonograph does for the ear", this was to become motion pictures.</a:t>
            </a: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2340000" y="4508640"/>
            <a:ext cx="59040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Thomas first demonstrated motion pictures in 1891, and began making "movies" two years later.</a:t>
            </a:r>
            <a:r>
              <a:rPr b="0" lang="en-GB" sz="1800" spc="-1" strike="noStrike">
                <a:solidFill>
                  <a:srgbClr val="000000"/>
                </a:solidFill>
                <a:latin typeface="Gill Sans MT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33040" y="475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66"/>
                </a:solidFill>
                <a:latin typeface="Gill Sans MT Schoolbook"/>
              </a:rPr>
              <a:t>“</a:t>
            </a:r>
            <a:r>
              <a:rPr b="0" lang="en-GB" sz="4000" spc="-1" strike="noStrike">
                <a:solidFill>
                  <a:srgbClr val="ffff66"/>
                </a:solidFill>
                <a:latin typeface="Gill Sans MT Schoolbook"/>
              </a:rPr>
              <a:t>It is very beautiful over there.”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2050920" y="1773360"/>
            <a:ext cx="6266160" cy="29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Thomas Edison died on Sunday October the 18th, 1931. He was 84 years o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Shortly before passing away, he awoke from a coma and quietly whispered wife Mina, who had been keeping a vigil all night by his side:  "It is very beautiful over there...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american_flag_blowing_over_coffin_hg_blk"/>
          <p:cNvPicPr/>
          <p:nvPr/>
        </p:nvPicPr>
        <p:blipFill>
          <a:blip r:embed="rId1"/>
          <a:stretch/>
        </p:blipFill>
        <p:spPr>
          <a:xfrm>
            <a:off x="5796000" y="4437000"/>
            <a:ext cx="2975040" cy="20574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0"/>
          <p:cNvSpPr/>
          <p:nvPr/>
        </p:nvSpPr>
        <p:spPr>
          <a:xfrm>
            <a:off x="8064360" y="6670800"/>
            <a:ext cx="12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34920" y="4428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8 of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9840" y="48528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66"/>
                </a:solidFill>
                <a:latin typeface="Gill Sans MT Schoolbook"/>
              </a:rPr>
              <a:t>Was Thomas Edison a genius?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979640" y="1628280"/>
            <a:ext cx="540072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This is what he had to say about it…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484360" y="2803680"/>
            <a:ext cx="482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"Genius is 1% inspiration and 99%  perspiration. A 'genius' is often simply a talented person who has done all of his or her homework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grade_circled_a_plus_lg_blk"/>
          <p:cNvPicPr/>
          <p:nvPr/>
        </p:nvPicPr>
        <p:blipFill>
          <a:blip r:embed="rId1"/>
          <a:stretch/>
        </p:blipFill>
        <p:spPr>
          <a:xfrm>
            <a:off x="6443640" y="4869000"/>
            <a:ext cx="1609920" cy="13046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6"/>
          <p:cNvSpPr/>
          <p:nvPr/>
        </p:nvSpPr>
        <p:spPr>
          <a:xfrm>
            <a:off x="34920" y="4428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9 of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8064360" y="6670800"/>
            <a:ext cx="12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9T09:25:32Z</dcterms:created>
  <dc:creator>The Learning Trust</dc:creator>
  <dc:description/>
  <dc:language>en-US</dc:language>
  <cp:lastModifiedBy>RomaK</cp:lastModifiedBy>
  <dcterms:modified xsi:type="dcterms:W3CDTF">2015-09-03T12:22:31Z</dcterms:modified>
  <cp:revision>124</cp:revision>
  <dc:subject/>
  <dc:title>Thomas Edison’s bright idea</dc:title>
</cp:coreProperties>
</file>