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B795-07C2-4C7B-B1E7-21E60632930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ril 23, 20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– because it requires work to move it away from the negative char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– because it requires work to move it away from the negative char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 = work/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P = work/ch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 1000 joules of work is done t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e charge q from far away to the place indicate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q = 10 C, what is the electric potenti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new location?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 1000 joules of work is done to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 the charge q from far away to the place indicate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q = 10 C, what is the electric potentia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the new location?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 1000 joules of work is done t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e charge q from far away to the pla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cate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q = 10 C, what is the electric potenti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new location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age = work/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1000 J/10C = 100 Vo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 1000 joules of work is done to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 the charge q from far away to the plac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icate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q = 10 C, what is the electric potentia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the new location?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tage = work/ch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 = 1000 J/10C = 100 Vol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f the charge in the previous problem were now 100 C instead of 10?  What would happen to the EP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f the charge in the previous problem were now 100 C instead of 10?  What would happen to the EP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f the charge in the previous problem were now 100 C instead of 10?  What would happen to the EP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OULD BE THE SAME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 would also incr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f the charge in the previous problem were now 100 C instead of 10?  What would happen to the EP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WOULD BE THE SAME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would also incre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is associated with LOCATION, not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is associated with LOCATION, not CH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vs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harge has more electric potentia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has more potential energ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vs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charge has more electric potentia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has more potential energ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5000 Volts Dangero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5000 Volts Dangerou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5000 Volts Dangero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P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1 million electrons are added to a neutral balloon, it has an electric potential of 5000 vo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5000 Volts Dangerou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P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1 million electrons are added to a neutral balloon, it has an electric potential of 5000 vol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ications of Electrost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lications of Electrosta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(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in electric potential between two poi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(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(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in electric potential between two poi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between A and B is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(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between A and B is 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(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in electric potential between two poi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ere is a potential dif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(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there is a potential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tteries provide potential difference between one end of the circuit and the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tteries provide potential difference between one end of the circuit and the 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tteries provide potential difference between one end of the circuit and the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s flow from high to low electric pot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tteries provide potential difference between one end of the circuit and the 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ges flow from high to low electric pot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(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n’t birds on power lines shock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(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aren’t birds on power lines shock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(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n’t birds on power lines shock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Difference between their feet is zero! (0 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(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aren’t birds on power lines shock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otential Difference between their feet is zero! (0 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 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low of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 (I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t flow of electr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in COULOM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x million trillion electrons is about - 1 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x million trillion protons is about + 1 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Ch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COULOMB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x million trillion electrons is about - 1 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x million trillion protons is about + 1 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pring has more SPE when it is compres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spring has more SPE when it is compres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pring has more SPE when it is compres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wise, these charges will have more potential energy when they are pushed clos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spring has more SPE when it is compres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kewise, these charges will have more potential energy when they are pushed clos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 equals the amount of work done to move a charge from one place to another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 equals the amount of work done to move a charge from one place to another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will have the larger electric potential energ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will have the larger electric potential energ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1B3A-6018-4910-B322-03AFEA9BF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1224-B69B-45BB-AA7D-7A8D63C5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EE32-D7BF-40E5-9F2B-220807568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DF81-6D0A-4030-A3C4-2CDC5941E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52AC2-2FF4-4A3B-AE65-C5F27260A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1EAD-388A-45E4-BAA2-6E66740F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EF47-A651-4847-975A-E9AF7905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F776-F8FD-4713-840A-4BEC544E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8467-B51A-47AD-AA44-A96C27D5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0E54-0E17-4D81-8F87-BB927361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CB39-95F1-4FB7-B7D1-8CAE2867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6776-B738-412F-89C5-CDEC2C7E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DE80-722B-483A-BF3B-73B1DD53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41DE-75C3-4877-875C-4A4494E3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FEF6-7E95-48F5-B935-353236F6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B2DF-2DBA-45D5-80D0-6C64A57D5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A4CA-F61B-40F2-86CC-FE8655B66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2BC0-4677-4910-A7A1-6F8DE18A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833E-B814-42D4-B4CC-636F4395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153E-14B9-4514-AB80-C6D3DFEC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32A6-2E55-4570-BE37-9B7BA4F6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E1EB-7E70-4A99-AE8D-44D998F7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FB34-9E4F-4515-88CC-9DE9D754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CDFF-31E4-43B1-ACA0-ACB1C5A3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3968-663E-494E-86C2-2C7D9F9C0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40CD-A298-42BC-BF8A-EF8CFAEC71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Electricity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 23, 20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– because it requires work to move it away from the negative char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rcRect l="0" t="11292" r="0" b="52582"/>
          <a:stretch/>
        </p:blipFill>
        <p:spPr>
          <a:xfrm>
            <a:off x="914400" y="2286000"/>
            <a:ext cx="7848720" cy="14479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2743200" y="2666880"/>
            <a:ext cx="3049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8153280" y="2752560"/>
            <a:ext cx="3049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4267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 = work/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43434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 1000 joules of work is done to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 the charge q from far away to the place indicated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q = 10 C, what is the electric potentia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new location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 1000 joules of work is done t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 the charge q from far away to the pla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ated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q = 10 C, what is the electric potenti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the new location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tage = work/ch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 = 1000 J/10C = 100 Vo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f the charge in the previous problem were now 100 C instead of 10?  What would happen to the E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f the charge in the previous problem were now 100 C instead of 10?  What would happen to the E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OULD BE THE SAME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would also incr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886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ic potential is associated with LOCATION, not 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622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vs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038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charge has more electric potentia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has more potential energ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9830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s 5000 Volts Dangerou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33376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s 5000 Volts Dangerou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505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P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1 million electrons are added to a neutral balloon, it has an electric potential of 5000 vo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4343400" y="2209680"/>
            <a:ext cx="441972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pplications of Electrostatic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6400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 (voltage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 (voltage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difference between A and B is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4"/>
          <p:cNvSpPr/>
          <p:nvPr/>
        </p:nvSpPr>
        <p:spPr>
          <a:xfrm>
            <a:off x="2057400" y="37339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4300560" y="374508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6"/>
          <p:cNvSpPr/>
          <p:nvPr/>
        </p:nvSpPr>
        <p:spPr>
          <a:xfrm>
            <a:off x="2382840" y="476568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2112840" y="37767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343400" y="3809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2819520" y="52578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10"/>
          <p:cNvSpPr/>
          <p:nvPr/>
        </p:nvSpPr>
        <p:spPr>
          <a:xfrm>
            <a:off x="2438280" y="531324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2209680" y="51814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2209680" y="48769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13"/>
          <p:cNvSpPr/>
          <p:nvPr/>
        </p:nvSpPr>
        <p:spPr>
          <a:xfrm>
            <a:off x="2286000" y="47242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2666880" y="4724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15"/>
          <p:cNvSpPr/>
          <p:nvPr/>
        </p:nvSpPr>
        <p:spPr>
          <a:xfrm>
            <a:off x="2209680" y="3581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16"/>
          <p:cNvSpPr/>
          <p:nvPr/>
        </p:nvSpPr>
        <p:spPr>
          <a:xfrm>
            <a:off x="2819520" y="48769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7"/>
          <p:cNvSpPr/>
          <p:nvPr/>
        </p:nvSpPr>
        <p:spPr>
          <a:xfrm>
            <a:off x="1828800" y="39625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2057400" y="4267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2286000" y="4267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20"/>
          <p:cNvSpPr/>
          <p:nvPr/>
        </p:nvSpPr>
        <p:spPr>
          <a:xfrm>
            <a:off x="2514600" y="403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Oval 21"/>
          <p:cNvSpPr/>
          <p:nvPr/>
        </p:nvSpPr>
        <p:spPr>
          <a:xfrm>
            <a:off x="4648320" y="480060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22"/>
          <p:cNvSpPr/>
          <p:nvPr/>
        </p:nvSpPr>
        <p:spPr>
          <a:xfrm>
            <a:off x="5084640" y="52927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23"/>
          <p:cNvSpPr/>
          <p:nvPr/>
        </p:nvSpPr>
        <p:spPr>
          <a:xfrm>
            <a:off x="4703760" y="534816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24"/>
          <p:cNvSpPr/>
          <p:nvPr/>
        </p:nvSpPr>
        <p:spPr>
          <a:xfrm>
            <a:off x="4475160" y="5216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25"/>
          <p:cNvSpPr/>
          <p:nvPr/>
        </p:nvSpPr>
        <p:spPr>
          <a:xfrm>
            <a:off x="4475160" y="491184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26"/>
          <p:cNvSpPr/>
          <p:nvPr/>
        </p:nvSpPr>
        <p:spPr>
          <a:xfrm>
            <a:off x="4551480" y="47592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27"/>
          <p:cNvSpPr/>
          <p:nvPr/>
        </p:nvSpPr>
        <p:spPr>
          <a:xfrm>
            <a:off x="4932360" y="47592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28"/>
          <p:cNvSpPr/>
          <p:nvPr/>
        </p:nvSpPr>
        <p:spPr>
          <a:xfrm>
            <a:off x="5084640" y="491184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29"/>
          <p:cNvSpPr/>
          <p:nvPr/>
        </p:nvSpPr>
        <p:spPr>
          <a:xfrm>
            <a:off x="4800600" y="403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30"/>
          <p:cNvSpPr/>
          <p:nvPr/>
        </p:nvSpPr>
        <p:spPr>
          <a:xfrm>
            <a:off x="4724280" y="37339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31"/>
          <p:cNvSpPr/>
          <p:nvPr/>
        </p:nvSpPr>
        <p:spPr>
          <a:xfrm>
            <a:off x="4038480" y="39625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32"/>
          <p:cNvSpPr/>
          <p:nvPr/>
        </p:nvSpPr>
        <p:spPr>
          <a:xfrm>
            <a:off x="4343400" y="4267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33"/>
          <p:cNvSpPr/>
          <p:nvPr/>
        </p:nvSpPr>
        <p:spPr>
          <a:xfrm>
            <a:off x="4114800" y="37339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 (voltage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there is a potential dif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Oval 4"/>
          <p:cNvSpPr/>
          <p:nvPr/>
        </p:nvSpPr>
        <p:spPr>
          <a:xfrm>
            <a:off x="2057400" y="37339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5"/>
          <p:cNvSpPr/>
          <p:nvPr/>
        </p:nvSpPr>
        <p:spPr>
          <a:xfrm>
            <a:off x="4452840" y="420228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Oval 6"/>
          <p:cNvSpPr/>
          <p:nvPr/>
        </p:nvSpPr>
        <p:spPr>
          <a:xfrm>
            <a:off x="2382840" y="476568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112840" y="37767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4495680" y="4267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9"/>
          <p:cNvSpPr/>
          <p:nvPr/>
        </p:nvSpPr>
        <p:spPr>
          <a:xfrm>
            <a:off x="2819520" y="52578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10"/>
          <p:cNvSpPr/>
          <p:nvPr/>
        </p:nvSpPr>
        <p:spPr>
          <a:xfrm>
            <a:off x="2438280" y="531324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11"/>
          <p:cNvSpPr/>
          <p:nvPr/>
        </p:nvSpPr>
        <p:spPr>
          <a:xfrm>
            <a:off x="2209680" y="51814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2"/>
          <p:cNvSpPr/>
          <p:nvPr/>
        </p:nvSpPr>
        <p:spPr>
          <a:xfrm>
            <a:off x="2209680" y="48769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13"/>
          <p:cNvSpPr/>
          <p:nvPr/>
        </p:nvSpPr>
        <p:spPr>
          <a:xfrm>
            <a:off x="2286000" y="47242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14"/>
          <p:cNvSpPr/>
          <p:nvPr/>
        </p:nvSpPr>
        <p:spPr>
          <a:xfrm>
            <a:off x="2666880" y="4724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15"/>
          <p:cNvSpPr/>
          <p:nvPr/>
        </p:nvSpPr>
        <p:spPr>
          <a:xfrm>
            <a:off x="2209680" y="3581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16"/>
          <p:cNvSpPr/>
          <p:nvPr/>
        </p:nvSpPr>
        <p:spPr>
          <a:xfrm>
            <a:off x="2819520" y="48769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7"/>
          <p:cNvSpPr/>
          <p:nvPr/>
        </p:nvSpPr>
        <p:spPr>
          <a:xfrm>
            <a:off x="1828800" y="39625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18"/>
          <p:cNvSpPr/>
          <p:nvPr/>
        </p:nvSpPr>
        <p:spPr>
          <a:xfrm>
            <a:off x="2057400" y="4267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9"/>
          <p:cNvSpPr/>
          <p:nvPr/>
        </p:nvSpPr>
        <p:spPr>
          <a:xfrm>
            <a:off x="2286000" y="4267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20"/>
          <p:cNvSpPr/>
          <p:nvPr/>
        </p:nvSpPr>
        <p:spPr>
          <a:xfrm>
            <a:off x="2514600" y="403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21"/>
          <p:cNvSpPr/>
          <p:nvPr/>
        </p:nvSpPr>
        <p:spPr>
          <a:xfrm>
            <a:off x="4648320" y="480060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22"/>
          <p:cNvSpPr/>
          <p:nvPr/>
        </p:nvSpPr>
        <p:spPr>
          <a:xfrm>
            <a:off x="5084640" y="52927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23"/>
          <p:cNvSpPr/>
          <p:nvPr/>
        </p:nvSpPr>
        <p:spPr>
          <a:xfrm>
            <a:off x="4703760" y="534816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24"/>
          <p:cNvSpPr/>
          <p:nvPr/>
        </p:nvSpPr>
        <p:spPr>
          <a:xfrm>
            <a:off x="4475160" y="5216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25"/>
          <p:cNvSpPr/>
          <p:nvPr/>
        </p:nvSpPr>
        <p:spPr>
          <a:xfrm>
            <a:off x="4475160" y="491184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26"/>
          <p:cNvSpPr/>
          <p:nvPr/>
        </p:nvSpPr>
        <p:spPr>
          <a:xfrm>
            <a:off x="4551480" y="47592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27"/>
          <p:cNvSpPr/>
          <p:nvPr/>
        </p:nvSpPr>
        <p:spPr>
          <a:xfrm>
            <a:off x="4932360" y="47592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28"/>
          <p:cNvSpPr/>
          <p:nvPr/>
        </p:nvSpPr>
        <p:spPr>
          <a:xfrm>
            <a:off x="5084640" y="491184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29"/>
          <p:cNvSpPr/>
          <p:nvPr/>
        </p:nvSpPr>
        <p:spPr>
          <a:xfrm>
            <a:off x="4952880" y="44956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30"/>
          <p:cNvSpPr/>
          <p:nvPr/>
        </p:nvSpPr>
        <p:spPr>
          <a:xfrm>
            <a:off x="4876920" y="41911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31"/>
          <p:cNvSpPr/>
          <p:nvPr/>
        </p:nvSpPr>
        <p:spPr>
          <a:xfrm>
            <a:off x="4191120" y="44197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32"/>
          <p:cNvSpPr/>
          <p:nvPr/>
        </p:nvSpPr>
        <p:spPr>
          <a:xfrm>
            <a:off x="4495680" y="4724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33"/>
          <p:cNvSpPr/>
          <p:nvPr/>
        </p:nvSpPr>
        <p:spPr>
          <a:xfrm>
            <a:off x="4267080" y="41911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876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tteries provide potential difference between one end of the circuit and the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5867280" y="2209680"/>
            <a:ext cx="2884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876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tteries provide potential difference between one end of the circuit and the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ges flow from high to low electric potent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5867280" y="2209680"/>
            <a:ext cx="2884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 (voltage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4191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aren’t birds on power lines shock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4343400" y="2743200"/>
            <a:ext cx="441972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 (voltage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62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aren’t birds on power lines shock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otential Difference between their feet is zero! (0 voltag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441972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urrent (I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 flow of 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Charg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d in COULOM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 million trillion electrons is about - 1 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 million trillion protons is about + 1 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74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65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pring has more SPE when it is compres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11480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65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spring has more SPE when it is comp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kewise, these charges will have more potential energy when they are pushed clo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114800" cy="3795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4343400" y="1905120"/>
            <a:ext cx="43434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 equals the amount of work done to move a charge from one place to another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830556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will have the larger electric potential energ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0" t="11292" r="0" b="52582"/>
          <a:stretch/>
        </p:blipFill>
        <p:spPr>
          <a:xfrm>
            <a:off x="914400" y="2286000"/>
            <a:ext cx="7848720" cy="12193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2743200" y="2590920"/>
            <a:ext cx="304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8153280" y="2590920"/>
            <a:ext cx="304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2:43:55Z</dcterms:created>
  <dc:creator>MDS</dc:creator>
  <dc:description/>
  <dc:language>en-US</dc:language>
  <cp:lastModifiedBy>RomaK</cp:lastModifiedBy>
  <dcterms:modified xsi:type="dcterms:W3CDTF">2015-09-03T12:23:13Z</dcterms:modified>
  <cp:revision>8</cp:revision>
  <dc:subject/>
  <dc:title>Electricity </dc:title>
</cp:coreProperties>
</file>