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399A-E3FE-4263-A468-00BA6C9D4697}" type="slidenum">
              <a:rPr b="0" lang="en-GB"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ic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s have both a north pole and a south po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etic lines of force flow from pole to pole as shown in the sketc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asy to feel the attraction or repulsion when one plays with two magn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s have both a north pole and a south 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etic lines of force flow from pole to pole as shown in the ske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feel the attraction or repulsion when one plays with two mag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s gravitational force makes the ball move down towards the centre of the Ear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n’s gravitational force makes the Earth move in an orbit around the Su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gravitational force makes the ball move down towards the centre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s gravitational force makes the Earth move in an orbit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ic field shows us how electric charges behave around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what elec field looks like: </a:t>
            </a:r>
            <a:br>
              <a:rPr sz="1200"/>
            </a:br>
            <a:r>
              <a:rPr b="0" lang="en-US" sz="1200" spc="-1" strike="noStrike">
                <a:solidFill>
                  <a:srgbClr val="ffffff"/>
                </a:solidFill>
                <a:latin typeface="Arial"/>
              </a:rPr>
              <a:t>http://www.colorado.edu/physics/2000/waves_particles/wavpart3.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field shows us how electric charges behave arou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hat elec field looks like: </a:t>
            </a:r>
            <a:br>
              <a:rPr sz="1200"/>
            </a:br>
            <a:r>
              <a:rPr b="0" lang="en-US" sz="1200" spc="-1" strike="noStrike">
                <a:solidFill>
                  <a:srgbClr val="000000"/>
                </a:solidFill>
                <a:latin typeface="Arial"/>
              </a:rPr>
              <a:t>http://www.colorado.edu/physics/2000/waves_particles/wavpart3.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ve and negative charges attract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wo positive charges do to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and negative charges attract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wo positive charges do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ning discharges an excess of positive and negative charge within clouds, between clouds, or between clouds and the groun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ning discharges an excess of positive and negative charge within clouds, between clouds, or between clouds and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s textboo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d p78-79 – Grav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y questions 4 &amp; 5 on p81.</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d p139/140 and try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 text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78-79 –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questions 4 &amp; 5 on p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139/140 and t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magnetis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agnetic field is produced when an electric current flows through a coil of wire. This is the basis of the electromagnet. </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make an electromagnet stronger by doing these thing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apping the coil around an iron cor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ing more turns to the coi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reasing the current flowing through the coi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gnetic field is produced when an electric current flows through a coil of wire. This is the basis of the electromagne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make an electromagnet stronger by doing these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apping the coil around an iron c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more turns to the co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the current flowing through the co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Simple Electromagn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Electromag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lectromagne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better than magnets because the magnetism can be turned off and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electromag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better than magnets because the magnetism can be turned off an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ctromagnet anim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ttp://www.bbc.co.uk/schools/ks3bitesize/science/physics/magnetism_4.s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schools/ks3bitesize/science/physics/magnetism_4.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bel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bells like the ones used in most schools also contain an electromagnet. </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current flows through the circuit, the electromagnet makes a magnetic fiel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lectromagnet attracts the springy metal arm.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 hits the gong, which makes a sound and the circuit is broke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lectromagnet is turned off and the springy metal arm moves back.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ircuit is complete agai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bells like the ones used in most schools also contain an electromagne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urrent flows through the circuit, the electromagnet makes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 attracts the springy metal 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m hits the gong, which makes a sound and the circuit is br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 is turned off and the springy metal arm moves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rcuit is complete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tion of electric bel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bbc.co.uk/schools/ks3bitesize/science/physics/magnetism_5.s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of electric b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schools/ks3bitesize/science/physics/magnetism_5.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objects have a force that attracts them towards each other. This is called gravity. Even you attract other objects to you because of gravity. But you have too little mass for the force to be very strong. Gravity only becomes noticeable when there is a really massive object like a moon, planet or st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bjects have a force that attracts them towards each other. This is called gravity. Even you attract other objects to you because of gravity. But you have too little mass for the force to be very strong. Gravity only becomes noticeable when there is a really massive object like a moon, planet o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more mass than the Moon, so the gravitational force is greater on the Earth than it is on the Mo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gravitational force pulls objects towards the centre of the Earth.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wn" is towards the centre of the Earth, wherever you are on the plan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 has more mass than the Moon, so the gravitational force is greater on the Earth than it is on the Mo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gravitational force pulls objects towards the centre of th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is towards the centre of the Earth, wherever you are on the pla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413842D-67B1-49CF-9980-2905C89C0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2EF059C-5340-4BA8-8B19-A402B8F7A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E09A381-83E3-4535-842C-66C513782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0507221-5F13-4361-911F-B7DF708A8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84D14-B793-4B02-8658-C92FF419EE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7CAE2-B591-46DE-9E79-F166489DD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1A27A-CC9E-4DFB-9E64-096F4155EF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A7293-3085-4780-B6C1-576923C4D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5DA14-3E33-412C-8523-302468EB9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FB669-1046-4AEF-A9B0-C1754ED46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D3F5A-86AC-4014-9265-3876D3CD7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FC6F654-84EB-430E-B1BB-0A64BBBD6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191FE-348E-4288-A4AA-22571FD8A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40BFC-FC4D-4EE1-A575-69CEA6D4B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952A4-FE15-4A4E-B29A-87A14CFDF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DF66A1-0305-44A0-8CC3-C09DD988A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A99B86-4A75-410B-BE95-4187C6050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F6376ED-DD7E-4FCE-97C0-8FC114FC7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EC1CDCA-D0EC-4A1C-82D9-FF1CC50FD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41EEE07-A012-472D-9085-8E9E2F115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B90A70B-CEA5-47BE-8882-93A2D4B72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162D51C-9647-4EF0-95F4-93D16D447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0447D3B-7776-4C7E-A4C8-755CDA5BD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4B685A-7ED4-41D3-A5CB-2CFDBB785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3507-691E-49E9-86C1-12A4910B4806}" type="slidenum">
              <a:rPr b="0" lang="en-GB"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BD94C-6A23-431D-8D55-BD5DB4077825}" type="slidenum">
              <a:rPr b="0" lang="en-GB"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5e5ff"/>
                </a:solidFill>
                <a:uFillTx/>
                <a:latin typeface="Comic Sans MS"/>
              </a:rPr>
              <a:t>Magnetic Field</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Magnets have both a north pole and a south pole.</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magnetic lines of force flow from pole to pole as shown in the sketch.</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It is easy to feel the attraction or repulsion when one plays with two magnets. </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9" name="Picture 10" descr=""/>
          <p:cNvPicPr/>
          <p:nvPr/>
        </p:nvPicPr>
        <p:blipFill>
          <a:blip r:embed="rId1"/>
          <a:stretch/>
        </p:blipFill>
        <p:spPr>
          <a:xfrm>
            <a:off x="4500720" y="2492280"/>
            <a:ext cx="4271760" cy="267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Gravitational Field</a:t>
            </a:r>
            <a:endParaRPr b="1" lang="en-US" sz="4400" spc="-1" strike="noStrike">
              <a:solidFill>
                <a:srgbClr val="e5e5ff"/>
              </a:solidFill>
              <a:latin typeface="Garamond"/>
            </a:endParaRPr>
          </a:p>
        </p:txBody>
      </p:sp>
      <p:pic>
        <p:nvPicPr>
          <p:cNvPr id="130" name="Picture 7" descr=""/>
          <p:cNvPicPr/>
          <p:nvPr/>
        </p:nvPicPr>
        <p:blipFill>
          <a:blip r:embed="rId1"/>
          <a:stretch/>
        </p:blipFill>
        <p:spPr>
          <a:xfrm>
            <a:off x="539640" y="1700280"/>
            <a:ext cx="3652920" cy="3816360"/>
          </a:xfrm>
          <a:prstGeom prst="rect">
            <a:avLst/>
          </a:prstGeom>
          <a:ln w="0">
            <a:noFill/>
          </a:ln>
        </p:spPr>
      </p:pic>
      <p:pic>
        <p:nvPicPr>
          <p:cNvPr id="131" name="Picture 8" descr=""/>
          <p:cNvPicPr/>
          <p:nvPr/>
        </p:nvPicPr>
        <p:blipFill>
          <a:blip r:embed="rId2"/>
          <a:stretch/>
        </p:blipFill>
        <p:spPr>
          <a:xfrm>
            <a:off x="4716360" y="2060640"/>
            <a:ext cx="3888000" cy="3371760"/>
          </a:xfrm>
          <a:prstGeom prst="rect">
            <a:avLst/>
          </a:prstGeom>
          <a:ln w="0">
            <a:noFill/>
          </a:ln>
        </p:spPr>
      </p:pic>
      <p:sp>
        <p:nvSpPr>
          <p:cNvPr id="132" name="Rectangle 9"/>
          <p:cNvSpPr/>
          <p:nvPr/>
        </p:nvSpPr>
        <p:spPr>
          <a:xfrm>
            <a:off x="611280" y="5546880"/>
            <a:ext cx="3467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Earth’s gravitational force makes the ball move down towards the centre of the Earth.</a:t>
            </a:r>
            <a:endParaRPr b="0" lang="en-US" sz="2000" spc="-1" strike="noStrike">
              <a:solidFill>
                <a:srgbClr val="ffffff"/>
              </a:solidFill>
              <a:latin typeface="Garamond"/>
            </a:endParaRPr>
          </a:p>
        </p:txBody>
      </p:sp>
      <p:sp>
        <p:nvSpPr>
          <p:cNvPr id="133" name="Rectangle 10"/>
          <p:cNvSpPr/>
          <p:nvPr/>
        </p:nvSpPr>
        <p:spPr>
          <a:xfrm>
            <a:off x="4859280" y="5516640"/>
            <a:ext cx="355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Sun’s gravitational force makes the Earth move in an orbit around the Su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Electric Field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n electric field shows us how electric charges behave around each other.</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See what elec field looks like: </a:t>
            </a:r>
            <a:br>
              <a:rPr sz="3200"/>
            </a:br>
            <a:r>
              <a:rPr b="0" lang="en-GB" sz="3200" spc="-1" strike="noStrike">
                <a:solidFill>
                  <a:srgbClr val="ffffff"/>
                </a:solidFill>
                <a:latin typeface="Comic Sans MS"/>
              </a:rPr>
              <a:t>http://www.colorado.edu/physics/2000/waves_particles/wavpart3.htm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17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Positive and negative charges attract each other.</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hat do two positive charges do to each other?</a:t>
            </a:r>
            <a:endParaRPr b="0" lang="en-US" sz="2800" spc="-1" strike="noStrike">
              <a:solidFill>
                <a:srgbClr val="ffffff"/>
              </a:solidFill>
              <a:latin typeface="Garamond"/>
            </a:endParaRPr>
          </a:p>
        </p:txBody>
      </p:sp>
      <p:pic>
        <p:nvPicPr>
          <p:cNvPr id="138" name="Picture 11" descr=""/>
          <p:cNvPicPr/>
          <p:nvPr/>
        </p:nvPicPr>
        <p:blipFill>
          <a:blip r:embed="rId1"/>
          <a:srcRect l="0" t="0" r="0" b="7020"/>
          <a:stretch/>
        </p:blipFill>
        <p:spPr>
          <a:xfrm>
            <a:off x="4900680" y="1790640"/>
            <a:ext cx="3524040" cy="42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Lightning discharges an excess of positive and negative charge within clouds, between clouds, or between clouds and the ground.</a:t>
            </a:r>
            <a:endParaRPr b="0" lang="en-US" sz="2800" spc="-1" strike="noStrike">
              <a:solidFill>
                <a:srgbClr val="ffffff"/>
              </a:solidFill>
              <a:latin typeface="Garamond"/>
            </a:endParaRPr>
          </a:p>
        </p:txBody>
      </p:sp>
      <p:pic>
        <p:nvPicPr>
          <p:cNvPr id="141" name="Picture 7" descr=""/>
          <p:cNvPicPr/>
          <p:nvPr/>
        </p:nvPicPr>
        <p:blipFill>
          <a:blip r:embed="rId1"/>
          <a:stretch/>
        </p:blipFill>
        <p:spPr>
          <a:xfrm>
            <a:off x="5003640" y="1844640"/>
            <a:ext cx="3713400" cy="410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xtension:</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Physics textbook:</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Read p78-79 – Gravity</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Try questions 4 &amp; 5 on p81.</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Read p139/140 and try ques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Electromagnetism</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magnetic field is produced when an electric current flows through a coil of wire. This is the basis of the electromagnet. </a:t>
            </a:r>
            <a:br>
              <a:rPr sz="3200"/>
            </a:br>
            <a:r>
              <a:rPr b="0" lang="en-US" sz="3200" spc="-1" strike="noStrike">
                <a:solidFill>
                  <a:srgbClr val="ffffff"/>
                </a:solidFill>
                <a:latin typeface="Comic Sans MS"/>
              </a:rPr>
              <a:t>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can make an electromagnet stronger by doing these things: </a:t>
            </a:r>
            <a:endParaRPr b="0" lang="en-US" sz="32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rapping the coil around an iron core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ding more turns to the coil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creasing the current flowing through the coil. </a:t>
            </a:r>
            <a:endParaRPr b="0" lang="en-US" sz="24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A Simple Electromagnet:</a:t>
            </a:r>
            <a:endParaRPr b="1" lang="en-US" sz="4400" spc="-1" strike="noStrike">
              <a:solidFill>
                <a:srgbClr val="e5e5ff"/>
              </a:solidFill>
              <a:latin typeface="Garamond"/>
            </a:endParaRPr>
          </a:p>
        </p:txBody>
      </p:sp>
      <p:pic>
        <p:nvPicPr>
          <p:cNvPr id="113" name="Picture 4" descr="Image: electromagnet"/>
          <p:cNvPicPr/>
          <p:nvPr/>
        </p:nvPicPr>
        <p:blipFill>
          <a:blip r:embed="rId1"/>
          <a:stretch/>
        </p:blipFill>
        <p:spPr>
          <a:xfrm>
            <a:off x="2340000" y="1628640"/>
            <a:ext cx="4438800" cy="476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Comic Sans MS"/>
              </a:rPr>
              <a:t>Using electromagnet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They are better than magnets because the magnetism can be turned off and on.</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116" name="Picture 7" descr="image008"/>
          <p:cNvPicPr/>
          <p:nvPr/>
        </p:nvPicPr>
        <p:blipFill>
          <a:blip r:embed="rId1"/>
          <a:stretch/>
        </p:blipFill>
        <p:spPr>
          <a:xfrm>
            <a:off x="4643280" y="1484280"/>
            <a:ext cx="3980160" cy="50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5">
                                            <p:txEl>
                                              <p:pRg st="1" end="1"/>
                                            </p:txEl>
                                          </p:spTgt>
                                        </p:tgtEl>
                                        <p:attrNameLst>
                                          <p:attrName>style.visibility</p:attrName>
                                        </p:attrNameLst>
                                      </p:cBhvr>
                                      <p:to>
                                        <p:strVal val="visible"/>
                                      </p:to>
                                    </p:set>
                                    <p:anim calcmode="lin" valueType="num">
                                      <p:cBhvr additive="base">
                                        <p:cTn id="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Electromagnet animation</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bbc.co.uk/schools/ks3bitesize/science/physics/magnetism_4.shtml</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Comic Sans MS"/>
              </a:rPr>
              <a:t>Electric bells</a:t>
            </a:r>
            <a:endParaRPr b="1" lang="en-US" sz="4400" spc="-1" strike="noStrike">
              <a:solidFill>
                <a:srgbClr val="e5e5ff"/>
              </a:solidFill>
              <a:latin typeface="Garamond"/>
            </a:endParaRPr>
          </a:p>
        </p:txBody>
      </p:sp>
      <p:sp>
        <p:nvSpPr>
          <p:cNvPr id="120"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lectric bells like the ones used in most schools also contain an electromagnet. </a:t>
            </a:r>
            <a:br>
              <a:rPr sz="2800"/>
            </a:br>
            <a:r>
              <a:rPr b="0" lang="en-US" sz="2800" spc="-1" strike="noStrike">
                <a:solidFill>
                  <a:srgbClr val="ffffff"/>
                </a:solidFill>
                <a:latin typeface="Comic Sans MS"/>
              </a:rPr>
              <a:t> </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en the current flows through the circuit, the electromagnet makes a magnetic field.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attracts the springy metal arm.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arm hits the gong, which makes a sound and the circuit is broken.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is turned off and the springy metal arm moves back.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ircuit is complete again.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Animation of electric bell</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ttp://www.bbc.co.uk/schools/ks3bitesize/science/physics/magnetism_5.shtml</a:t>
            </a:r>
            <a:endParaRPr b="0" lang="en-US" sz="28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Gravitational Field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ll objects have a force that attracts them towards each other. This is called </a:t>
            </a:r>
            <a:r>
              <a:rPr b="0" lang="en-GB" sz="3200" spc="-1" strike="noStrike">
                <a:solidFill>
                  <a:srgbClr val="ff0000"/>
                </a:solidFill>
                <a:latin typeface="Comic Sans MS"/>
              </a:rPr>
              <a:t>gravity</a:t>
            </a:r>
            <a:r>
              <a:rPr b="0" lang="en-GB" sz="3200" spc="-1" strike="noStrike">
                <a:solidFill>
                  <a:srgbClr val="ffffff"/>
                </a:solidFill>
                <a:latin typeface="Comic Sans MS"/>
              </a:rPr>
              <a:t>. Even you attract other objects to you because of gravity. But you have too little mass for the force to be very strong. Gravity only becomes noticeable when there is a really massive object like a moon, planet or st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Gravitational Field</a:t>
            </a:r>
            <a:endParaRPr b="1" lang="en-US" sz="4400" spc="-1" strike="noStrike">
              <a:solidFill>
                <a:srgbClr val="e5e5ff"/>
              </a:solidFill>
              <a:latin typeface="Garamond"/>
            </a:endParaRPr>
          </a:p>
        </p:txBody>
      </p:sp>
      <p:sp>
        <p:nvSpPr>
          <p:cNvPr id="126" name="PlaceHolder 2"/>
          <p:cNvSpPr>
            <a:spLocks noGrp="1"/>
          </p:cNvSpPr>
          <p:nvPr>
            <p:ph/>
          </p:nvPr>
        </p:nvSpPr>
        <p:spPr>
          <a:xfrm>
            <a:off x="468360" y="1557360"/>
            <a:ext cx="8229600" cy="218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he Earth has more mass than the Moon, so the gravitational force is greater on the Earth than it is on the Moon.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he Earth's gravitational force pulls objects towards the centre of the Earth.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7" name="Picture 6" descr=""/>
          <p:cNvPicPr/>
          <p:nvPr/>
        </p:nvPicPr>
        <p:blipFill>
          <a:blip r:embed="rId1"/>
          <a:stretch/>
        </p:blipFill>
        <p:spPr>
          <a:xfrm>
            <a:off x="3244680" y="3938760"/>
            <a:ext cx="2652840" cy="2187360"/>
          </a:xfrm>
          <a:prstGeom prst="rect">
            <a:avLst/>
          </a:prstGeom>
          <a:ln w="0">
            <a:noFill/>
          </a:ln>
        </p:spPr>
      </p:pic>
      <p:sp>
        <p:nvSpPr>
          <p:cNvPr id="128" name="Rectangle 7"/>
          <p:cNvSpPr/>
          <p:nvPr/>
        </p:nvSpPr>
        <p:spPr>
          <a:xfrm>
            <a:off x="6084720" y="4005360"/>
            <a:ext cx="2880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a:t>
            </a:r>
            <a:r>
              <a:rPr b="0" lang="en-GB" sz="2000" spc="-1" strike="noStrike">
                <a:solidFill>
                  <a:srgbClr val="ffffff"/>
                </a:solidFill>
                <a:latin typeface="Comic Sans MS"/>
              </a:rPr>
              <a:t>Down" is towards the centre of the Earth, wherever you are on the plane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18:37:17Z</dcterms:created>
  <dc:creator>Laura</dc:creator>
  <dc:description/>
  <dc:language>en-US</dc:language>
  <cp:lastModifiedBy>RomaK</cp:lastModifiedBy>
  <dcterms:modified xsi:type="dcterms:W3CDTF">2015-09-03T12:25:12Z</dcterms:modified>
  <cp:revision>7</cp:revision>
  <dc:subject/>
  <dc:title>Magnetic Field</dc:title>
</cp:coreProperties>
</file>