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17FD4-5254-4D26-88F8-824F3BB3074C}"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ic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ets have both a north pole and a south po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etic lines of force flow from pole to pole as shown in the sketc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asy to feel the attraction or repulsion when one plays with two magnet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ic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gnets have both a north pole and a south 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gnetic lines of force flow from pole to pole as shown in the ske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asy to feel the attraction or repulsion when one plays with two mag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rth’s gravitational force makes the ball move down towards the centre of the Ear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n’s gravitational force makes the Earth move in an orbit around the Su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s gravitational force makes the ball move down towards the centre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n’s gravitational force makes the Earth move in an orbit around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lectric field shows us how electric charges behave around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e what elec field looks like: </a:t>
            </a:r>
            <a:br>
              <a:rPr sz="1200"/>
            </a:br>
            <a:r>
              <a:rPr b="0" lang="en-US" sz="1200" spc="-1" strike="noStrike">
                <a:solidFill>
                  <a:srgbClr val="ffffff"/>
                </a:solidFill>
                <a:latin typeface="Arial"/>
              </a:rPr>
              <a:t>http://www.colorado.edu/physics/2000/waves_particles/wavpart3.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lectric field shows us how electric charges behave around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what elec field looks like: </a:t>
            </a:r>
            <a:br>
              <a:rPr sz="1200"/>
            </a:br>
            <a:r>
              <a:rPr b="0" lang="en-US" sz="1200" spc="-1" strike="noStrike">
                <a:solidFill>
                  <a:srgbClr val="000000"/>
                </a:solidFill>
                <a:latin typeface="Arial"/>
              </a:rPr>
              <a:t>http://www.colorado.edu/physics/2000/waves_particles/wavpart3.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sitive and negative charges attract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do two positive charges do to each oth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itive and negative charges attract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two positive charges do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ning discharges an excess of positive and negative charge within clouds, between clouds, or between clouds and the gr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ning discharges an excess of positive and negative charge within clouds, between clouds, or between clouds and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s textboo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78-79 – 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y questions 4 &amp; 5 on p81.</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d p139/140 and try question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s textboo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78-79 – 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questions 4 &amp; 5 on p8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p139/140 and t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magnetis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agnetic field is produced when an electric current flows through a coil of wire. This is the basis of the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make an electromagnet stronger by doing these thing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apping the coil around an iron core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ng more turns to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creasing the current flowing through the coi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agnetic field is produced when an electric current flows through a coil of wire. This is the basis of the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make an electromagnet stronger by doing these th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apping the coil around an iron c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ng more turns to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ing the current flowing through the co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 Simple Electromag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Electromag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electromagne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better than magnets because the magnetism can be turned off and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lectromag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re better than magnets because the magnetism can be turned off and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ectromagnet animati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http://www.bbc.co.uk/schools/ks3bitesize/science/physics/magnetism_4.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magnet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4.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ic bells like the ones used in most schools also contain an electromagnet. </a:t>
            </a:r>
            <a:br>
              <a:rPr sz="1200"/>
            </a:b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current flows through the circuit, the electromagnet makes a magnetic fiel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attracts the springy metal arm.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rm hits the gong, which makes a sound and the circuit is broke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lectromagnet is turned off and the springy metal arm moves back.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ircuit is complete agai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ic bells like the ones used in most schools also contain an electromagne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urrent flows through the circuit, the electromagnet makes a magnetic fie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attracts the springy metal a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m hits the gong, which makes a sound and the circuit is brok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lectromagnet is turned off and the springy metal arm moves bac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ircuit is complete ag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imation of electric bel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bbc.co.uk/schools/ks3bitesize/science/physics/magnetism_5.sht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imation of electric b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bbc.co.uk/schools/ks3bitesize/science/physics/magnetism_5.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bjects have a force that attracts them towards each other. This is called gravity. Even you attract other objects to you because of gravity. But you have too little mass for the force to be very strong. Gravity only becomes noticeable when there is a really massive object like a moon, planet or st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ational Fiel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 has more mass than the Moon, so the gravitational force is greater on the Earth than it is on the Moon.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gravitational force pulls objects towards the centre of the Earth.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wn" is towards the centre of the Earth, wherever you are on the plane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ational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 has more mass than the Moon, so the gravitational force is greater on the Earth than it is on the Mo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gravitational force pulls objects towards the centre of the Ear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is towards the centre of the Earth, wherever you are on the pla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F3A09005-AC47-4484-9B14-A0DEB6955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4E33BC5-251F-48DB-9400-98B2429FF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B3341C9-5EB9-4CCF-9AA5-F73DFAB3BD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4EA7CA2-C403-4490-95BF-7E1D7F2F56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8D8EE-0C30-4378-8413-A63D72A5F5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C7089E-B162-43A8-BFCD-FDACED0882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636F7B-8225-4E19-9954-51FF2D48B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7DB6D5-B10F-4E84-B724-13E170BF48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4F4D1-12D3-43F5-8C6B-30D8B2F1DF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490C1-2EBE-4825-8AFE-7D58427C9E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83211-72E2-46FC-85CD-2CD0D3B82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186357C-5ABD-4DB1-ACD4-464854A507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33523A-F98E-414C-9BCB-B96E04CBE2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9A66E-547B-4BCC-8F88-AED371F35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C4450-3C01-4F49-8DC8-329A608501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4D0847-0231-4B04-9DED-0A332C85C4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6AD439-AB8A-43FF-8E56-C2FEB6040F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870EC29-2B5A-44ED-A0F6-E82DE02A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4825CC9-77BB-45E5-9C85-9A73849B6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368F25C-01C2-4C95-815A-7EB885DF4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41D56BB-143A-4AF6-82A1-79EA37D34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FF8E1C2-5AD3-4CA4-921B-4D7102FDF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39FA5D1-2E6B-4E77-9C76-3020AC1B31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05E12E1-9856-4191-A4BE-C349BFE09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42ADA-F151-4D26-9BD9-601E760B52AC}" type="slidenum">
              <a:rPr b="0" lang="en-GB"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01C30-BE13-48EE-A22A-28FF6790A3B5}" type="slidenum">
              <a:rPr b="0" lang="en-GB"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5e5ff"/>
                </a:solidFill>
                <a:uFillTx/>
                <a:latin typeface="Comic Sans MS"/>
              </a:rPr>
              <a:t>Magnetic Field</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Magnets have both a north pole and a south pole.</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he magnetic lines of force flow from pole to pole as shown in the sketch.</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It is easy to feel the attraction or repulsion when one plays with two magnets. </a:t>
            </a:r>
            <a:endParaRPr b="0" lang="en-US" sz="2400" spc="-1" strike="noStrike">
              <a:solidFill>
                <a:srgbClr val="ffffff"/>
              </a:solidFill>
              <a:latin typeface="Garamond"/>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9" name="Picture 10" descr=""/>
          <p:cNvPicPr/>
          <p:nvPr/>
        </p:nvPicPr>
        <p:blipFill>
          <a:blip r:embed="rId1"/>
          <a:stretch/>
        </p:blipFill>
        <p:spPr>
          <a:xfrm>
            <a:off x="4500720" y="2492280"/>
            <a:ext cx="4271760" cy="267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pic>
        <p:nvPicPr>
          <p:cNvPr id="130" name="Picture 7" descr=""/>
          <p:cNvPicPr/>
          <p:nvPr/>
        </p:nvPicPr>
        <p:blipFill>
          <a:blip r:embed="rId1"/>
          <a:stretch/>
        </p:blipFill>
        <p:spPr>
          <a:xfrm>
            <a:off x="539640" y="1700280"/>
            <a:ext cx="3652920" cy="3816360"/>
          </a:xfrm>
          <a:prstGeom prst="rect">
            <a:avLst/>
          </a:prstGeom>
          <a:ln w="0">
            <a:noFill/>
          </a:ln>
        </p:spPr>
      </p:pic>
      <p:pic>
        <p:nvPicPr>
          <p:cNvPr id="131" name="Picture 8" descr=""/>
          <p:cNvPicPr/>
          <p:nvPr/>
        </p:nvPicPr>
        <p:blipFill>
          <a:blip r:embed="rId2"/>
          <a:stretch/>
        </p:blipFill>
        <p:spPr>
          <a:xfrm>
            <a:off x="4716360" y="2060640"/>
            <a:ext cx="3888000" cy="3371760"/>
          </a:xfrm>
          <a:prstGeom prst="rect">
            <a:avLst/>
          </a:prstGeom>
          <a:ln w="0">
            <a:noFill/>
          </a:ln>
        </p:spPr>
      </p:pic>
      <p:sp>
        <p:nvSpPr>
          <p:cNvPr id="132" name="Rectangle 9"/>
          <p:cNvSpPr/>
          <p:nvPr/>
        </p:nvSpPr>
        <p:spPr>
          <a:xfrm>
            <a:off x="611280" y="5546880"/>
            <a:ext cx="34671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Earth’s gravitational force makes the ball move down towards the centre of the Earth.</a:t>
            </a:r>
            <a:endParaRPr b="0" lang="en-US" sz="2000" spc="-1" strike="noStrike">
              <a:solidFill>
                <a:srgbClr val="ffffff"/>
              </a:solidFill>
              <a:latin typeface="Garamond"/>
            </a:endParaRPr>
          </a:p>
        </p:txBody>
      </p:sp>
      <p:sp>
        <p:nvSpPr>
          <p:cNvPr id="133" name="Rectangle 10"/>
          <p:cNvSpPr/>
          <p:nvPr/>
        </p:nvSpPr>
        <p:spPr>
          <a:xfrm>
            <a:off x="4859280" y="5516640"/>
            <a:ext cx="355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Sun’s gravitational force makes the Earth move in an orbit around the Sun.</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ic Fields</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20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n electric field shows us how electric charges behave around each other.</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See what elec field looks like: </a:t>
            </a:r>
            <a:br>
              <a:rPr sz="3200"/>
            </a:br>
            <a:r>
              <a:rPr b="0" lang="en-GB" sz="3200" spc="-1" strike="noStrike">
                <a:solidFill>
                  <a:srgbClr val="ffffff"/>
                </a:solidFill>
                <a:latin typeface="Comic Sans MS"/>
              </a:rPr>
              <a:t>http://www.colorado.edu/physics/2000/waves_particles/wavpart3.htm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174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Positive and negative charges attract each other.</a:t>
            </a: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What do two positive charges do to each other?</a:t>
            </a:r>
            <a:endParaRPr b="0" lang="en-US" sz="2800" spc="-1" strike="noStrike">
              <a:solidFill>
                <a:srgbClr val="ffffff"/>
              </a:solidFill>
              <a:latin typeface="Garamond"/>
            </a:endParaRPr>
          </a:p>
        </p:txBody>
      </p:sp>
      <p:pic>
        <p:nvPicPr>
          <p:cNvPr id="138" name="Picture 11" descr=""/>
          <p:cNvPicPr/>
          <p:nvPr/>
        </p:nvPicPr>
        <p:blipFill>
          <a:blip r:embed="rId1"/>
          <a:srcRect l="0" t="0" r="0" b="7020"/>
          <a:stretch/>
        </p:blipFill>
        <p:spPr>
          <a:xfrm>
            <a:off x="4900680" y="1790640"/>
            <a:ext cx="3524040" cy="4200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lectric Fields</a:t>
            </a: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Lightning discharges an excess of positive and negative charge within clouds, between clouds, or between clouds and the ground.</a:t>
            </a:r>
            <a:endParaRPr b="0" lang="en-US" sz="2800" spc="-1" strike="noStrike">
              <a:solidFill>
                <a:srgbClr val="ffffff"/>
              </a:solidFill>
              <a:latin typeface="Garamond"/>
            </a:endParaRPr>
          </a:p>
        </p:txBody>
      </p:sp>
      <p:pic>
        <p:nvPicPr>
          <p:cNvPr id="141" name="Picture 7" descr=""/>
          <p:cNvPicPr/>
          <p:nvPr/>
        </p:nvPicPr>
        <p:blipFill>
          <a:blip r:embed="rId1"/>
          <a:stretch/>
        </p:blipFill>
        <p:spPr>
          <a:xfrm>
            <a:off x="5003640" y="1844640"/>
            <a:ext cx="3713400" cy="410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Extension:</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Physics textbook:</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78-79 – Gravity</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Try questions 4 &amp; 5 on p81.</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Read p139/140 and try ques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Electromagnetism</a:t>
            </a: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magnetic field is produced when an electric current flows through a coil of wire. This is the basis of the electromagnet. </a:t>
            </a:r>
            <a:br>
              <a:rPr sz="3200"/>
            </a:br>
            <a:r>
              <a:rPr b="0" lang="en-US" sz="3200" spc="-1" strike="noStrike">
                <a:solidFill>
                  <a:srgbClr val="ffffff"/>
                </a:solidFill>
                <a:latin typeface="Comic Sans MS"/>
              </a:rPr>
              <a:t> </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can make an electromagnet stronger by doing these things: </a:t>
            </a:r>
            <a:endParaRPr b="0" lang="en-US" sz="32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rapping the coil around an iron core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ing more turns to the coil </a:t>
            </a:r>
            <a:endParaRPr b="0" lang="en-US" sz="2400" spc="-1" strike="noStrike">
              <a:solidFill>
                <a:srgbClr val="ffffff"/>
              </a:solidFill>
              <a:latin typeface="Garamond"/>
            </a:endParaRPr>
          </a:p>
          <a:p>
            <a:pPr lvl="2" marL="1131480" indent="-22608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increasing the current flowing through the coil. </a:t>
            </a:r>
            <a:endParaRPr b="0" lang="en-US" sz="24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 Simple Electromagnet:</a:t>
            </a:r>
            <a:endParaRPr b="1" lang="en-US" sz="4400" spc="-1" strike="noStrike">
              <a:solidFill>
                <a:srgbClr val="e5e5ff"/>
              </a:solidFill>
              <a:latin typeface="Garamond"/>
            </a:endParaRPr>
          </a:p>
        </p:txBody>
      </p:sp>
      <p:pic>
        <p:nvPicPr>
          <p:cNvPr id="113" name="Picture 4" descr="Image: electromagnet"/>
          <p:cNvPicPr/>
          <p:nvPr/>
        </p:nvPicPr>
        <p:blipFill>
          <a:blip r:embed="rId1"/>
          <a:stretch/>
        </p:blipFill>
        <p:spPr>
          <a:xfrm>
            <a:off x="2340000" y="1628640"/>
            <a:ext cx="4438800" cy="476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Using electromagnet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Many objects around you contain electromagnets. They are found in electric motors and loudspeakers. Very large and powerful electromagnets are used as lifting magnets in scrap yards to pick up, then drop, old cars and other scrap iron and steel. </a:t>
            </a:r>
            <a:endParaRPr b="0" lang="en-US" sz="2200" spc="-1" strike="noStrike">
              <a:solidFill>
                <a:srgbClr val="ffffff"/>
              </a:solidFill>
              <a:latin typeface="Garamond"/>
            </a:endParaRPr>
          </a:p>
          <a:p>
            <a:pPr marL="343080" indent="-34308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Comic Sans MS"/>
              </a:rPr>
              <a:t>They are better than magnets because the magnetism can be turned off and on.</a:t>
            </a:r>
            <a:endParaRPr b="0" lang="en-US" sz="2200" spc="-1" strike="noStrike">
              <a:solidFill>
                <a:srgbClr val="ffffff"/>
              </a:solidFill>
              <a:latin typeface="Garamond"/>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16" name="Picture 7" descr="image008"/>
          <p:cNvPicPr/>
          <p:nvPr/>
        </p:nvPicPr>
        <p:blipFill>
          <a:blip r:embed="rId1"/>
          <a:stretch/>
        </p:blipFill>
        <p:spPr>
          <a:xfrm>
            <a:off x="4643280" y="1484280"/>
            <a:ext cx="3980160" cy="504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5">
                                            <p:txEl>
                                              <p:pRg st="1" end="1"/>
                                            </p:txEl>
                                          </p:spTgt>
                                        </p:tgtEl>
                                        <p:attrNameLst>
                                          <p:attrName>style.visibility</p:attrName>
                                        </p:attrNameLst>
                                      </p:cBhvr>
                                      <p:to>
                                        <p:strVal val="visible"/>
                                      </p:to>
                                    </p:set>
                                    <p:anim calcmode="lin" valueType="num">
                                      <p:cBhvr additive="base">
                                        <p:cTn id="7"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omic Sans MS"/>
              </a:rPr>
              <a:t>Electromagnet animation</a:t>
            </a: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100000"/>
              </a:lnSpc>
              <a:spcBef>
                <a:spcPts val="799"/>
              </a:spcBef>
              <a:buClr>
                <a:srgbClr val="ccff3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http://www.bbc.co.uk/schools/ks3bitesize/science/physics/magnetism_4.shtml</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ffffff"/>
                </a:solidFill>
                <a:uFillTx/>
                <a:latin typeface="Comic Sans MS"/>
              </a:rPr>
              <a:t>Electric bells</a:t>
            </a:r>
            <a:endParaRPr b="1" lang="en-US" sz="4400" spc="-1" strike="noStrike">
              <a:solidFill>
                <a:srgbClr val="e5e5ff"/>
              </a:solidFill>
              <a:latin typeface="Garamond"/>
            </a:endParaRPr>
          </a:p>
        </p:txBody>
      </p:sp>
      <p:sp>
        <p:nvSpPr>
          <p:cNvPr id="120"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lectric bells like the ones used in most schools also contain an electromagnet. </a:t>
            </a:r>
            <a:br>
              <a:rPr sz="2800"/>
            </a:br>
            <a:r>
              <a:rPr b="0" lang="en-US" sz="2800" spc="-1" strike="noStrike">
                <a:solidFill>
                  <a:srgbClr val="ffffff"/>
                </a:solidFill>
                <a:latin typeface="Comic Sans MS"/>
              </a:rPr>
              <a:t> </a:t>
            </a:r>
            <a:endParaRPr b="0" lang="en-US" sz="28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hen the current flows through the circuit, the electromagnet makes a magnetic field.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attracts the springy metal arm.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arm hits the gong, which makes a sound and the circuit is broken.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electromagnet is turned off and the springy metal arm moves back. </a:t>
            </a:r>
            <a:endParaRPr b="0" lang="en-US" sz="2400" spc="-1" strike="noStrike">
              <a:solidFill>
                <a:srgbClr val="ffffff"/>
              </a:solidFill>
              <a:latin typeface="Garamond"/>
            </a:endParaRPr>
          </a:p>
          <a:p>
            <a:pPr lvl="1" marL="743040" indent="-28584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circuit is complete again.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Animation of electric bell</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http://www.bbc.co.uk/schools/ks3bitesize/science/physics/magnetism_5.shtml</a:t>
            </a:r>
            <a:endParaRPr b="0" lang="en-US" sz="28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ffffff"/>
                </a:solidFill>
                <a:uFillTx/>
                <a:latin typeface="Comic Sans MS"/>
              </a:rPr>
              <a:t>Gravitational Field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All objects have a force that attracts them towards each other. This is called </a:t>
            </a:r>
            <a:r>
              <a:rPr b="0" lang="en-GB" sz="3200" spc="-1" strike="noStrike">
                <a:solidFill>
                  <a:srgbClr val="ff0000"/>
                </a:solidFill>
                <a:latin typeface="Comic Sans MS"/>
              </a:rPr>
              <a:t>gravity</a:t>
            </a:r>
            <a:r>
              <a:rPr b="0" lang="en-GB" sz="3200" spc="-1" strike="noStrike">
                <a:solidFill>
                  <a:srgbClr val="ffffff"/>
                </a:solidFill>
                <a:latin typeface="Comic Sans MS"/>
              </a:rPr>
              <a:t>. Even you attract other objects to you because of gravity. But you have too little mass for the force to be very strong. Gravity only becomes noticeable when there is a really massive object like a moon, planet or st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omic Sans MS"/>
              </a:rPr>
              <a:t>Gravitational Field</a:t>
            </a:r>
            <a:endParaRPr b="1" lang="en-US" sz="4400" spc="-1" strike="noStrike">
              <a:solidFill>
                <a:srgbClr val="e5e5ff"/>
              </a:solidFill>
              <a:latin typeface="Garamond"/>
            </a:endParaRPr>
          </a:p>
        </p:txBody>
      </p:sp>
      <p:sp>
        <p:nvSpPr>
          <p:cNvPr id="126" name="PlaceHolder 2"/>
          <p:cNvSpPr>
            <a:spLocks noGrp="1"/>
          </p:cNvSpPr>
          <p:nvPr>
            <p:ph/>
          </p:nvPr>
        </p:nvSpPr>
        <p:spPr>
          <a:xfrm>
            <a:off x="468360" y="1557360"/>
            <a:ext cx="8229600" cy="218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 has more mass than the Moon, so the gravitational force is greater on the Earth than it is on the Moon. </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The Earth's gravitational force pulls objects towards the centre of the Earth.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7" name="Picture 6" descr=""/>
          <p:cNvPicPr/>
          <p:nvPr/>
        </p:nvPicPr>
        <p:blipFill>
          <a:blip r:embed="rId1"/>
          <a:stretch/>
        </p:blipFill>
        <p:spPr>
          <a:xfrm>
            <a:off x="3244680" y="3938760"/>
            <a:ext cx="2652840" cy="2187360"/>
          </a:xfrm>
          <a:prstGeom prst="rect">
            <a:avLst/>
          </a:prstGeom>
          <a:ln w="0">
            <a:noFill/>
          </a:ln>
        </p:spPr>
      </p:pic>
      <p:sp>
        <p:nvSpPr>
          <p:cNvPr id="128" name="Rectangle 7"/>
          <p:cNvSpPr/>
          <p:nvPr/>
        </p:nvSpPr>
        <p:spPr>
          <a:xfrm>
            <a:off x="6084720" y="4005360"/>
            <a:ext cx="2880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a:t>
            </a:r>
            <a:r>
              <a:rPr b="0" lang="en-GB" sz="2000" spc="-1" strike="noStrike">
                <a:solidFill>
                  <a:srgbClr val="ffffff"/>
                </a:solidFill>
                <a:latin typeface="Comic Sans MS"/>
              </a:rPr>
              <a:t>Down" is towards the centre of the Earth, wherever you are on the planet</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26T18:37:17Z</dcterms:created>
  <dc:creator>Laura</dc:creator>
  <dc:description/>
  <dc:language>en-US</dc:language>
  <cp:lastModifiedBy>RomaK</cp:lastModifiedBy>
  <dcterms:modified xsi:type="dcterms:W3CDTF">2015-09-03T12:25:12Z</dcterms:modified>
  <cp:revision>7</cp:revision>
  <dc:subject/>
  <dc:title>Magnetic Field</dc:title>
</cp:coreProperties>
</file>