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0308-5E58-4218-8B68-93635B4507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717-78CE-436E-AF78-56535DAA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7A1-DD16-4890-AE3E-C2D3CFBA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58C-8161-4592-B00B-8EDDB52C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F89F-49B8-4CA6-8A80-E3F7FCA4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09D4-64D8-4622-AD68-BD35336D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1AEC-8944-46C6-8565-A2DF141D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37B3-2714-4088-9E7E-96BE9F06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64B3-0603-4267-A8AC-E89CDA16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43D1-3135-41DD-B91E-ABBB9C74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247A-3BDE-4ECA-B278-C6E65972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3BF3-B66D-4811-A954-D1A22130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606-F519-4969-AEDF-A1D83E7A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EEE0-3D89-42E9-8D01-362BFAA7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D03C-3091-40DE-9A30-1C1EE7D7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0F2C-B2B6-4152-AE47-617F1596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5345-8E34-431F-BE20-C28F0197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ADD2-8B92-411F-A3E0-34E57BBC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4B4-A4B3-4ECC-AC69-5DF7C831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159-6DE1-4BFE-AD07-CA59B2F2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4CD-0343-42D9-82D6-71C36DE7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BB4-FA01-4C47-9004-B4EAE85F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2628-C8F0-4173-AF7F-6C82CA17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F91-A3CA-460A-9855-5EB77F73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2A4-9BA5-4E8A-A153-C69C4E5F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367E-BD57-4460-8F5A-3958B09735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9BE6-905B-48A0-A713-98B9BE55DF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Renewable energy sources includ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Wind,solar,wave,  goethermal,hydr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Non Renewable Sources includ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– made from dead forest materi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Gas and oil – made from dead sea creatur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Power station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 –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hemical energy to heat energ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umped Storage System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otential energy at the top dam to kinetic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nergy in pipes to electrical energy at bottom reservoi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LEGION</cp:lastModifiedBy>
  <dcterms:modified xsi:type="dcterms:W3CDTF">2015-09-21T07:19:33Z</dcterms:modified>
  <cp:revision>25</cp:revision>
  <dc:subject/>
  <dc:title>Slide 1</dc:title>
</cp:coreProperties>
</file>