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66763-89DE-49AE-B956-EFB315B02C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ewable energy sources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,solar,wave,  goethermal,hyd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newable energy sources inclu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nd,solar,wave,  goethermal,hydr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 Renewable Sources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 , oil and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n Renewable Sources inclu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al , oil and ga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 – made from dead forest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 and oil – made from dead sea cr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al – made from dead forest materia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s and oil – made from dead sea creatur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s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 , oil and gas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energy to heat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wer sta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al , oil and gas –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mical energy to heat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mped Storag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tial energy at the top dam to kine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in pipes to electrical energy at bottom reservo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mped Storage Syste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ential energy at the top dam to kinetic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in pipes to electrical energy at bottom reservoi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 sold at peak pr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city bought back at night at low price and used to pump water back up to the top d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 sold at peak pri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city bought back at night at low price and used to pump water back up to the top da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004F-90E1-4F8A-BE6B-1121EEAD3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8411-F73F-4D26-86C8-E2320FFE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E7C3-5EAB-4E95-81AE-6AB646DEE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7A21-AF79-4381-9370-2B7CCD4D4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AC5DE-ED3C-4992-9769-E132AED21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94190-AA12-4219-B04D-A22296D6D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0774E-7DDC-4F98-9C59-D73EE7407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062EB-DDB7-49DA-B0A8-A50F152F8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B5D1B-95B4-4E1F-9CD0-7C7E5C016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FD4F6-B186-47AA-87DA-3EC6CE306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0A751-4B1C-45F1-A6B9-13D279F3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37C9-E316-4FD9-9EF0-BFE708840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D3B59-2BF0-46CC-B78D-CCBD8998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52D08-F079-4F6A-A308-08AA2880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1E50F-1573-4578-BE68-4F2D1D16E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9C7FC-A499-410E-9852-05CE9629C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17B26-6DB0-4B5B-9071-5A1470763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9E17-87F3-4C76-A719-9A4850F79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AF7B-0719-4339-9042-F56520B12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EFDD-F780-44B6-AD62-B5E921618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57B5-A1AB-42CB-AD6B-C66D97D02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58DF-29F1-4268-B5D5-33D40E26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388B-DBDC-4E41-BD38-21B7E220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538D-4CBE-40EF-9A96-4917A947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71498-DD29-4C77-8CB4-5B63BD24419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243CD-70F7-4DFB-9491-0938C144057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5"/>
          <p:cNvSpPr/>
          <p:nvPr/>
        </p:nvSpPr>
        <p:spPr>
          <a:xfrm flipV="1">
            <a:off x="1066680" y="640440"/>
            <a:ext cx="662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NERGY MATT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66ff"/>
                </a:solidFill>
                <a:latin typeface="Tahoma"/>
              </a:rPr>
              <a:t>Renewable energy sources include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66ff"/>
                </a:solidFill>
                <a:latin typeface="Tahoma"/>
              </a:rPr>
              <a:t>Wind,solar,wave,  goethermal,hydro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NERGY MATT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Non Renewable Sources include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Coal , oil and gas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NERGY MATT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Coal – made from dead forest material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Gas and oil – made from dead sea creatures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NERGY MATT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Power stations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Coal , oil and gas –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Chemical energy to heat energy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NERGY MATT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8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Pumped Storage System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lnSpc>
                <a:spcPct val="8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Potential energy at the top dam to kinetic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lnSpc>
                <a:spcPct val="8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energy in pipes to electrical energy at bottom reservoir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NERGY MATT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Electricity sold at peak price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lnSpc>
                <a:spcPct val="8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Electrcity bought back at night at low price and used to pump water back up to the top dam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7:42:04Z</dcterms:created>
  <dc:creator>wallan</dc:creator>
  <dc:description/>
  <dc:language>en-US</dc:language>
  <cp:lastModifiedBy>LEGION</cp:lastModifiedBy>
  <dcterms:modified xsi:type="dcterms:W3CDTF">2015-09-21T07:19:33Z</dcterms:modified>
  <cp:revision>25</cp:revision>
  <dc:subject/>
  <dc:title>Slide 1</dc:title>
</cp:coreProperties>
</file>