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5BD9-3091-4F9D-B1B3-769488C6AC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bas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basics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transf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w of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always conserved, it is never "lost" or "wasted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w of Conservation of Energ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key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ankey diagram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and heat are NOT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d 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 and heat are NOT THE SAM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hot or cold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degrees Cels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emperatu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hot or cold it is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Measured in degrees Celsiu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thermal energy, measured in joules or 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ea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amount of thermal energy, measured in joules or J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cup of hot tea has heat energy in the form of kinetic energy from its particles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 swimming pool at 30°C is at a lower temperature than a cup of tea at 80°C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U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wimming pool contains more water, so it stores more thermal energy or heat.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eaker of water boil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small beaker of water boils firs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large beaker contains more water and needs more thermal energy or heat to reach 100°C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hemical energy stored in it is transferred to the surroundings as thermal energy, sound energy and kinetic energy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ound energy can be transferred to your eardrum as kinetic energy (movement energy). 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he battery transfers stored chemical energy as electrical energy. The electrical energy is transferred to the surroundings by the lamp as light energy and thermal energy (heat energy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D31-CCB2-4E99-AA54-13C90B70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BDD-E2E3-4703-99A1-A96E91C1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994-1C26-4839-A234-9DB9231D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67C-00F6-4866-B6FB-5BA0DC1B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19CC-DDF2-4C84-A743-AAD82814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84D9-8D72-481C-A0F9-81E4FB9B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B29E-C40F-45B8-B74D-603999DE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E97E-8B17-49B5-81CE-D253F663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8915-841A-4421-9173-5F56B782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EE8A-8005-494E-B668-A4558250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3781-00D9-4C96-9E8C-276A027D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952B-8636-4A4B-BD1B-51B67464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5748-0F58-43FD-8C71-D87C0723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DFF4-2524-4D29-8C72-CA8DF54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11B3-D7BA-4313-829B-10BF1D5A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0A23-CA99-4BA7-BC84-45599101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A1DA-9688-4196-BD47-59851EE6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AE3-C7C4-4F92-9434-7B10FD04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997-BBD4-4BA6-A820-7BBC3803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7A3-0690-430C-A00B-9B461A5C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478-C903-4CDE-B686-857BB48F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755-C147-4438-A5E1-DF48ACCF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EB9-3AB7-44D9-9182-203EEF6C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068-7F24-4EB7-BAB0-C6242251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0CA9-17C3-4B42-8FD1-59D4FD73717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018D-4DE2-4579-8BAA-F5CDE3C1DA24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basics</a:t>
            </a: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Image: an energy transfer diagram for a battery, lamp and wires."/>
          <p:cNvPicPr/>
          <p:nvPr/>
        </p:nvPicPr>
        <p:blipFill>
          <a:blip r:embed="rId1"/>
          <a:stretch/>
        </p:blipFill>
        <p:spPr>
          <a:xfrm>
            <a:off x="611280" y="2492280"/>
            <a:ext cx="8137440" cy="4213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Image: battery and bulb"/>
          <p:cNvPicPr/>
          <p:nvPr/>
        </p:nvPicPr>
        <p:blipFill>
          <a:blip r:embed="rId2"/>
          <a:stretch/>
        </p:blipFill>
        <p:spPr>
          <a:xfrm>
            <a:off x="539640" y="260280"/>
            <a:ext cx="1952640" cy="19526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2843280" y="476280"/>
            <a:ext cx="44593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Energy transfer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The Law of Conservation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820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Energy is always conserved, it is never "lost" or "wasted“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Some energy transfers are useful and some are no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Sankey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4" descr="Image: sankey diagram"/>
          <p:cNvPicPr/>
          <p:nvPr/>
        </p:nvPicPr>
        <p:blipFill>
          <a:blip r:embed="rId1"/>
          <a:stretch/>
        </p:blipFill>
        <p:spPr>
          <a:xfrm>
            <a:off x="684360" y="1700280"/>
            <a:ext cx="67672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Temperature </a:t>
            </a:r>
            <a:br>
              <a:rPr sz="6000"/>
            </a:br>
            <a:r>
              <a:rPr b="1" lang="en-GB" sz="6000" spc="-1" strike="noStrike">
                <a:solidFill>
                  <a:srgbClr val="ffffff"/>
                </a:solidFill>
                <a:latin typeface="Arial Black"/>
              </a:rPr>
              <a:t>and Heat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8720" y="3141720"/>
            <a:ext cx="88549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800" spc="-1" strike="noStrike">
                <a:solidFill>
                  <a:srgbClr val="ffcc00"/>
                </a:solidFill>
                <a:latin typeface="Arial Black"/>
              </a:rPr>
              <a:t>Temperature and heat are </a:t>
            </a:r>
            <a:r>
              <a:rPr b="0" lang="en-GB" sz="5400" spc="-1" strike="noStrike">
                <a:solidFill>
                  <a:srgbClr val="fe1f08"/>
                </a:solidFill>
                <a:latin typeface="Arial Black"/>
              </a:rPr>
              <a:t>NOT THE SAME.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empera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124000" y="2565000"/>
            <a:ext cx="77724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How hot or cold it i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degrees Celsiu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5" descr="Image: thermometer"/>
          <p:cNvPicPr/>
          <p:nvPr/>
        </p:nvPicPr>
        <p:blipFill>
          <a:blip r:embed="rId1"/>
          <a:stretch/>
        </p:blipFill>
        <p:spPr>
          <a:xfrm>
            <a:off x="324000" y="189000"/>
            <a:ext cx="1971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He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amount of thermal energy, measured in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joules or J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5275440" y="3213000"/>
            <a:ext cx="386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9" descr="Image: a hot cup of tea"/>
          <p:cNvPicPr/>
          <p:nvPr/>
        </p:nvPicPr>
        <p:blipFill>
          <a:blip r:embed="rId1"/>
          <a:stretch/>
        </p:blipFill>
        <p:spPr>
          <a:xfrm>
            <a:off x="111240" y="2492280"/>
            <a:ext cx="3160440" cy="3819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780000" y="3305880"/>
            <a:ext cx="48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A cup of hot tea has </a:t>
            </a:r>
            <a:r>
              <a:rPr b="1" lang="en-GB" sz="3600" spc="-1" strike="noStrike">
                <a:solidFill>
                  <a:srgbClr val="ffcc00"/>
                </a:solidFill>
                <a:latin typeface="Arial Black"/>
              </a:rPr>
              <a:t>heat energy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 in the form of </a:t>
            </a:r>
            <a:r>
              <a:rPr b="1" lang="en-GB" sz="3600" spc="-1" strike="noStrike">
                <a:solidFill>
                  <a:srgbClr val="fe1f08"/>
                </a:solidFill>
                <a:latin typeface="Arial Black"/>
              </a:rPr>
              <a:t>kinetic energy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from its particl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A swimming pool at 30°C is at </a:t>
            </a:r>
            <a:r>
              <a:rPr b="0" lang="en-GB" sz="4000" spc="-1" strike="noStrike">
                <a:solidFill>
                  <a:srgbClr val="fe1f08"/>
                </a:solidFill>
                <a:latin typeface="Arial Black"/>
              </a:rPr>
              <a:t>a lower temperature</a:t>
            </a:r>
            <a:r>
              <a:rPr b="0" lang="en-GB" sz="4000" spc="-1" strike="noStrike">
                <a:solidFill>
                  <a:srgbClr val="ffcc00"/>
                </a:solidFill>
                <a:latin typeface="Arial Black"/>
              </a:rPr>
              <a:t> than a cup of tea at 80°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Picture 4" descr="MPj04065610000[1]"/>
          <p:cNvPicPr/>
          <p:nvPr/>
        </p:nvPicPr>
        <p:blipFill>
          <a:blip r:embed="rId1"/>
          <a:stretch/>
        </p:blipFill>
        <p:spPr>
          <a:xfrm>
            <a:off x="395280" y="2421000"/>
            <a:ext cx="4681440" cy="36576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5"/>
          <p:cNvSpPr/>
          <p:nvPr/>
        </p:nvSpPr>
        <p:spPr>
          <a:xfrm>
            <a:off x="5364000" y="2205000"/>
            <a:ext cx="3780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e1f08"/>
                </a:solidFill>
                <a:latin typeface="Arial Black"/>
              </a:rPr>
              <a:t>BUT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swimming pool contains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more water,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o it stores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more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rmal energy or heat.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The small beaker of water boils firs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378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600" spc="-1" strike="noStrike">
                <a:solidFill>
                  <a:srgbClr val="ffcc00"/>
                </a:solidFill>
                <a:latin typeface="Arial Black"/>
              </a:rPr>
              <a:t>The large beaker contains more water and </a:t>
            </a:r>
            <a:r>
              <a:rPr b="0" lang="en-GB" sz="3600" spc="-1" strike="noStrike">
                <a:solidFill>
                  <a:srgbClr val="fe1f08"/>
                </a:solidFill>
                <a:latin typeface="Arial Black"/>
              </a:rPr>
              <a:t>needs more thermal energy or heat to reach 100°C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Image: 2 Beakers of water. The small beaker of water boils first "/>
          <p:cNvPicPr/>
          <p:nvPr/>
        </p:nvPicPr>
        <p:blipFill>
          <a:blip r:embed="rId1"/>
          <a:stretch/>
        </p:blipFill>
        <p:spPr>
          <a:xfrm>
            <a:off x="4211640" y="2421000"/>
            <a:ext cx="4681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4360" y="3716280"/>
            <a:ext cx="77724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Chemic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in it is transferred to the surroundings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3" descr="Image: explosive"/>
          <p:cNvPicPr/>
          <p:nvPr/>
        </p:nvPicPr>
        <p:blipFill>
          <a:blip r:embed="rId1"/>
          <a:stretch/>
        </p:blipFill>
        <p:spPr>
          <a:xfrm>
            <a:off x="1042920" y="404640"/>
            <a:ext cx="3889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Image: a childs drum"/>
          <p:cNvPicPr/>
          <p:nvPr/>
        </p:nvPicPr>
        <p:blipFill>
          <a:blip r:embed="rId1"/>
          <a:stretch/>
        </p:blipFill>
        <p:spPr>
          <a:xfrm>
            <a:off x="324000" y="333360"/>
            <a:ext cx="4537080" cy="31622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684360" y="4119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Sound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an be transferred to your eardrum as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kinetic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(movement energy).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26920" y="3500280"/>
            <a:ext cx="7772400" cy="627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The battery 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transfers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store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chemical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electrical </a:t>
            </a:r>
            <a:r>
              <a:rPr b="1" lang="en-GB" sz="3200" spc="-1" strike="noStrike">
                <a:solidFill>
                  <a:srgbClr val="ffcc00"/>
                </a:solidFill>
                <a:latin typeface="Arial Black"/>
              </a:rPr>
              <a:t>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. The electrical energy is transferred to the surroundings by the lamp as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light energy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and </a:t>
            </a:r>
            <a:r>
              <a:rPr b="1" lang="en-GB" sz="3200" spc="-1" strike="noStrike">
                <a:solidFill>
                  <a:srgbClr val="fe1f08"/>
                </a:solidFill>
                <a:latin typeface="Arial Black"/>
              </a:rPr>
              <a:t>thermal energy</a:t>
            </a:r>
            <a:r>
              <a:rPr b="0" lang="en-GB" sz="3200" spc="-1" strike="noStrike">
                <a:solidFill>
                  <a:srgbClr val="fe1f08"/>
                </a:solidFill>
                <a:latin typeface="Arial Black"/>
              </a:rPr>
              <a:t> (heat energy).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5" descr="Image: battery and bulb"/>
          <p:cNvPicPr/>
          <p:nvPr/>
        </p:nvPicPr>
        <p:blipFill>
          <a:blip r:embed="rId1"/>
          <a:stretch/>
        </p:blipFill>
        <p:spPr>
          <a:xfrm>
            <a:off x="611280" y="189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1:48:00Z</dcterms:created>
  <dc:creator>ICT Dept</dc:creator>
  <dc:description/>
  <dc:language>en-US</dc:language>
  <cp:lastModifiedBy>RomaK</cp:lastModifiedBy>
  <dcterms:modified xsi:type="dcterms:W3CDTF">2015-09-03T12:25:50Z</dcterms:modified>
  <cp:revision>12</cp:revision>
  <dc:subject/>
  <dc:title>Slide 1</dc:title>
</cp:coreProperties>
</file>