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898D-F6CF-4C34-9DE5-031E57C165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bas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basic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transf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always conserved, it is never "lost" or "wasted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w of Conservation of Energ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ke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ankey diagram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and heat are NOT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and heat are NOT THE SAM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hot or cold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degrees Cels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hot or cold it i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asured in degrees Celsiu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thermal energy, measured in joules or 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amount of thermal energy, measured in joules or J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U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eaker of water boil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mall beaker of water boils firs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9F8-F328-4048-AA2D-3FB592B5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5E6-8064-4ABD-AD1F-E014AEA6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EED-65BD-4C2D-AD21-3F41387D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C94-B68E-44A1-9A55-EFA17A62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4356-79DF-4B6F-8FFC-DB51E82A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17F8-1E32-48DA-8C69-FE7B84C5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988A-5F38-4094-B967-AEFD303B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2265-EBBA-4BC6-888D-D79BA5B6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B928-31CF-4742-9283-E39FFEA5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AE01-93FB-43CD-8EE8-59FFBDE6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8D83-03FD-4DDF-B9CE-F02956C7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E07-C1D1-449A-9CC6-618ADDDB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2962-0728-421E-B04A-2026BD10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7E12-AFFC-428F-8C9B-DB87A122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CB58-AD95-492C-9E4F-CC77D363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328B-1ED5-41AC-99A9-FC6029EB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1F17-9627-452C-B764-19DDE5D5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15A-8755-4066-AC12-9BA2759A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0CD-2C67-423F-BA17-0A06DC05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412-B776-41EF-84DB-9AAD847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FC2-BF0E-4E5C-9C48-87D7DBE9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103-9E57-4823-A204-118B903B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B2E-99F3-42FD-BC95-3F86D626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96F-023C-4DEB-B13F-DAB7BAB4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EBF5-4DAE-4FFE-864B-0AD0EBAFF2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FC53-8DA0-4149-95A3-CBCCE600B540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basics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Image: an energy transfer diagram for a battery, lamp and wires.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4213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Image: battery and bulb"/>
          <p:cNvPicPr/>
          <p:nvPr/>
        </p:nvPicPr>
        <p:blipFill>
          <a:blip r:embed="rId2"/>
          <a:stretch/>
        </p:blipFill>
        <p:spPr>
          <a:xfrm>
            <a:off x="539640" y="260280"/>
            <a:ext cx="1952640" cy="19526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2843280" y="476280"/>
            <a:ext cx="44593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transfer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Law of Conservation of Ener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820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Sankey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Picture 4" descr="Image: sankey diagram"/>
          <p:cNvPicPr/>
          <p:nvPr/>
        </p:nvPicPr>
        <p:blipFill>
          <a:blip r:embed="rId1"/>
          <a:stretch/>
        </p:blipFill>
        <p:spPr>
          <a:xfrm>
            <a:off x="684360" y="1700280"/>
            <a:ext cx="67672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Temperature </a:t>
            </a:r>
            <a:br>
              <a:rPr sz="6000"/>
            </a:b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and Hea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8720" y="3141720"/>
            <a:ext cx="8854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800" spc="-1" strike="noStrike">
                <a:solidFill>
                  <a:srgbClr val="ffcc00"/>
                </a:solidFill>
                <a:latin typeface="Arial Black"/>
              </a:rPr>
              <a:t>Temperature and heat are </a:t>
            </a:r>
            <a:r>
              <a:rPr b="0" lang="en-GB" sz="5400" spc="-1" strike="noStrike">
                <a:solidFill>
                  <a:srgbClr val="fe1f08"/>
                </a:solidFill>
                <a:latin typeface="Arial Black"/>
              </a:rPr>
              <a:t>NOT THE SAME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empera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124000" y="2565000"/>
            <a:ext cx="7772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How hot or cold it i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degrees Celsiu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5" descr="Image: thermometer"/>
          <p:cNvPicPr/>
          <p:nvPr/>
        </p:nvPicPr>
        <p:blipFill>
          <a:blip r:embed="rId1"/>
          <a:stretch/>
        </p:blipFill>
        <p:spPr>
          <a:xfrm>
            <a:off x="324000" y="189000"/>
            <a:ext cx="1971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He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amount of thermal energy, 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joules or J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5275440" y="3213000"/>
            <a:ext cx="386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9" descr="Image: a hot cup of tea"/>
          <p:cNvPicPr/>
          <p:nvPr/>
        </p:nvPicPr>
        <p:blipFill>
          <a:blip r:embed="rId1"/>
          <a:stretch/>
        </p:blipFill>
        <p:spPr>
          <a:xfrm>
            <a:off x="111240" y="2492280"/>
            <a:ext cx="3160440" cy="3819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3780000" y="3305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A cup of hot tea has </a:t>
            </a:r>
            <a:r>
              <a:rPr b="1" lang="en-GB" sz="3600" spc="-1" strike="noStrike">
                <a:solidFill>
                  <a:srgbClr val="ffcc00"/>
                </a:solidFill>
                <a:latin typeface="Arial Black"/>
              </a:rPr>
              <a:t>heat energy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in the form of </a:t>
            </a:r>
            <a:r>
              <a:rPr b="1" lang="en-GB" sz="3600" spc="-1" strike="noStrike">
                <a:solidFill>
                  <a:srgbClr val="fe1f08"/>
                </a:solidFill>
                <a:latin typeface="Arial Black"/>
              </a:rPr>
              <a:t>kinetic energy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from its particl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 swimming pool at 30°C is at </a:t>
            </a: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a lower temperature</a:t>
            </a: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 than a cup of tea at 80°C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4" descr="MPj04065610000[1]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6576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5364000" y="2205000"/>
            <a:ext cx="3780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e1f08"/>
                </a:solidFill>
                <a:latin typeface="Arial Black"/>
              </a:rPr>
              <a:t>BU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swimming pool contains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more water,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o it stores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more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rmal energy or heat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he small beaker of water boils fir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large beaker contains more water and 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needs more thermal energy or heat to reach 100°C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Image: 2 Beakers of water. The small beaker of water boils first "/>
          <p:cNvPicPr/>
          <p:nvPr/>
        </p:nvPicPr>
        <p:blipFill>
          <a:blip r:embed="rId1"/>
          <a:stretch/>
        </p:blipFill>
        <p:spPr>
          <a:xfrm>
            <a:off x="4211640" y="2421000"/>
            <a:ext cx="4681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360" y="371628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Chemic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in it is transferred to the surroundings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3" descr="Image: explosive"/>
          <p:cNvPicPr/>
          <p:nvPr/>
        </p:nvPicPr>
        <p:blipFill>
          <a:blip r:embed="rId1"/>
          <a:stretch/>
        </p:blipFill>
        <p:spPr>
          <a:xfrm>
            <a:off x="1042920" y="404640"/>
            <a:ext cx="3889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Image: a childs drum"/>
          <p:cNvPicPr/>
          <p:nvPr/>
        </p:nvPicPr>
        <p:blipFill>
          <a:blip r:embed="rId1"/>
          <a:stretch/>
        </p:blipFill>
        <p:spPr>
          <a:xfrm>
            <a:off x="324000" y="333360"/>
            <a:ext cx="4537080" cy="3162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4360" y="4119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an be transferred to your eardrum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(movement energy)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6920" y="3500280"/>
            <a:ext cx="77724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battery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transfer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chemical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electrical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The electrical energy is transferred to the surroundings by the lamp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light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(heat energy)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5" descr="Image: battery and bulb"/>
          <p:cNvPicPr/>
          <p:nvPr/>
        </p:nvPicPr>
        <p:blipFill>
          <a:blip r:embed="rId1"/>
          <a:stretch/>
        </p:blipFill>
        <p:spPr>
          <a:xfrm>
            <a:off x="611280" y="1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48:00Z</dcterms:created>
  <dc:creator>ICT Dept</dc:creator>
  <dc:description/>
  <dc:language>en-US</dc:language>
  <cp:lastModifiedBy>RomaK</cp:lastModifiedBy>
  <dcterms:modified xsi:type="dcterms:W3CDTF">2015-09-03T12:25:50Z</dcterms:modified>
  <cp:revision>12</cp:revision>
  <dc:subject/>
  <dc:title>Slide 1</dc:title>
</cp:coreProperties>
</file>