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9439-043A-4D6D-87AD-FA553EFA2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a property that enables something to do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has various forms (kinetic, potential, rest ener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etic energy is the energy of a moving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 = 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~1000 N (or ~ 225 lbs) to hit a nail and drive it 5 mm into a su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is a property that enables something to do 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has various forms (kinetic, potential, rest energ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inetic energy is the energy of a moving obj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v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E = --------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takes ~1000 N (or ~ 225 lbs) to hit a nail and drive it 5 mm into a surfa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behaves as both a particle and a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articles are called photons, which can be counted individu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also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length is the distance between adjacent peaks of the electric or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nm (nanometer) = 10–9 m       1μm (micron) = 10–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is the number of peaks that pass by any point each second, measured in cycles per second or Hertz (Hz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de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perties of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behaves as both a particle and a wa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particles are called photons, which can be counted individuall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is also an electromagnetic wa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avelength is the distance between adjacent peaks of the electric or magnetic fie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 nm (nanometer) = 10–9 m       1μm (micron) = 10–6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requency is the number of peaks that pass by any point each second, measured in cycles per second or Hertz (Hz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de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onsists of many individual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ravels at the speed c and can be characterized by a wavelength and a frequ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is an electromagnetic wa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consists of many individual phot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travels at the speed c and can be characterized by a wavelength and a frequenc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Form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of light is called the electromagnetic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portions of the spectrum are call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ble light - what we see with our 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frared light - beyond of the red end of rainb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ltraviolet light - beyond the blu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s - light with the longest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rays - wavelengths shorter than ultravio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- the shortest wavelength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y Forms of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pectrum of light is called the electromagnetic spect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portions of the spectrum are called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visible light - what we see with our ey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infrared light - beyond of the red end of rainb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ultraviolet light - beyond the blue 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o waves - light with the longest waveleng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 rays - wavelengths shorter than ultraviol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mma rays - the shortest wavelength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units – Her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Hz = 1 c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equency units – Hertz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 Hz = 1 c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ount of light is called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spectra of celestial bodies one can learn a wealth of information about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and Ma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mount of light is called inten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udying spectra of celestial bodies one can learn a wealth of information about th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 chemical elements have been identified in the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20 more have been created artifici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hemical element is made from a different type of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re made from particles called protons, neutrons, and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 form the nucleus in the center of th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surround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92 chemical elements have been identified in the Univers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arly 20 more have been created artificiall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chemical element is made from a different type of ato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oms are made from particles called protons, neutrons, and electr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tons and neutrons form the nucleus in the center of the ato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ctrons surround the nucleu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ly charged protons are hold together by the strong force, which overcomes electrical repul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ly charged electrons are attracted to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protons in an atom is called the atomic number, which is unique for different chemical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bined number of protons and neutrons in an atom is called the atomic mass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with different number of neutrons are called 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sitively charged protons are hold together by the strong force, which overcomes electrical repuls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gatively charged electrons are attracted to the nucleu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number of protons in an atom is called the atomic number, which is unique for different chemical elem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combined number of protons and neutrons in an atom is called the atomic mass numb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oms of the same element with different number of neutrons are called isotop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and Emission in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electrons in atoms can have only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ies, the atoms can absorb or release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in these amounts (quan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gets energy, jumps to an excited stat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ase the energy, and falls back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is emitted as a photon of ligh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n has exactly the same energy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has l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ption and Emission in G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nce electrons in atoms can have only specif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ies, the atoms can absorb or releas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ly in these amounts (quanta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ctron gets energy, jumps to an excited state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ease the energy, and falls back dow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nergy is emitted as a photon of ligh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hoton has exactly the same energy th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lectron has los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line spectrum consists of photons emitted as each electron falls back to lower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line spectrum appears when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bsorbed, causing electrons to jump up in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element or molecule produces its own distin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of spectral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es of Spect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ssion line spectrum consists of photons emitted as each electron falls back to lower leve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ption line spectrum appears when phot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e absorbed, causing electrons to jump up in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element or molecule produces its own distin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t of spectral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energy is a capacity of doing some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energy is the energy of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al Potenti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Fd = mgh = PE (potential ener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 is relativ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 of a 1000-kg car at the top of a 50-m multilevel parking lot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h= (1000 kg)(9.8 m/s2)(50 m)=490 k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energy is a capacity of doing some 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energy is the energy of 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Potential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 = Fd = mgh = PE (potential energ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 is relativ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 of a 1000-kg car at the top of a 50-m multilevel parking lot 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gh= (1000 kg)(9.8 m/s2)(50 m)=490 kJ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by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ssion by Hydrog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lines in the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ydrogen lines in the visi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s of Spect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``Complex’’ objects - planets, stars, people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thermal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spectrum depends only on the object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 objects emit more total radiation per unit surfac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diated energy is proportional to the fourth power of th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 objects emit photons with a higher average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mal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``Complex’’ objects - planets, stars, people -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duce thermal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s spectrum depends only on the object’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tter objects emit more total radiation per unit surface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radiated energy is proportional to the fourth power of the 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tter objects emit photons with a higher averag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mperature and Col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mperature and Inten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light (for example, sunlight) strikes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 (ground, clouds, people), we see only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 of light that are refl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objects (fruits, rocks, atmospheric ga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 and absorb light at different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lected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the light (for example, sunlight) strikes 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ject (ground, clouds, people), we see only t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velengths of light that are reflec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objects (fruits, rocks, atmospheric gase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lect and absorb light at different waveleng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ppler Sh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motion of a distant object can be determined due to the Doppl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ppler effect causes shifts in the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bject is moving toward us, its entire spectrum is shifted to short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shorter wavelengths of the visible light are bluer, the Doppler shift of this object is called a bluesh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ppler shift of a moving away object - redsh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ppler Shi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l motion of a distant object can be determined due to the Doppler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ppler effect causes shifts in the waveleng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object is moving toward us, its entire spectrum is shifted to shorter waveleng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cause shorter wavelengths of the visible light are bluer, the Doppler shift of this object is called a blueshi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ppler shift of a moving away object - redshi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ppl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 Doppl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ppler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mo Doppler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l information gives us more knowledge about the objects (composition, surface temperature, moving propert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a small portion of the electromagnetic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ppler effect tells us how quickly light is moving toward or away from 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tral information gives us more knowledge about the objects (composition, surface temperature, moving propertie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sible light is only a small portion of the electromagnetic spect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ppler effect tells us how quickly light is moving toward or away from 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and Energy are related to each other and can be converted into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t energy of a body is the energy equivalent of its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0 = m0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0 (m=1 kg) = 1 kg x (3 108)2  (cm/s)2 ~ 1017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 (m=1 kg, h=9 km) = mgh = 1 kg x 9.8 m/s2 x 9000 m ~ 105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ss and Energy are related to each other and can be converted into each oth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rest energy of a body is the energy equivalent of its mas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0 = m0c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0 (m=1 kg) = 1 kg x (3 108)2  (cm/s)2 ~ 1017 J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 (m=1 kg, h=9 km) = mgh = 1 kg x 9.8 m/s2 x 9000 m ~ 105 J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echanical processes involve interchanges between KE, PE, and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exists in some other forms: chemical energy, heat energy, radiant energy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Transform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y mechanical processes involve interchanges between KE, PE, and work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exists in some other forms: chemical energy, heat energy, radiant energy, et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servation of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cannot be created or destroy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can only be changed from one form to anoth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bove statement is called the law of conservation of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rvation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annot be created or destroy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an only be changed from one form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ove statement is called the law of conservation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its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between Light and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pter 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and Atomic Stru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and its proper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action between Light and Ma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 Everyday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a form of energy, radiative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Watt = 1 Joule/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has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ism split light into a spectrum (rainbow of col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travels with a speed of c = 300,000 k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in Everyday Lif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is a form of energy, radiativ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 Watt = 1 Joule/se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has col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prism split light into a spectrum (rainbow of colo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travels with a speed of c = 300,000 km/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nb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inb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Light and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(passing thr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on (scatter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action of Light and Ma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s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p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mission (passing through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lection (scattering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104F-5483-4E87-ABA1-F601CABAA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2A36-8F7E-4989-8835-E8D5C957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181C-E070-4058-9CBB-80B59E4BD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6D8B-4F14-400E-A3AC-B2529F9A4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85A0-6C6B-4834-89E2-B7C6A996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2D65-9B7B-46DD-915F-1D3FEA6D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CF5E-A8AC-446B-99A8-57A59D86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A2A3-9C04-468D-99C0-EC263EBD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EFE3-4D75-48B3-9061-296FA24F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B26D-E6A1-4B60-B617-586D51C6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28D2-AACF-43B7-9883-98EA7A1D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5666-586D-480B-B23B-F9774594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02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21D3-D428-40D5-8181-D82DF69E33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bc1.lbl.gov/CBP_pages/educational/WoB/cycle1p04a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lenbrook.k12.il.us/gbssci/phys/Class/energy/u5l1b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Energy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49" name="Text Box 1027"/>
          <p:cNvSpPr/>
          <p:nvPr/>
        </p:nvSpPr>
        <p:spPr>
          <a:xfrm>
            <a:off x="380880" y="12952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imes New Roman"/>
              </a:rPr>
              <a:t>Energ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 property that enables something to do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1028"/>
          <p:cNvSpPr/>
          <p:nvPr/>
        </p:nvSpPr>
        <p:spPr>
          <a:xfrm>
            <a:off x="380880" y="22096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y has various forms (kinetic, potential, rest energ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1029"/>
          <p:cNvSpPr/>
          <p:nvPr/>
        </p:nvSpPr>
        <p:spPr>
          <a:xfrm>
            <a:off x="457200" y="3200400"/>
            <a:ext cx="80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Kinetic energ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the energy of a moving 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1030"/>
          <p:cNvSpPr/>
          <p:nvPr/>
        </p:nvSpPr>
        <p:spPr>
          <a:xfrm>
            <a:off x="3585600" y="4114800"/>
            <a:ext cx="209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 = --------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1031"/>
          <p:cNvSpPr/>
          <p:nvPr/>
        </p:nvSpPr>
        <p:spPr>
          <a:xfrm>
            <a:off x="380880" y="56386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takes ~1000 N (or ~ 225 lbs) to hit a nail and drive it 5 mm into a surf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Properties of Light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80880" y="1066680"/>
            <a:ext cx="80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Ligh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haves as 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bo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partic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a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wa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72960" y="1874880"/>
            <a:ext cx="8398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ght particles are called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phot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which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counted individual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ght is also an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electromagnetic wa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72960" y="3962520"/>
            <a:ext cx="87710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waveleng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the distance between adjacent peaks of the electric or magnetic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1 nm (nanometer) = 10</a:t>
            </a:r>
            <a:r>
              <a:rPr b="0" lang="en-US" sz="2800" spc="-1" strike="noStrike" baseline="30000">
                <a:solidFill>
                  <a:srgbClr val="fff90e"/>
                </a:solidFill>
                <a:latin typeface="Times New Roman"/>
              </a:rPr>
              <a:t>–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1μm (micron) = 10</a:t>
            </a:r>
            <a:r>
              <a:rPr b="0" lang="en-US" sz="2800" spc="-1" strike="noStrike" baseline="30000">
                <a:solidFill>
                  <a:srgbClr val="66ff66"/>
                </a:solidFill>
                <a:latin typeface="Times New Roman"/>
              </a:rPr>
              <a:t>–6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frequenc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the number of peaks that pass by any point each second, measured in cycles per second or Hertz (Hz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de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Light is an electromagnetic wave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88" name="Picture 3" descr="858430603b"/>
          <p:cNvPicPr/>
          <p:nvPr/>
        </p:nvPicPr>
        <p:blipFill>
          <a:blip r:embed="rId1"/>
          <a:stretch/>
        </p:blipFill>
        <p:spPr>
          <a:xfrm>
            <a:off x="685800" y="1447920"/>
            <a:ext cx="8001000" cy="33066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380880" y="510552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consists of many individual phot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travels at the speed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can be characterized by a wavelength and a frequenc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Many Forms of Light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04920" y="156528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pectrum of light is called the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electromagnetic spectr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04920" y="28954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portions of the spectrum are call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04920" y="3809880"/>
            <a:ext cx="8458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visible ligh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what we see with our e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infrar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ight - beyond of the red end of rainb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ultraviole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ight - beyond the blue e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Radio wav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light with the longest waveleng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X ray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wavelengths shorter than ultraviol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Gamma ray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the shortest wavelength l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95" name="Picture 4" descr="em_same"/>
          <p:cNvPicPr/>
          <p:nvPr/>
        </p:nvPicPr>
        <p:blipFill>
          <a:blip r:embed="rId1"/>
          <a:stretch/>
        </p:blipFill>
        <p:spPr>
          <a:xfrm>
            <a:off x="343080" y="1457280"/>
            <a:ext cx="845820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97" name="Picture 5" descr="em"/>
          <p:cNvPicPr/>
          <p:nvPr/>
        </p:nvPicPr>
        <p:blipFill>
          <a:blip r:embed="rId1"/>
          <a:stretch/>
        </p:blipFill>
        <p:spPr>
          <a:xfrm>
            <a:off x="495360" y="3429000"/>
            <a:ext cx="8153280" cy="30988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647640" y="12193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quency units – Hert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Hz = 1 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Light and Matter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639720" y="1066680"/>
            <a:ext cx="78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mount of light is called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inten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87440" y="1905120"/>
            <a:ext cx="816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ing spectra of celestial bodies one can learn a wealth of information about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5" descr="858430605"/>
          <p:cNvPicPr/>
          <p:nvPr/>
        </p:nvPicPr>
        <p:blipFill>
          <a:blip r:embed="rId1"/>
          <a:stretch/>
        </p:blipFill>
        <p:spPr>
          <a:xfrm>
            <a:off x="533520" y="3429000"/>
            <a:ext cx="761976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Atomic Structure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04920" y="137160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2 chemical elements have been identified in the Univer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arly 20 more have been created artificial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89080" y="2914560"/>
            <a:ext cx="8626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chemical element is made from a different type of ato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oms are made from particles called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prot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neutr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electr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ons and neutrons form the nucleus in the center of the ato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ons surround the nucle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Atomic Structure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04920" y="12952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vely charged protons are hold together by the </a:t>
            </a: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strong for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which overcomes electrical repuls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920" y="25909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gatively charged electrons are attracted to the nucle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80880" y="3581280"/>
            <a:ext cx="832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umber of protons in an atom is called the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which is unique for different chemical elem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57200" y="4952880"/>
            <a:ext cx="8474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mbined number of protons and neutrons in an atom is called the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atomic mass numb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oms of the same element with different number of neutrons are called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isotop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Absorption and Emission in Gases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658800" y="1238400"/>
            <a:ext cx="816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ce electrons in atoms can have only specif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ies, the atoms can absorb or release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ly in these amounts (quan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35840" y="3448080"/>
            <a:ext cx="787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 gets energy, jumps to an excited stat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ease the energy, and falls back 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888120" y="5048280"/>
            <a:ext cx="744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ergy is emitted as a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phot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ligh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hoton has exactly the same energy 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ctron has lo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0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5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Types of Spectra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228600" y="12952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Emission line spectru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nsists of photons emitted as each electron falls back to lower lev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28600" y="28386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Absorption line spectru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ppears when phot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absorbed, causing electrons to jump up in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28600" y="4514760"/>
            <a:ext cx="878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element or molecule produces its own distin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of spectral 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90e"/>
                </a:solidFill>
                <a:latin typeface="Times New Roman"/>
              </a:rPr>
              <a:t>Potential Energy</a:t>
            </a:r>
            <a:endParaRPr b="0" lang="en-US" sz="40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80880" y="12952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ential energy is a capacity of doing some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457200" y="22860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otential energ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the energy of 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80880" y="32767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vitational Potential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20200" y="4336920"/>
            <a:ext cx="575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 = F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 = 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 (potential energ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458640" y="5334120"/>
            <a:ext cx="21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 is relativ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819520" y="5105520"/>
            <a:ext cx="611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 of a 1000-kg car at the top of a 50-m multilevel parking lot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(1000 kg)(9.8 m/s2)(50 m)=490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mission by Hydrogen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120" name="Picture 3" descr="h_atom"/>
          <p:cNvPicPr/>
          <p:nvPr/>
        </p:nvPicPr>
        <p:blipFill>
          <a:blip r:embed="rId1"/>
          <a:stretch/>
        </p:blipFill>
        <p:spPr>
          <a:xfrm>
            <a:off x="343080" y="1523880"/>
            <a:ext cx="8458200" cy="43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Hydrogen lines in the visible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122" name="Picture 3" descr="h_lines"/>
          <p:cNvPicPr/>
          <p:nvPr/>
        </p:nvPicPr>
        <p:blipFill>
          <a:blip r:embed="rId1"/>
          <a:stretch/>
        </p:blipFill>
        <p:spPr>
          <a:xfrm>
            <a:off x="419040" y="1838160"/>
            <a:ext cx="830592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Examples of Spectra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124" name="Picture 3" descr="858430607"/>
          <p:cNvPicPr/>
          <p:nvPr/>
        </p:nvPicPr>
        <p:blipFill>
          <a:blip r:embed="rId1"/>
          <a:stretch/>
        </p:blipFill>
        <p:spPr>
          <a:xfrm>
            <a:off x="571680" y="1219320"/>
            <a:ext cx="8001000" cy="2666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858430608"/>
          <p:cNvPicPr/>
          <p:nvPr/>
        </p:nvPicPr>
        <p:blipFill>
          <a:blip r:embed="rId2"/>
          <a:stretch/>
        </p:blipFill>
        <p:spPr>
          <a:xfrm>
            <a:off x="533520" y="4572000"/>
            <a:ext cx="8076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Thermal Radiation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599760" y="1143000"/>
            <a:ext cx="755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``Complex’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bjects - planets, stars, people 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e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thermal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85800" y="2438280"/>
            <a:ext cx="786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s spectrum depends only on the object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temper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457200" y="3581280"/>
            <a:ext cx="8458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tter objects emit more total radiation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per unit surface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adiated energy is proportional to the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fourth power of the temper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tter objects emit photons with a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higher average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Temperature and Color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131" name="Picture 3" descr="06_11"/>
          <p:cNvPicPr/>
          <p:nvPr/>
        </p:nvPicPr>
        <p:blipFill>
          <a:blip r:embed="rId1"/>
          <a:stretch/>
        </p:blipFill>
        <p:spPr>
          <a:xfrm>
            <a:off x="762120" y="1295280"/>
            <a:ext cx="7619760" cy="53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Temperature and Intensity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133" name="Picture 3" descr="858430610"/>
          <p:cNvPicPr/>
          <p:nvPr/>
        </p:nvPicPr>
        <p:blipFill>
          <a:blip r:embed="rId1"/>
          <a:stretch/>
        </p:blipFill>
        <p:spPr>
          <a:xfrm>
            <a:off x="304920" y="1295280"/>
            <a:ext cx="86104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Reflected light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457200" y="1981080"/>
            <a:ext cx="8238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e light (for example, sunlight) strikes 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 (ground, clouds, people), we see only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velengths of light that are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refl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46760" y="4724280"/>
            <a:ext cx="843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t objects (fruits, rocks, atmospheric gas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reflec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absor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light at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different waveleng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The Doppler Shift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04920" y="1219320"/>
            <a:ext cx="861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al motion of a distant object can be determined due to the Doppler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94840" y="2514600"/>
            <a:ext cx="85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oppler effect causes shifts in the waveleng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 l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28600" y="3657600"/>
            <a:ext cx="8915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an object is moving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towa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, its entire spectrum is shifted to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shorter waveleng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 shorter wavelengths of the visible light are bluer, the Doppler shift of this object is called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blueshi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oppler shift of a moving away object -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redshi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Doppler Effect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142" name="Picture 3" descr="doppler1"/>
          <p:cNvPicPr/>
          <p:nvPr/>
        </p:nvPicPr>
        <p:blipFill>
          <a:blip r:embed="rId1"/>
          <a:stretch/>
        </p:blipFill>
        <p:spPr>
          <a:xfrm>
            <a:off x="1143000" y="1219320"/>
            <a:ext cx="7162920" cy="42228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3044160" y="5791320"/>
            <a:ext cx="364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Doppler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762120" y="15228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411120" y="1143000"/>
            <a:ext cx="84279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tral information gives us more knowledge about the objects (composition, surface temperature, moving propert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sible light is only a small portion of the electromagnetic spect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oppler effect tells us how quickly light is moving toward or away from 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Rest Energy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ss and Energy are related to each other and can be converted into each 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04920" y="2895480"/>
            <a:ext cx="85341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est energy of a body is the energy equivalent of its m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04920" y="4876920"/>
            <a:ext cx="85341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1 kg) = 1 k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3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(cm/s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~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17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1 kg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9 km) =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k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9.8 m/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9000 m ~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Energy Transformations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66" name="Text Box 1027"/>
          <p:cNvSpPr/>
          <p:nvPr/>
        </p:nvSpPr>
        <p:spPr>
          <a:xfrm>
            <a:off x="380880" y="1905120"/>
            <a:ext cx="847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mechanical processes involve interchanges between KE, PE, and wo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1028"/>
          <p:cNvSpPr/>
          <p:nvPr/>
        </p:nvSpPr>
        <p:spPr>
          <a:xfrm>
            <a:off x="304920" y="3124080"/>
            <a:ext cx="847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y exists in some other forms: chemical energy, heat energy, radiant energy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Conservation of Energy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69" name="Text Box 1027"/>
          <p:cNvSpPr/>
          <p:nvPr/>
        </p:nvSpPr>
        <p:spPr>
          <a:xfrm>
            <a:off x="517680" y="1365120"/>
            <a:ext cx="801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y cannot be created or destroy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can only be changed from one form to an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1028"/>
          <p:cNvSpPr/>
          <p:nvPr/>
        </p:nvSpPr>
        <p:spPr>
          <a:xfrm>
            <a:off x="457200" y="335268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bove statement is called</a:t>
            </a:r>
            <a:r>
              <a:rPr b="0" lang="en-US" sz="2800" spc="-1" strike="noStrike">
                <a:solidFill>
                  <a:srgbClr val="33cccc"/>
                </a:solidFill>
                <a:latin typeface="Times New Roman"/>
              </a:rPr>
              <a:t> the law of conservation of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Chapter 5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Light and Atomic Struc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47640" y="21337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and its proper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omic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action between Light and Ma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Light in Everyday Life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is a form of energy,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radiati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449280" y="2133720"/>
            <a:ext cx="82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1 Watt = 1 Joule/se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609480" y="3429000"/>
            <a:ext cx="819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h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col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rism split light into a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spectrum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rainbow of colo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734760" y="5734080"/>
            <a:ext cx="77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travels with a speed of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300,000 km/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Rainbow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80" name="Picture 3" descr="rainbow1"/>
          <p:cNvPicPr/>
          <p:nvPr/>
        </p:nvPicPr>
        <p:blipFill>
          <a:blip r:embed="rId1"/>
          <a:stretch/>
        </p:blipFill>
        <p:spPr>
          <a:xfrm>
            <a:off x="1066680" y="1066680"/>
            <a:ext cx="754380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36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Interaction of Light and Matter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04920" y="1387440"/>
            <a:ext cx="8686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90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Emi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Absor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Transmiss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passing throug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Reflectio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catter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4T05:06:40Z</dcterms:created>
  <dc:creator>Jon Bjorkman</dc:creator>
  <dc:description/>
  <dc:language>en-US</dc:language>
  <cp:lastModifiedBy>RomaK</cp:lastModifiedBy>
  <dcterms:modified xsi:type="dcterms:W3CDTF">2015-09-03T12:25:59Z</dcterms:modified>
  <cp:revision>88</cp:revision>
  <dc:subject/>
  <dc:title>Astronomy 1010</dc:title>
</cp:coreProperties>
</file>