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7CE9-066B-4BBF-A7CB-AE5404081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55B-4C26-4A02-98EB-0582F213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0BA0-373C-495C-9A10-83333307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9BB-90AE-41A8-8246-D439BB7D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3A1-5F85-44EB-A509-D4488D95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033-369F-4CFB-BEC9-22E40988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A11-F79F-4530-BEED-B376AB4A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B39-E31B-4641-8F25-B65E58E8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C70-2D62-4CA0-9D2F-8D8F747C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450-6538-4A02-A599-3D06345E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0745-745A-4E4B-B1EC-A39E8B93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167-3ACB-4D90-8DD8-5F87DDCC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C2E-B73B-4B4F-B77F-52CFED85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0CE3-22BB-4605-8076-7270F5CE8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OgrjDz7mV4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know that a force can b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ng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not move / or moves as a constant speed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ug_of_war"/>
          <p:cNvPicPr/>
          <p:nvPr/>
        </p:nvPicPr>
        <p:blipFill>
          <a:blip r:embed="rId1"/>
          <a:stretch/>
        </p:blipFill>
        <p:spPr>
          <a:xfrm>
            <a:off x="464328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move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12-LPCC%20Tug-O-War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24000" y="2205000"/>
            <a:ext cx="1871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9564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403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0236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41072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560" y="357336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400" y="4287960"/>
            <a:ext cx="63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sultant Force (Fr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tract one from the other: 7N – 4N =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N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7280" y="501336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457200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69800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2179-386-500"/>
          <p:cNvPicPr/>
          <p:nvPr/>
        </p:nvPicPr>
        <p:blipFill>
          <a:blip r:embed="rId1"/>
          <a:stretch/>
        </p:blipFill>
        <p:spPr>
          <a:xfrm>
            <a:off x="5292720" y="2852640"/>
            <a:ext cx="250812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6588000" y="134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715080" y="17924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88000" y="5157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714720" y="5392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ase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47:38Z</dcterms:created>
  <dc:creator>Jack Timmins</dc:creator>
  <dc:description/>
  <dc:language>en-US</dc:language>
  <cp:lastModifiedBy>RomaK</cp:lastModifiedBy>
  <dcterms:modified xsi:type="dcterms:W3CDTF">2015-09-03T12:26:11Z</dcterms:modified>
  <cp:revision>10</cp:revision>
  <dc:subject/>
  <dc:title>Force Diagrams</dc:title>
</cp:coreProperties>
</file>