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91849-672B-4040-B8E3-25E4C6FC7B1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FORCES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forces act on a trailer attached to a tow rope being pulled by a c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hat forces act on a trailer attached to a tow rope being pulled by a car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rce is an influence on a system or object which, acting alone, will cause the motion of the system or object to change. If a system or object at rest is subjected to a non-zero force it will start to mo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for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force is an influence on a system or object which, acting alone, will cause the motion of the system or object to change. If a system or object at rest is subjected to a non-zero force it will start to move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hat is a force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 is a force caused (on Earth) by the gravitational attraction of a mass to the Earth’s cent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ight of a body, of mass m, is defined to be the force, W, with which it is attracted to the Ear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Earth, W = mg, where g is the acceleration due to gravity (g ≈ 9.81 m s−2 on Earth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Weight is a force caused (on Earth) by the gravitational attraction of a mass to the Earth’s centre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weight of a body, of mass m, is defined to be the force, W, with which it is attracted to the Earth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On Earth, W = mg, where g is the acceleration due to gravity (g ≈ 9.81 m s−2 on Earth)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y mechanics problems involve objects being pulled, pushed or suspended from a string, spring, rod or something simil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that the string (or similar) exerts on the object in these types of problems is called ten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ension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Many mechanics problems involve objects being pulled, pushed or suspended from a string, spring, rod or something similar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force that the string (or similar) exerts on the object in these types of problems is called tension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i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orce that prevents, or tries to prevent, the slipping or sliding of two surfaces in cont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Friction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force that prevents, or tries to prevent, the slipping or sliding of two surfaces in contact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Res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ts in the opposite direction to the mo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ir Resistanc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cts in the opposite direction to the motion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 reaction fo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ss lies on a horizontal surface. The weight of the mass pulls it downwar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ason it does not fall is because the horizontal surface exerts an equal and opposite force on the mass called the normal reaction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rmal reaction force always acts perpendicularly to the surface that is causing i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Normal reaction forc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mass lies on a horizontal surface. The weight of the mass pulls it downwards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reason it does not fall is because the horizontal surface exerts an equal and opposite force on the mass called the normal reaction force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The normal reaction force always acts perpendicularly to the surface that is causing it.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lock lies at rest (not moving) on a rough inclined slope; what forces act on the bloc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block lies at rest (not moving) on a rough inclined slope; what forces act on the block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l, attached to the ceiling, is swinging on the end of a string in a simple pendulum motion; modelling the ball as a particle, what forces act on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Example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446eb2"/>
                </a:solidFill>
                <a:latin typeface="Arial"/>
              </a:rPr>
              <a:t>A ball, attached to the ceiling, is swinging on the end of a string in a simple pendulum motion; modelling the ball as a particle, what forces act on it?</a:t>
            </a: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99B5-8349-4AB8-B9BE-77B56B101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E2C0-4EF1-4FC4-AEB4-4241DB57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84C1-C5B9-47E4-84A7-5819CC61A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1476-EB8D-4DDE-90A9-1B25BD4C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01209-ED92-436F-B9D3-BA1EA93F6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D7A3-C8D6-43EE-B9BD-A937C250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E2E2-56B3-4DE5-96E5-EDB602E6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693B-6508-4EA3-90DB-24759AFE6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1A0D-19C7-468F-B147-6C5D3CA7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CBCB-885B-4B0F-851D-17401B32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0B25-5183-4BAD-A781-989F50DE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6FCC-75D4-4766-A152-F28D4D15A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D832-0615-4877-B90F-9793ED35D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94CF5-0B46-416A-9149-021353620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5381-728A-4B84-B7ED-19EC3310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093A-DD76-47CE-93F1-7FA07B62D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D9CD-2C7A-4D44-BBCC-A9CEBBBF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492D-A249-4F40-B2FA-B833BBA9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F2C9-E975-4193-8799-37FC45582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F7CF-D247-47A9-9A25-7D154652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DFE9-CD77-4C46-8CE4-75D16347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D526-3390-4E6C-B385-644B3E94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7511-561D-4016-93F5-FD552EFC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BAE7-2CAD-4C19-979E-5817E005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420B8-DB00-499A-8BB9-52C762F59BF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custGeom>
              <a:avLst/>
              <a:gdLst/>
              <a:ahLst/>
              <a:rect l="l" t="t" r="r" b="b"/>
              <a:pathLst>
                <a:path w="4816" h="1984">
                  <a:moveTo>
                    <a:pt x="4816" y="0"/>
                  </a:moveTo>
                  <a:lnTo>
                    <a:pt x="0" y="0"/>
                  </a:lnTo>
                  <a:lnTo>
                    <a:pt x="0" y="1984"/>
                  </a:lnTo>
                  <a:lnTo>
                    <a:pt x="448" y="1984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custGeom>
              <a:avLst/>
              <a:gdLst/>
              <a:ahLst/>
              <a:rect l="l" t="t" r="r" b="b"/>
              <a:pathLst>
                <a:path w="624" h="1416">
                  <a:moveTo>
                    <a:pt x="0" y="0"/>
                  </a:moveTo>
                  <a:lnTo>
                    <a:pt x="0" y="1416"/>
                  </a:lnTo>
                  <a:lnTo>
                    <a:pt x="624" y="1416"/>
                  </a:lnTo>
                </a:path>
              </a:pathLst>
            </a:cu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BFD1-6E79-4F1A-847B-AFF9814BD56F}" type="slidenum">
              <a:rPr b="0" lang="en-GB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23640" y="2197080"/>
            <a:ext cx="44658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123e96"/>
                </a:solidFill>
                <a:latin typeface="Arial Black"/>
              </a:rPr>
              <a:t>FORCES</a:t>
            </a:r>
            <a:endParaRPr b="0" lang="en-US" sz="7200" spc="-1" strike="noStrike">
              <a:solidFill>
                <a:srgbClr val="123e9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What forces act on a trailer attached to a tow rope being pulled by a car?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340000" y="3068640"/>
            <a:ext cx="396072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258560" y="1700280"/>
            <a:ext cx="5545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force is an influence on a system or object which, acting alone, will cause the motion of the system or object to change. If a system or object at rest is subjected to a non-zero force it will start to move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61680" y="33300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What is a force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Weight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19280" y="155736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Weight is a force caused (on Earth) by the gravitational attraction of a mass to the Earth’s centre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weight of a body, of mass m, is defined to be the force, W, with which it is attracted to the Earth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On Earth, W = mg, where g is the acceleration due to gravity (g ≈ 9.81 m s−2 on Earth)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Tension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Many mechanics problems involve objects being pulled, pushed or suspended from a string, spring, rod or something similar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force that the string (or similar) exerts on the object in these types of problems is called tension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Friction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force that prevents, or tries to prevent, the slipping or sliding of two surfaces in contact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Air Resistanc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cts in the opposite direction to the motion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Normal reaction forc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mass lies on a horizontal surface. The weight of the mass pulls it downwards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reason it does not fall is because the horizontal surface exerts an equal and opposite force on the mass called the normal reaction force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The normal reaction force always acts perpendicularly to the surface that is causing it.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block lies at rest (not moving) on a rough inclined slope; what forces act on the block?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2195640" y="3429000"/>
            <a:ext cx="396072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Black"/>
              </a:rPr>
              <a:t>Exampl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446eb2"/>
                </a:solidFill>
                <a:latin typeface="Arial"/>
              </a:rPr>
              <a:t>A ball, attached to the ceiling, is swinging on the end of a string in a simple pendulum motion; modelling the ball as a particle, what forces act on it?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411280" y="3716280"/>
            <a:ext cx="3168720" cy="25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8:38:34Z</dcterms:created>
  <dc:creator>zafer</dc:creator>
  <dc:description/>
  <cp:keywords/>
  <dc:language>en-US</dc:language>
  <cp:lastModifiedBy>RomaK</cp:lastModifiedBy>
  <dcterms:modified xsi:type="dcterms:W3CDTF">2015-09-03T12:26:30Z</dcterms:modified>
  <cp:revision>3</cp:revision>
  <dc:subject/>
  <dc:title>FORC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