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7AA2-447A-4ECD-B0E3-0724BECF09F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forces act on a trailer attached to a tow rope being pulled by a c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hat forces act on a trailer attached to a tow rope being pulled by a car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 is a force caused (on Earth) by the gravitational attraction of a mass to the Earth’s cen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ight of a body, of mass m, is defined to be the force, W, with which it is attracted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, W = mg, where g is the acceleration due to gravity (g ≈ 9.81 m s−2 on Eart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eight is a force caused (on Earth) by the gravitational attraction of a mass to the Earth’s centr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weight of a body, of mass m, is defined to be the force, W, with which it is attracted to the Earth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On Earth, W = mg, where g is the acceleration due to gravity (g ≈ 9.81 m s−2 on Earth)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echanics problems involve objects being pulled, pushed or suspended from a string, spring, rod or something simi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that the string (or similar) exerts on the object in these types of problems is called 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ension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Many mechanics problems involve objects being pulled, pushed or suspended from a string, spring, rod or something similar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force that the string (or similar) exerts on the object in these types of problems is called tension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rce that prevents, or tries to prevent, the slipping or sliding of two surfaces in cont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force that prevents, or tries to prevent, the slipping or sliding of two surfaces in contact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s in the opposite direction to the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cts in the opposite direction to the motion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reaction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ss lies on a horizontal surface. The weight of the mass pulls it downw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son it does not fall is because the horizontal surface exerts an equal and opposite force on the mass called the normal reaction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reaction force always acts perpendicularly to the surface that is causing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Normal reaction forc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mass lies on a horizontal surface. The weight of the mass pulls it downwards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reason it does not fall is because the horizontal surface exerts an equal and opposite force on the mass called the normal reaction forc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normal reaction force always acts perpendicularly to the surface that is causing it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ock lies at rest (not moving) on a rough inclined slope; what forces act on the blo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block lies at rest (not moving) on a rough inclined slope; what forces act on the block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l, attached to the ceiling, is swinging on the end of a string in a simple pendulum motion; modelling the ball as a particle, what forces act on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ball, attached to the ceiling, is swinging on the end of a string in a simple pendulum motion; modelling the ball as a particle, what forces act on it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452-12B1-431E-85C3-7C116B5F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E16-9028-43A6-8428-09567798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8F1-14DE-4398-BEC7-A31A6328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04D5-2607-4618-9AF1-7901104A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ED8B-C36C-402B-9EB3-E1D7B9FE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FFA2-A2A7-46D0-9F94-35B540FB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514E-C685-46C0-98D7-721FA307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C1A2-0894-4DAE-A282-B80E1111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6214-7D44-474E-8017-70973CA3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D9CA-D3BC-4E40-A3C9-3F6430A1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3169-BA25-4CAA-868F-985A1CF3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CC5E-64E9-433C-9738-48895617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B8B2-1EE6-4A9F-901E-595909ED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3661-AFED-476D-94C5-51E7B9F8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1113-F6E8-405E-A3F8-E8B25C43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F2B8-D89F-4748-9264-4AD5646A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E3E1-0F0B-487D-B131-97096868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9C84-56FA-4F6E-A2D8-77179671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838-F7C0-43B4-A05A-45E977BB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1DC5-DFEF-4B06-A208-C631894D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2E9A-9D30-4EDF-8A44-3409B7C7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4D50-19A9-44C9-B86E-DAAAB655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FBFD-31F0-4522-890B-E6415D5B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7F4-CF20-410A-8E74-38D86BE6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C4BF-0DFD-4ADF-9F8C-158AFDE8BD7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8A44-829E-4B50-9EA8-C8F4F55B0468}" type="slidenum">
              <a:rPr b="0" lang="en-GB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3640" y="2197080"/>
            <a:ext cx="4465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123e96"/>
                </a:solidFill>
                <a:latin typeface="Arial Black"/>
              </a:rPr>
              <a:t>FORCES</a:t>
            </a:r>
            <a:endParaRPr b="0" lang="en-US" sz="7200" spc="-1" strike="noStrike">
              <a:solidFill>
                <a:srgbClr val="123e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What forces act on a trailer attached to a tow rope being pulled by a car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340000" y="3068640"/>
            <a:ext cx="39607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5545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61680" y="33300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What is a force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Weight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Weight is a force caused (on Earth) by the gravitational attraction of a mass to the Earth’s centr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weight of a body, of mass m, is defined to be the force, W, with which it is attracted to the Earth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On Earth, W = mg, where g is the acceleration due to gravity (g ≈ 9.81 m s−2 on Earth)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Tension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Many mechanics problems involve objects being pulled, pushed or suspended from a string, spring, rod or something similar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force that the string (or similar) exerts on the object in these types of problems is called tension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Friction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force that prevents, or tries to prevent, the slipping or sliding of two surfaces in contact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Air Resistanc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cts in the opposite direction to the motion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Normal reaction forc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mass lies on a horizontal surface. The weight of the mass pulls it downwards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reason it does not fall is because the horizontal surface exerts an equal and opposite force on the mass called the normal reaction forc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normal reaction force always acts perpendicularly to the surface that is causing it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block lies at rest (not moving) on a rough inclined slope; what forces act on the block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39607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ball, attached to the ceiling, is swinging on the end of a string in a simple pendulum motion; modelling the ball as a particle, what forces act on it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411280" y="3716280"/>
            <a:ext cx="316872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8:38:34Z</dcterms:created>
  <dc:creator>zafer</dc:creator>
  <dc:description/>
  <cp:keywords/>
  <dc:language>en-US</dc:language>
  <cp:lastModifiedBy>RomaK</cp:lastModifiedBy>
  <dcterms:modified xsi:type="dcterms:W3CDTF">2015-09-03T12:26:30Z</dcterms:modified>
  <cp:revision>3</cp:revision>
  <dc:subject/>
  <dc:title>FOR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