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822A-C63C-4A55-A394-583FC16063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ens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s in the opposite direction to the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Normal reaction for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5D5-6136-4445-95E2-EDEF6B7A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6B0B-AE98-4D84-806A-FA5C4041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45C-809E-4292-9590-9B5B1C26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CEA-C128-4A03-B377-227CA7A8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814E-B748-43E7-8F19-0AC803A8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EFD7-20AD-48B1-9845-54C5A82A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C836-0CE2-413C-AD79-DC83A4BC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42A9-76ED-46B2-AEF4-6090E68D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5011-8B07-4F0D-BF14-04A98608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AC1D-237E-4E4A-912F-AE2FA624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4350-CF6F-4547-8584-5D1270DC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D70-FEED-4A44-8D9C-1B61B9F3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5D9B-6A4D-4E3B-8D5A-EB82C231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8D8E-7B24-441A-B888-E401E633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2A97-C46A-4E75-8A4D-C6D6BEBF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2058-3150-48D9-AF17-294AA99D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9AB5-A56F-45D7-81F5-3DCF2413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7DE-EEDF-437D-A51C-8914961C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47C-2B60-48CB-AB8B-33AAB47E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340-9B84-47B7-9FD3-15DE33C8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C18-5474-4141-B5C3-A0993FA7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F55-A54B-45F1-8ECA-A05DD9F4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80A-E7FC-4B37-B60F-1D4522D8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A20-8E69-4E4D-BCC1-7A79977A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6AA3-21EF-490A-AB7D-D360D9AD215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0352-4C34-4136-8BFE-A85E759BF1EA}" type="slidenum">
              <a:rPr b="0" lang="en-GB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2197080"/>
            <a:ext cx="4465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123e96"/>
                </a:solidFill>
                <a:latin typeface="Arial Black"/>
              </a:rPr>
              <a:t>FORCES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96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5545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1680" y="3330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hat is a force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eight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Tens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Frict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Air Resistan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Normal reaction for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3960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31687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8:38:34Z</dcterms:created>
  <dc:creator>zafer</dc:creator>
  <dc:description/>
  <cp:keywords/>
  <dc:language>en-US</dc:language>
  <cp:lastModifiedBy>RomaK</cp:lastModifiedBy>
  <dcterms:modified xsi:type="dcterms:W3CDTF">2015-09-03T12:26:30Z</dcterms:modified>
  <cp:revision>3</cp:revision>
  <dc:subject/>
  <dc:title>FO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