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8705-A138-464A-860B-D95C00662A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(In Physics, liquids and gases are both called "fluids". They behave in similar ways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uid friction is also known as "drag". On aircraft it's also called "air resistance".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 a tie with a throw-of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8368-9069-48B3-B76B-9CD6B7AFC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5320-317C-4027-906F-3792C1E3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76B1-DBAC-4E6D-90CA-361DA807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4F56-CF6F-4FFE-B34E-E9921F83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1CE8-B1C0-4A17-931B-2F12FA39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5B88-EA18-4323-A124-A7F0B108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784E-8D91-4CF4-97AB-17FDC960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C687-B5F9-45EA-9369-FA168F43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1DF-E7F3-4615-8023-C78E8A36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3B74-4010-4C7C-927D-7F33B20F5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0023-365D-46D3-97E8-6FD5B59C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C322-718F-4569-8D0E-DD87383A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94DF-721B-40B9-B49B-1C70E95FBAB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images.google.co.uk/imgres?imgurl=http://www.autofixgarage.co.uk/images/cartyre.jpg&amp;imgrefurl=http://www.autofixgarage.co.uk/tyres.html&amp;h=465&amp;w=398&amp;sz=64&amp;hl=en&amp;start=4&amp;um=1&amp;tbnid=d6EzjcE7111TSM:&amp;tbnh=128&amp;tbnw=110&amp;prev=/images%3Fq%3Dcar%2Btyres%26svnum%3D10%26um%3D1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.uk/imgres?imgurl=http://www.strangesports.com/images/content/12783.jpg&amp;imgrefurl=http://www.strangesports.com/content/item/12783.html&amp;h=249&amp;w=380&amp;sz=28&amp;hl=en&amp;start=28&amp;um=1&amp;tbnid=D8aeUVzVnO5QrM:&amp;tbnh=81&amp;tbnw=123&amp;prev=/images%3Fq%3Dski%2527s%2Bon%2Bsnow%26start%3D20%26ndsp%3D20%26svnum%3D10%26um%3D1%26hl%3Den%26safe%3Dactive%26sa%3DN" TargetMode="External"/><Relationship Id="rId6" Type="http://schemas.openxmlformats.org/officeDocument/2006/relationships/image" Target="../media/image5.jpeg"/><Relationship Id="rId7" Type="http://schemas.openxmlformats.org/officeDocument/2006/relationships/hyperlink" Target="http://images.google.co.uk/imgres?imgurl=http://www.skylineracewayroch.com/images/waterslide_main.jpg&amp;imgrefurl=http://www.skylineracewayroch.com/slide.htm&amp;h=300&amp;w=450&amp;sz=154&amp;hl=en&amp;start=5&amp;um=1&amp;tbnid=wtz0mNJTv_Na5M:&amp;tbnh=85&amp;tbnw=127&amp;prev=/images%3Fq%3Dwater%2Bslide%26svnum%3D10%26um%3D1%26hl%3Den%26safe%3Dactive" TargetMode="External"/><Relationship Id="rId8" Type="http://schemas.openxmlformats.org/officeDocument/2006/relationships/image" Target="../media/image6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.uk/imgres?imgurl=http://content.answers.com/main/content/wp/en-commons/3/30/BallBearing.gif&amp;imgrefurl=http://www.answers.com/topic/bear&amp;h=240&amp;w=240&amp;sz=644&amp;hl=en&amp;start=4&amp;um=1&amp;tbnid=JH-YrrYC1vHdIM:&amp;tbnh=110&amp;tbnw=110&amp;prev=/images%3Fq%3Dreducing%2Bfriction%2Bby%2Bball%2Bbearings%26svnum%3D10%26um%3D1%26hl%3Den%26safe%3Dactive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.uk/imgres?imgurl=http://www.lubegard.com/automotive/images/ALL_2cycles.jpg&amp;imgrefurl=http://www.lubegard.com/automotive/engine_2cycle.html&amp;h=356&amp;w=278&amp;sz=15&amp;hl=en&amp;start=11&amp;um=1&amp;tbnid=o5iYqf5xmPJcsM:&amp;tbnh=121&amp;tbnw=94&amp;prev=/images%3Fq%3Dreducing%2Bfriction%26svnum%3D10%26um%3D1%26hl%3Den%26safe%3Dactive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21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Arial"/>
              </a:rPr>
              <a:t>Fric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328428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iction is a Force that always pushes against an object when it touches another objec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2 things are in contact with each other, there will be friction acting between them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riction helps to grip the road"/>
          <p:cNvPicPr/>
          <p:nvPr/>
        </p:nvPicPr>
        <p:blipFill>
          <a:blip r:embed="rId1"/>
          <a:stretch/>
        </p:blipFill>
        <p:spPr>
          <a:xfrm>
            <a:off x="826920" y="476280"/>
            <a:ext cx="23558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rict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gh friction (lots of friction) – will slow something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friction (not much friction) – will keep things mo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igh friction or Low fric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ki’s on the 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ar ty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akes on a bik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ater on a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ncil and rub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bike2-01lores-300a"/>
          <p:cNvPicPr/>
          <p:nvPr/>
        </p:nvPicPr>
        <p:blipFill>
          <a:blip r:embed="rId1"/>
          <a:stretch/>
        </p:blipFill>
        <p:spPr>
          <a:xfrm>
            <a:off x="539640" y="1557360"/>
            <a:ext cx="1959120" cy="2951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7" descr="istockphoto_1799633_pencil_rubber"/>
          <p:cNvPicPr/>
          <p:nvPr/>
        </p:nvPicPr>
        <p:blipFill>
          <a:blip r:embed="rId2"/>
          <a:stretch/>
        </p:blipFill>
        <p:spPr>
          <a:xfrm>
            <a:off x="2771640" y="3573360"/>
            <a:ext cx="2314800" cy="1541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9" descr="cartyr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227640" y="1773360"/>
            <a:ext cx="1047960" cy="12189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2783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564000" y="2276640"/>
            <a:ext cx="1171440" cy="7714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waterslide_mai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227640" y="3789360"/>
            <a:ext cx="1209960" cy="8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we reduce the friction between 2 objec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duce the contact area by using rollers/ball-bearings/whe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nge the surfaces of the materials that are touching by using lubrication eg. 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eate a cushion of a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. Like a hovercraft or air hockey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BallBeari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162864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ALL_2cycle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80360" y="3789360"/>
            <a:ext cx="895320" cy="115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Hovercraft"/>
          <p:cNvPicPr/>
          <p:nvPr/>
        </p:nvPicPr>
        <p:blipFill>
          <a:blip r:embed="rId5"/>
          <a:stretch/>
        </p:blipFill>
        <p:spPr>
          <a:xfrm>
            <a:off x="1042920" y="5084640"/>
            <a:ext cx="1924200" cy="1076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unbranded-power-air-hockey-table"/>
          <p:cNvPicPr/>
          <p:nvPr/>
        </p:nvPicPr>
        <p:blipFill>
          <a:blip r:embed="rId6"/>
          <a:stretch/>
        </p:blipFill>
        <p:spPr>
          <a:xfrm>
            <a:off x="4356000" y="5013360"/>
            <a:ext cx="99072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luid” Fr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type of friction is what happens with liquids and gases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In Physics, liquids and gases are both called "fluids". They behave in similar way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luid friction is also known as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On aircraft it's also called "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ir resistanc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"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depends on: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w thick the fluid is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    (its "viscosity"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hape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peed of the ob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airforces2000"/>
          <p:cNvPicPr/>
          <p:nvPr/>
        </p:nvPicPr>
        <p:blipFill>
          <a:blip r:embed="rId1"/>
          <a:stretch/>
        </p:blipFill>
        <p:spPr>
          <a:xfrm>
            <a:off x="5724360" y="4005360"/>
            <a:ext cx="2448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ircraft and car designers want to reduce drag, so that the vehicle can go fast without having to waste too much fu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you think they can do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A streamlined shape reduces drag"/>
          <p:cNvPicPr/>
          <p:nvPr/>
        </p:nvPicPr>
        <p:blipFill>
          <a:blip r:embed="rId1"/>
          <a:stretch/>
        </p:blipFill>
        <p:spPr>
          <a:xfrm>
            <a:off x="6516720" y="0"/>
            <a:ext cx="2238480" cy="20858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To get less drag, we need SMOOTH airflow"/>
          <p:cNvPicPr/>
          <p:nvPr/>
        </p:nvPicPr>
        <p:blipFill>
          <a:blip r:embed="rId2"/>
          <a:stretch/>
        </p:blipFill>
        <p:spPr>
          <a:xfrm>
            <a:off x="1547640" y="3429000"/>
            <a:ext cx="5832720" cy="27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aper Aeroplane Com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winning team is the one who gets their plane to stay in the air the longest and is the fastes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terial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sheet of blank pa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papercli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cotch ta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struction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Use only the materials indicated in the above list; you don’t have to use them 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plane may be constructed using all or part of the 21.5 x 28 cm sheet of pap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bel each plane with the "engineer’s" nam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ach group is allowed three throws; record the best throw onl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egin timing with the throw of the plane and end when the plane hits the flo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le a tie with a throw-off.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3:12:54Z</dcterms:created>
  <dc:creator>CEC</dc:creator>
  <dc:description/>
  <dc:language>en-US</dc:language>
  <cp:lastModifiedBy>RomaK</cp:lastModifiedBy>
  <dcterms:modified xsi:type="dcterms:W3CDTF">2015-09-03T12:26:47Z</dcterms:modified>
  <cp:revision>9</cp:revision>
  <dc:subject/>
  <dc:title>Friction</dc:title>
</cp:coreProperties>
</file>