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6FE7-DFF7-48A5-B548-0E3C583649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 is a Force that always pushes against an object when it touches another objec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2 things are in contact with each other, there will be friction acting between th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 is a Force that always pushes against an object when it touches another objec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2 things are in contact with each other, there will be friction acting between th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(lots of friction) – will slow someth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friction (not much friction) – will keep things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(lots of friction) – will slow someth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friction (not much friction) – will keep things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or Low fri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’s on the s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ty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es on a bik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on a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 and 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or Low fri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’s on the s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ty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es on a bik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on a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 and 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duce the friction between 2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the contact area by using rollers/ball-bearings/wh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surfaces of the materials that are touching by using lubrication eg.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ushion of 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Like a hovercraft or air hockey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duce the friction between 2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the contact area by using rollers/ball-bearings/wh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surfaces of the materials that are touching by using lubrication eg.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ushion of 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Like a hovercraft or air hockey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” 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ype of friction is what happens with liquids and gases (In Physics, liquids and gases are both called "fluids". They behave in similar w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 friction is also known as "drag". On aircraft it's also called "air resistance"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pends 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ick the fluid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(its "viscosity"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pe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” 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ype of friction is what happens with liquids and gases (In Physics, liquids and gases are both called "fluids". They behave in similar w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 friction is also known as "drag". On aircraft it's also called "air resistance"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pends 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ick the fluid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(its "viscosity"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pe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craft and car designers want to reduce drag, so that the vehicle can go fast without having to waste too much fu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they can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craft and car designers want to reduce drag, so that the vehicle can go fast without having to waste too much fu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they can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Aeroplane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nning team is the one who gets their plane to stay in the air the longest and is the fast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heet of blank pa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percl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ch t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nly the materials indicated in the above list; you don’t have to use them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 may be constructed using all or part of the 21.5 x 28 cm sheet of pap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each plane with the "engineer’s" n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group is allowed three throws; record the best throw on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timing with the throw of the plane and end when the plane hits the flo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 a tie with a throw-of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Aeroplane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nning team is the one who gets their plane to stay in the air the longest and is the fast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heet of blank pa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percl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ch t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nly the materials indicated in the above list; you don’t have to use them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 may be constructed using all or part of the 21.5 x 28 cm sheet of pap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each plane with the "engineer’s" n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group is allowed three throws; record the best throw on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timing with the throw of the plane and end when the plane hits the flo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 a tie with a throw-of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7AD5-AFF1-4A54-88D8-90B990A6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7116-4FB7-4FB9-A4D7-5060EAF2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5779-0F3E-4E68-A6F6-B7A0AB23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AB17-8A11-4EF5-8F89-28A6DCA5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FEFF-DF75-4A86-B4A0-9295B66C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34F-BDB4-440F-918C-55CDAD57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A6C-A9D6-4F0A-992D-D79F1C0E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15B8-7DA4-4E16-8BFB-9B0289E8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75DC-1B8F-4D1D-BBDC-0B597705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2006-D0E0-4B40-B1E0-F57474F4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BFE4-6459-495B-B7B9-C6FC6F81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B14D-4316-4A98-92C6-E38CBA8B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C296-E11A-47E3-852E-E6C46BAD9B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autofixgarage.co.uk/images/cartyre.jpg&amp;imgrefurl=http://www.autofixgarage.co.uk/tyres.html&amp;h=465&amp;w=398&amp;sz=64&amp;hl=en&amp;start=4&amp;um=1&amp;tbnid=d6EzjcE7111TSM:&amp;tbnh=128&amp;tbnw=110&amp;prev=/images%3Fq%3Dcar%2Btyres%26svnum%3D10%26um%3D1%26hl%3Den%26safe%3Dactive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strangesports.com/images/content/12783.jpg&amp;imgrefurl=http://www.strangesports.com/content/item/12783.html&amp;h=249&amp;w=380&amp;sz=28&amp;hl=en&amp;start=28&amp;um=1&amp;tbnid=D8aeUVzVnO5QrM:&amp;tbnh=81&amp;tbnw=123&amp;prev=/images%3Fq%3Dski%2527s%2Bon%2Bsnow%26start%3D20%26ndsp%3D20%26svnum%3D10%26um%3D1%26hl%3Den%26safe%3Dactive%26sa%3D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.uk/imgres?imgurl=http://www.skylineracewayroch.com/images/waterslide_main.jpg&amp;imgrefurl=http://www.skylineracewayroch.com/slide.htm&amp;h=300&amp;w=450&amp;sz=154&amp;hl=en&amp;start=5&amp;um=1&amp;tbnid=wtz0mNJTv_Na5M:&amp;tbnh=85&amp;tbnw=127&amp;prev=/images%3Fq%3Dwater%2Bslide%26svnum%3D10%26um%3D1%26hl%3Den%26safe%3Dactive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ontent.answers.com/main/content/wp/en-commons/3/30/BallBearing.gif&amp;imgrefurl=http://www.answers.com/topic/bear&amp;h=240&amp;w=240&amp;sz=644&amp;hl=en&amp;start=4&amp;um=1&amp;tbnid=JH-YrrYC1vHdIM:&amp;tbnh=110&amp;tbnw=110&amp;prev=/images%3Fq%3Dreducing%2Bfriction%2Bby%2Bball%2Bbearings%26svnum%3D10%26um%3D1%26hl%3Den%26safe%3Dactive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.uk/imgres?imgurl=http://www.lubegard.com/automotive/images/ALL_2cycles.jpg&amp;imgrefurl=http://www.lubegard.com/automotive/engine_2cycle.html&amp;h=356&amp;w=278&amp;sz=15&amp;hl=en&amp;start=11&amp;um=1&amp;tbnid=o5iYqf5xmPJcsM:&amp;tbnh=121&amp;tbnw=94&amp;prev=/images%3Fq%3Dreducing%2Bfriction%26svnum%3D10%26um%3D1%26hl%3Den%26safe%3Dactive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28428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iction is a Force that always pushes against an object when it touches another objec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2 things are in contact with each other, there will be friction acting between th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friction helps to grip the road"/>
          <p:cNvPicPr/>
          <p:nvPr/>
        </p:nvPicPr>
        <p:blipFill>
          <a:blip r:embed="rId1"/>
          <a:stretch/>
        </p:blipFill>
        <p:spPr>
          <a:xfrm>
            <a:off x="826920" y="476280"/>
            <a:ext cx="2355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ric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friction (lots of friction) – will slow something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friction (not much friction) – will keep things 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friction or Low fri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ki’s on the 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 ty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kes on a bik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on a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ncil and rub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bike2-01lores-300a"/>
          <p:cNvPicPr/>
          <p:nvPr/>
        </p:nvPicPr>
        <p:blipFill>
          <a:blip r:embed="rId1"/>
          <a:stretch/>
        </p:blipFill>
        <p:spPr>
          <a:xfrm>
            <a:off x="539640" y="1557360"/>
            <a:ext cx="1959120" cy="295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istockphoto_1799633_pencil_rubber"/>
          <p:cNvPicPr/>
          <p:nvPr/>
        </p:nvPicPr>
        <p:blipFill>
          <a:blip r:embed="rId2"/>
          <a:stretch/>
        </p:blipFill>
        <p:spPr>
          <a:xfrm>
            <a:off x="2771640" y="3573360"/>
            <a:ext cx="2314800" cy="1541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carty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1773360"/>
            <a:ext cx="1047960" cy="1218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278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64000" y="2276640"/>
            <a:ext cx="1171440" cy="771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waterslide_mai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27640" y="3789360"/>
            <a:ext cx="12099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we reduce the friction between 2 objec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 the contact area by using rollers/ball-bearings/whe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 the surfaces of the materials that are touching by using lubrication eg.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te a cushion of 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. Like a hovercraft or air hockey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BallBear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162864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ALL_2cycl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80360" y="3789360"/>
            <a:ext cx="895320" cy="115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overcraft"/>
          <p:cNvPicPr/>
          <p:nvPr/>
        </p:nvPicPr>
        <p:blipFill>
          <a:blip r:embed="rId5"/>
          <a:stretch/>
        </p:blipFill>
        <p:spPr>
          <a:xfrm>
            <a:off x="1042920" y="5084640"/>
            <a:ext cx="1924200" cy="107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unbranded-power-air-hockey-table"/>
          <p:cNvPicPr/>
          <p:nvPr/>
        </p:nvPicPr>
        <p:blipFill>
          <a:blip r:embed="rId6"/>
          <a:stretch/>
        </p:blipFill>
        <p:spPr>
          <a:xfrm>
            <a:off x="4356000" y="5013360"/>
            <a:ext cx="9907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luid” 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type of friction is what happens with liquids and gase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(In Physics, liquids and gases are both called "fluids". They behave in similar way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uid friction is also known as "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ra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". On aircraft it's also called "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ir resistan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"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depends on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hick the fluid i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    (its "viscosity"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hape of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peed of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airforces2000"/>
          <p:cNvPicPr/>
          <p:nvPr/>
        </p:nvPicPr>
        <p:blipFill>
          <a:blip r:embed="rId1"/>
          <a:stretch/>
        </p:blipFill>
        <p:spPr>
          <a:xfrm>
            <a:off x="5724360" y="4005360"/>
            <a:ext cx="2448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rcraft and car designers want to reduce drag, so that the vehicle can go fast without having to waste too much fu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you think they can d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 streamlined shape reduces drag"/>
          <p:cNvPicPr/>
          <p:nvPr/>
        </p:nvPicPr>
        <p:blipFill>
          <a:blip r:embed="rId1"/>
          <a:stretch/>
        </p:blipFill>
        <p:spPr>
          <a:xfrm>
            <a:off x="6516720" y="0"/>
            <a:ext cx="2238480" cy="2085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To get less drag, we need SMOOTH airflow"/>
          <p:cNvPicPr/>
          <p:nvPr/>
        </p:nvPicPr>
        <p:blipFill>
          <a:blip r:embed="rId2"/>
          <a:stretch/>
        </p:blipFill>
        <p:spPr>
          <a:xfrm>
            <a:off x="1547640" y="3429000"/>
            <a:ext cx="583272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per Aeroplane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winning team is the one who gets their plane to stay in the air the longest and is the fast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sheet of blank pap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papercli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otch ta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only the materials indicated in the above list; you don’t have to use them 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lane may be constructed using all or part of the 21.5 x 28 cm sheet of pap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bel each plane with the "engineer’s" na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ach group is allowed three throws; record the best throw on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gin timing with the throw of the plane and end when the plane hits the flo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ttle a tie with a throw-off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3:12:54Z</dcterms:created>
  <dc:creator>CEC</dc:creator>
  <dc:description/>
  <dc:language>en-US</dc:language>
  <cp:lastModifiedBy>RomaK</cp:lastModifiedBy>
  <dcterms:modified xsi:type="dcterms:W3CDTF">2015-09-03T12:26:47Z</dcterms:modified>
  <cp:revision>9</cp:revision>
  <dc:subject/>
  <dc:title>Friction</dc:title>
</cp:coreProperties>
</file>