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4D73-C38A-491C-ADB3-D1517ABFBC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727-32E7-4B7B-BE7C-7ECC8BFF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040-5FB8-4D57-BCD7-2F4499FD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E11-F35B-4327-BFE1-4D0994B2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F37-5A00-4790-919F-F1C71FD6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18B-FE0B-4116-9B70-06D47688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AFD-04A2-4F7F-A4F5-EA73E0D3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509-3693-4C63-AAF6-4BF1FCC0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B5A-8611-417A-B608-88002DB5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3BF-E25E-4A69-8D1A-86776720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7FD-33F3-4A64-940E-0E4D299E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172-D764-4AAB-8837-0C230E5B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412-824D-4FFF-B0E1-3BD2A065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8F39-8CE7-49AD-BB95-59D0B3084B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autofixgarage.co.uk/images/cartyre.jpg&amp;imgrefurl=http://www.autofixgarage.co.uk/tyres.html&amp;h=465&amp;w=398&amp;sz=64&amp;hl=en&amp;start=4&amp;um=1&amp;tbnid=d6EzjcE7111TSM:&amp;tbnh=128&amp;tbnw=110&amp;prev=/images%3Fq%3Dcar%2Btyres%26svnum%3D10%26um%3D1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strangesports.com/images/content/12783.jpg&amp;imgrefurl=http://www.strangesports.com/content/item/12783.html&amp;h=249&amp;w=380&amp;sz=28&amp;hl=en&amp;start=28&amp;um=1&amp;tbnid=D8aeUVzVnO5QrM:&amp;tbnh=81&amp;tbnw=123&amp;prev=/images%3Fq%3Dski%2527s%2Bon%2Bsnow%26start%3D20%26ndsp%3D20%26svnum%3D10%26um%3D1%26hl%3Den%26safe%3Dactive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.uk/imgres?imgurl=http://www.skylineracewayroch.com/images/waterslide_main.jpg&amp;imgrefurl=http://www.skylineracewayroch.com/slide.htm&amp;h=300&amp;w=450&amp;sz=154&amp;hl=en&amp;start=5&amp;um=1&amp;tbnid=wtz0mNJTv_Na5M:&amp;tbnh=85&amp;tbnw=127&amp;prev=/images%3Fq%3Dwater%2Bslide%26svnum%3D10%26um%3D1%26hl%3Den%26safe%3Dactive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tent.answers.com/main/content/wp/en-commons/3/30/BallBearing.gif&amp;imgrefurl=http://www.answers.com/topic/bear&amp;h=240&amp;w=240&amp;sz=644&amp;hl=en&amp;start=4&amp;um=1&amp;tbnid=JH-YrrYC1vHdIM:&amp;tbnh=110&amp;tbnw=110&amp;prev=/images%3Fq%3Dreducing%2Bfriction%2Bby%2Bball%2Bbearings%26svnum%3D10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.uk/imgres?imgurl=http://www.lubegard.com/automotive/images/ALL_2cycles.jpg&amp;imgrefurl=http://www.lubegard.com/automotive/engine_2cycle.html&amp;h=356&amp;w=278&amp;sz=15&amp;hl=en&amp;start=11&amp;um=1&amp;tbnid=o5iYqf5xmPJcsM:&amp;tbnh=121&amp;tbnw=94&amp;prev=/images%3Fq%3Dreducing%2Bfriction%26svnum%3D10%26um%3D1%26hl%3Den%26safe%3Dactive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28428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riction helps to grip the road"/>
          <p:cNvPicPr/>
          <p:nvPr/>
        </p:nvPicPr>
        <p:blipFill>
          <a:blip r:embed="rId1"/>
          <a:stretch/>
        </p:blipFill>
        <p:spPr>
          <a:xfrm>
            <a:off x="826920" y="476280"/>
            <a:ext cx="2355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ike2-01lores-300a"/>
          <p:cNvPicPr/>
          <p:nvPr/>
        </p:nvPicPr>
        <p:blipFill>
          <a:blip r:embed="rId1"/>
          <a:stretch/>
        </p:blipFill>
        <p:spPr>
          <a:xfrm>
            <a:off x="539640" y="1557360"/>
            <a:ext cx="1959120" cy="295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stockphoto_1799633_pencil_rubber"/>
          <p:cNvPicPr/>
          <p:nvPr/>
        </p:nvPicPr>
        <p:blipFill>
          <a:blip r:embed="rId2"/>
          <a:stretch/>
        </p:blipFill>
        <p:spPr>
          <a:xfrm>
            <a:off x="2771640" y="3573360"/>
            <a:ext cx="2314800" cy="154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arty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1773360"/>
            <a:ext cx="104796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27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2276640"/>
            <a:ext cx="117144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waterslide_mai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27640" y="3789360"/>
            <a:ext cx="12099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BallBear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1628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ALL_2cycl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3789360"/>
            <a:ext cx="895320" cy="115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overcraft"/>
          <p:cNvPicPr/>
          <p:nvPr/>
        </p:nvPicPr>
        <p:blipFill>
          <a:blip r:embed="rId5"/>
          <a:stretch/>
        </p:blipFill>
        <p:spPr>
          <a:xfrm>
            <a:off x="1042920" y="5084640"/>
            <a:ext cx="1924200" cy="107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unbranded-power-air-hockey-table"/>
          <p:cNvPicPr/>
          <p:nvPr/>
        </p:nvPicPr>
        <p:blipFill>
          <a:blip r:embed="rId6"/>
          <a:stretch/>
        </p:blipFill>
        <p:spPr>
          <a:xfrm>
            <a:off x="4356000" y="5013360"/>
            <a:ext cx="990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In Physics, liquids and gases are both called "fluids". They behave in similar way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uid friction is also known as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On aircraft it's also called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ir resist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airforces2000"/>
          <p:cNvPicPr/>
          <p:nvPr/>
        </p:nvPicPr>
        <p:blipFill>
          <a:blip r:embed="rId1"/>
          <a:stretch/>
        </p:blipFill>
        <p:spPr>
          <a:xfrm>
            <a:off x="5724360" y="4005360"/>
            <a:ext cx="2448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 streamlined shape reduces drag"/>
          <p:cNvPicPr/>
          <p:nvPr/>
        </p:nvPicPr>
        <p:blipFill>
          <a:blip r:embed="rId1"/>
          <a:stretch/>
        </p:blipFill>
        <p:spPr>
          <a:xfrm>
            <a:off x="6516720" y="0"/>
            <a:ext cx="2238480" cy="208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To get less drag, we need SMOOTH airflow"/>
          <p:cNvPicPr/>
          <p:nvPr/>
        </p:nvPicPr>
        <p:blipFill>
          <a:blip r:embed="rId2"/>
          <a:stretch/>
        </p:blipFill>
        <p:spPr>
          <a:xfrm>
            <a:off x="1547640" y="3429000"/>
            <a:ext cx="58327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tle a tie with a throw-off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3:12:54Z</dcterms:created>
  <dc:creator>CEC</dc:creator>
  <dc:description/>
  <dc:language>en-US</dc:language>
  <cp:lastModifiedBy>RomaK</cp:lastModifiedBy>
  <dcterms:modified xsi:type="dcterms:W3CDTF">2015-09-03T12:26:47Z</dcterms:modified>
  <cp:revision>9</cp:revision>
  <dc:subject/>
  <dc:title>Friction</dc:title>
</cp:coreProperties>
</file>