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2.jpeg" ContentType="image/jpeg"/>
  <Override PartName="/ppt/media/image10.png" ContentType="image/png"/>
  <Override PartName="/ppt/media/image6.jpeg" ContentType="image/jpeg"/>
  <Override PartName="/ppt/media/image9.png" ContentType="image/png"/>
  <Override PartName="/ppt/media/image7.png" ContentType="image/png"/>
  <Override PartName="/ppt/media/image11.jpeg" ContentType="image/jpeg"/>
  <Override PartName="/ppt/media/image8.png" ContentType="image/png"/>
  <Override PartName="/ppt/media/image5.jpeg" ContentType="image/jpeg"/>
  <Override PartName="/ppt/media/image4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DE85B-3676-4BE3-B5D8-2BCAE2D7F758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ject Gam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y Wylie Ballinger and Sam Russe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Project Gamma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By Wylie Ballinger and Sam Russell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GRO EGR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ompton Gamma Ray Observatory Energetic Gamma Ray Experiment Telescop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0° Field of Vie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unched in 1991 as an Experimental Progra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-entered in 200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CGRO EGRET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 Compton Gamma Ray Observatory Energetic Gamma Ray Experiment Telescope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80° Field of View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Launched in 1991 as an Experimental Program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Re-entered in 2004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jor EGRET Discove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inding of a new class of objects--high energy gamma-ray emitting blazars, or grazar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mission of high energy gamma-rays from a gamma ray burst for over an hour, with some gamma rays having energies over a GeV and two having energies over 10 GeV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observation of an increased fraction of pulsar electromagnetic radiation going into gamma rays as the age of the pulsar increases to a million year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etermination with high certainty that cosmic rays are galactic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etailed mapping of the galactic diffuse radiation and the measurement of the pion bump in the high energy gamma-ray spectru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bsence of microsecond bursts and its implication for certain unification theori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ong trapping time of over ten hours for energetic solar particles following a flar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measurement of the diffuse, presumably extragalactic, high energy gamma ray spectru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lheawww.gsfc.nasa.gov/docs/gamcosray/EGRET/highlights.htm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Major EGRET Discoveries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 finding of a new class of objects--high energy gamma-ray emitting blazars, or grazars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 emission of high energy gamma-rays from a gamma ray burst for over an hour, with some gamma rays having energies over a GeV and two having energies over 10 GeV.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 observation of an increased fraction of pulsar electromagnetic radiation going into gamma rays as the age of the pulsar increases to a million years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 determination with high certainty that cosmic rays are galactic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 detailed mapping of the galactic diffuse radiation and the measurement of the pion bump in the high energy gamma-ray spectrum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 absence of microsecond bursts and its implication for certain unification theories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 long trapping time of over ten hours for energetic solar particles following a flare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A measurement of the diffuse, presumably extragalactic, high energy gamma ray spectrum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http://lheawww.gsfc.nasa.gov/docs/gamcosray/EGRET/highlights.html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GR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tional Gamma-Ray Astrophysics Laborato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uropean Space Agenc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mark, France, Germany, Italy, Spain and Switzerla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+ Czech Republic and Pola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th help from Russia and 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iant molecular cloud in the center of the galaxy that was just recently discover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INTERGRAL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International Gamma-Ray Astrophysics Laboratory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European Space Agency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Demark, France, Germany, Italy, Spain and Switzerland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+ Czech Republic and Poland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ith help from Russia and US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Giant molecular cloud in the center of the galaxy that was just recently discovered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200" spc="-1" strike="noStrike">
                <a:solidFill>
                  <a:srgbClr val="000000"/>
                </a:solidFill>
                <a:latin typeface="Calibri"/>
              </a:rPr>
              <a:t>Gamma-Ray Burst over 40 Seco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200" spc="-1" strike="noStrike">
                <a:solidFill>
                  <a:srgbClr val="000000"/>
                </a:solidFill>
                <a:latin typeface="Calibri"/>
              </a:rPr>
              <a:t>http://www.rssd.esa.int/Integral/integ_images.htm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200" spc="-1" strike="noStrike">
                <a:solidFill>
                  <a:srgbClr val="eaeaea"/>
                </a:solidFill>
                <a:latin typeface="Arial"/>
              </a:rPr>
              <a:t>Gamma-Ray Burst over 40 Seconds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200" spc="-1" strike="noStrike">
                <a:solidFill>
                  <a:srgbClr val="eaeaea"/>
                </a:solidFill>
                <a:latin typeface="Arial"/>
              </a:rPr>
              <a:t>http://www.rssd.esa.int/Integral/integ_images.html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Cool Picture !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A Cool Picture !!!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r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imagers.gsfc.nasa.gov/ems/gamma.htm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science.nasa.gov/newhome/headlines/ast09feb99_1.ht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wordiq.com/definition/Gamma_ray_burs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imagine.gsfc.nasa.gov/docs/science/how_l2/compton_scatter.htm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imagine.gsfc.nasa.gov/docs/science/how_l2/gamma_detectors.htm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imagine.gsfc.nasa.gov/docs/science/how_l1/gamma_detectors.htm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astro.utu.fi/~cflynn/astroII/l7.htm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learntech.uwe.ac.uk/radiography/RScience/interactions/comptonscatter.ht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imagine.gsfc.nasa.gov/docs/science/how_l2/gamma_scintillators.htm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ources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http://imagers.gsfc.nasa.gov/ems/gamma.html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http://science.nasa.gov/newhome/headlines/ast09feb99_1.htm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http://www.wordiq.com/definition/Gamma_ray_burst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http://imagine.gsfc.nasa.gov/docs/science/how_l2/compton_scatter.html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http://imagine.gsfc.nasa.gov/docs/science/how_l2/gamma_detectors.html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http://imagine.gsfc.nasa.gov/docs/science/how_l1/gamma_detectors.html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http://www.astro.utu.fi/~cflynn/astroII/l7.html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http://learntech.uwe.ac.uk/radiography/RScience/interactions/comptonscatter.htm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http://imagine.gsfc.nasa.gov/docs/science/how_l2/gamma_scintillators.html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re Gamma Ray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ost potent particles on the electromagnetic scale and the known univer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TeV (1,000,000,000,000 eV, where an optical photon has an energy of a few eV’ http://imagine.gsfc.nasa.gov/docs/science/how_l2/gamma_detectors.htm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mallest wave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ite ra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ly created by radioactive atoms and nuclear react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hottest regions of the universe produce the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med by Supernovae, Pulsars, Neutron Stars, Black holes, and Gamma Ray Burst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on vol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hange of potential energy experienced by an electron moving from a place where the potential has a value of V to a place where it has a value of (V+1 volt). This is a convenient energy unit when dealing with the motions of electrons and ions in electric fields; the unit is also the one used to describe the energy of X-rays and gamma rays. A keV (or kiloelectron volt) is equal to 1000 electron volts. An MeV is equal to one million electron volts. A GeV is equal to one billion (109) electron volts. A TeV is equal to a million million (1012) electron volts.’ http://imagine.gsfc.nasa.gov/docs/science/how_l2/gamma_detectors.htm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hat are Gamma Rays?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 most potent particles on the electromagnetic scale and the known universe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 ‘</a:t>
            </a: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1 TeV (1,000,000,000,000 eV, where an optical photon has an energy of a few eV’ http://imagine.gsfc.nasa.gov/docs/science/how_l2/gamma_detectors.html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mallest wavelength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Quite rare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Only created by radioactive atoms and nuclear reactions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 hottest regions of the universe produce them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Formed by Supernovae, Pulsars, Neutron Stars, Black holes, and Gamma Ray Bursters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‘</a:t>
            </a: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electron volt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 change of potential energy experienced by an electron moving from a place where the potential has a value of V to a place where it has a value of (V+1 volt). This is a convenient energy unit when dealing with the motions of electrons and ions in electric fields; the unit is also the one used to describe the energy of X-rays and gamma rays. A keV (or kiloelectron volt) is equal to 1000 electron volts. An MeV is equal to one million electron volts. A GeV is equal to one billion (109) electron volts. A TeV is equal to a million million (1012) electron volts.’ http://imagine.gsfc.nasa.gov/docs/science/how_l2/gamma_detectors.html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eing in Gam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plorer XI launched first satellite in 1961 was the first gamma ray receiv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picked up fewer than 100 cosmic gamma-ray photons tot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GRO satell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oon gives off more Gamma Rays than the su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rrors don’t wor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eeing in Gamma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Explorer XI launched first satellite in 1961 was the first gamma ray receiver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It picked up fewer than 100 cosmic gamma-ray photons total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CGRO satellite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 moon gives off more Gamma Rays than the sun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Mirrors don’t work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o We See Gamma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-30 MeV Is the ideal range that we wish to se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tive galaxies, pulsars, and solar flar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ton Scattering and how it work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How Do We See Gamma?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1-30 MeV Is the ideal range that we wish to see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Active galaxies, pulsars, and solar flares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Compton Scattering and how it works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o We See in Gamma? Continued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’m a visual person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learntech.uwe.ac.uk/radiography/RScience/interactions/comptonscatter.ht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How Do We See in Gamma? Continued…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I’m a visual person…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http://learntech.uwe.ac.uk/radiography/RScience/interactions/comptonscatter.htm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 How Does That Work Agai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ystal Scintillator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ystals that emit low energy light (usually visible) when hit by high energy light such as gamma radia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ir Produ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hysical process whereby a gamma-ray photon, usually through an interaction with the electromagnetic field of a nucleus, produces an electron and an anti-electron (positron). The original photon no longer exists, its energy having gone to the two resulting particles. The inverse process, pair annihilation, creates two gamma-ray photons from the mutual destruction of an electron/positron pair. http://imagine.gsfc.nasa.gov/docs/dict_jp.html#pair_producti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GRO uses compton scattering and pair produc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unched in April 5th, 1991 on Atlantis shuttle. Had a visual range of 30 KeV to 30 Ge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rst And Transient Source Experiment (BATSE), the Oriented Scintillation Spectrometer Experiment (OSSE), the Imaging Compton Telescope (COMPTEL), and the Energetic Gamma Ray Experiment Telescope (EGRET). http://cossc.gsfc.nasa.gov/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turned to Earth on June 4th 200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mma-ray Large Area Space Telescope is being sent up by Nasa in 2007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o How Does That Work Again?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Crystal Scintillators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Crystals that emit low energy light (usually visible) when hit by high energy light such as gamma radiation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Pair Production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 physical process whereby a gamma-ray photon, usually through an interaction with the electromagnetic field of a nucleus, produces an electron and an anti-electron (positron). The original photon no longer exists, its energy having gone to the two resulting particles. The inverse process, pair annihilation, creates two gamma-ray photons from the mutual destruction of an electron/positron pair. http://imagine.gsfc.nasa.gov/docs/dict_jp.html#pair_production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CGRO uses compton scattering and pair production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Launched in April 5th, 1991 on Atlantis shuttle. Had a visual range of 30 KeV to 30 GeV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Burst And Transient Source Experiment (BATSE), the Oriented Scintillation Spectrometer Experiment (OSSE), the Imaging Compton Telescope (COMPTEL), and the Energetic Gamma Ray Experiment Telescope (EGRET). http://cossc.gsfc.nasa.gov/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Returned to Earth on June 4th 2000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Gamma-ray Large Area Space Telescope is being sent up by Nasa in 2007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mma Ray Burst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es what it says on the box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imagers.gsfc.nasa.gov/ems/gamma.htm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ost energetic things in the universe that we know of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re energy in 10 seconds than our sun can produce in its entire liftime of 10,000,000,000 years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Gamma Ray Bursters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Does what it says on the box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http://imagers.gsfc.nasa.gov/ems/gamma.html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 most energetic things in the universe that we know of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More energy in 10 seconds than our sun can produce in its entire liftime of 10,000,000,000 years!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L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mma-Ray Large Area Space Telescope Large Area Telescop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nded Jointly by the US, Japan, France and Swed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curacy of 30 Arc seco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unch in 200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GLAST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Gamma-Ray Large Area Space Telescope Large Area Telescope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Funded Jointly by the US, Japan, France and Sweden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Accuracy of 30 Arc seconds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Launch in 2006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GR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ton Gamma Ray Observato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ur telescopes on it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BAT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se and Transient Source Experi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OS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riented Scintilliation Spectrometer Experi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 COMPTE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aging Compton Telescop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 EGR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etic Gamma Ray Experiment Telescop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CGRO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Compton Gamma Ray Observatory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Four telescopes on it: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1. BATSE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Base and Transient Source Experiment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2. OSSE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Oriented Scintilliation Spectrometer Experiment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3. COMPTEL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Imaging Compton Telescope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4. EGRET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Energetic Gamma Ray Experiment Telescope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472A7-FFAC-4388-8B2C-035BC6B6D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5DD46-C49D-4655-977A-FE2D776A3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FA66D-76CD-47EC-864B-4DD2EA8BD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D6109-B5A4-49E3-8473-696E194EA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237DC-E629-4D82-8ADC-F718345BC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22043-5D7C-425B-9917-8DD7AEA71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1ABA8-7A8A-4695-8459-F226E9487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BD32A-3E56-4244-8CCE-E8895E311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581BA-5E8D-423D-8DEA-C7F1C078D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4EFF9-5F0F-4C24-BE10-1CED2FEA7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0B4B5-8F42-40F4-BE96-6B59468F8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E928C-3678-4626-89AB-320D45C3D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BDBF8-569A-45DE-9EAB-95D53CEC5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33772-1BEB-4F30-AF21-5601CD1DC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E7D7F-1ED3-418C-AA1E-AB90CB439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56CA5-B750-42E8-B1F0-E82294CAD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9BF7A-9BD0-49D2-B116-39D201AE9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C272B-AA90-4314-8BC3-6254B734E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13B52-3D12-43F5-A9D8-9371FFC8E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7DD99-950A-4EEE-9387-32A7BEB4C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69DDF-29A8-4BE2-A027-83422143D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25C62-7833-49CE-961B-C9BA4A040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0625C-D2A5-41F6-B9FB-60674E807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EF3FC-8A12-4FB2-A346-2C84FF923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70F17-490F-4EE0-A68F-F186CB3B358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6A996-C0F7-4DC5-A824-70DE9420C7F3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lheawww.gsfc.nasa.gov/docs/gamcosray/EGRET/highlights.html" TargetMode="External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hyperlink" Target="http://www.rssd.esa.int/Integral/integ_images.html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imagers.gsfc.nasa.gov/ems/gamma.html" TargetMode="External"/><Relationship Id="rId2" Type="http://schemas.openxmlformats.org/officeDocument/2006/relationships/hyperlink" Target="http://science.nasa.gov/newhome/headlines/ast09feb99_1.htm" TargetMode="External"/><Relationship Id="rId3" Type="http://schemas.openxmlformats.org/officeDocument/2006/relationships/hyperlink" Target="http://www.wordiq.com/definition/Gamma_ray_burst" TargetMode="External"/><Relationship Id="rId4" Type="http://schemas.openxmlformats.org/officeDocument/2006/relationships/hyperlink" Target="http://imagine.gsfc.nasa.gov/docs/science/how_l2/compton_scatter.html" TargetMode="External"/><Relationship Id="rId5" Type="http://schemas.openxmlformats.org/officeDocument/2006/relationships/hyperlink" Target="http://imagine.gsfc.nasa.gov/docs/science/how_l2/gamma_detectors.html" TargetMode="External"/><Relationship Id="rId6" Type="http://schemas.openxmlformats.org/officeDocument/2006/relationships/image" Target="../media/image23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ine.gsfc.nasa.gov/docs/science/how_l2/gamma_detectors.html" TargetMode="External"/><Relationship Id="rId2" Type="http://schemas.openxmlformats.org/officeDocument/2006/relationships/image" Target="../media/image3.png"/><Relationship Id="rId3" Type="http://schemas.openxmlformats.org/officeDocument/2006/relationships/hyperlink" Target="http://imagine.gsfc.nasa.gov/docs/science/how_l2/gamma_detectors.html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hyperlink" Target="http://learntech.uwe.ac.uk/radiography/RScience/interactions/comptonscatter.htm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ine.gsfc.nasa.gov/docs/dict_jp.html#pair_production" TargetMode="External"/><Relationship Id="rId2" Type="http://schemas.openxmlformats.org/officeDocument/2006/relationships/hyperlink" Target="http://cossc.gsfc.nasa.gov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rs.gsfc.nasa.gov/ems/gamma.html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 u="sng">
                <a:solidFill>
                  <a:srgbClr val="ccecff"/>
                </a:solidFill>
                <a:uFillTx/>
                <a:latin typeface="Arial"/>
              </a:rPr>
              <a:t>Project Gamma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Rectangle 4"/>
          <p:cNvSpPr/>
          <p:nvPr/>
        </p:nvSpPr>
        <p:spPr>
          <a:xfrm>
            <a:off x="3124080" y="1676520"/>
            <a:ext cx="358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By Wylie Ballinger and Sam Russell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1" name="Picture 5" descr=""/>
          <p:cNvPicPr/>
          <p:nvPr/>
        </p:nvPicPr>
        <p:blipFill>
          <a:blip r:embed="rId1"/>
          <a:stretch/>
        </p:blipFill>
        <p:spPr>
          <a:xfrm>
            <a:off x="3581280" y="1905120"/>
            <a:ext cx="2089440" cy="94932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6" descr=""/>
          <p:cNvPicPr/>
          <p:nvPr/>
        </p:nvPicPr>
        <p:blipFill>
          <a:blip r:embed="rId2"/>
          <a:stretch/>
        </p:blipFill>
        <p:spPr>
          <a:xfrm>
            <a:off x="2133720" y="2895480"/>
            <a:ext cx="5379840" cy="3586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GRO EGRE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64508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he Compton Gamma Ray Observatory Energetic Gamma Ray Experiment Telesco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80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Arial"/>
              </a:rPr>
              <a:t>° Field of View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Arial"/>
              </a:rPr>
              <a:t>Launched in 1991 as an Experimental Program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Arial"/>
              </a:rPr>
              <a:t>Re-entered in 2004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55" name="Picture 7" descr="scheme_small"/>
          <p:cNvPicPr/>
          <p:nvPr/>
        </p:nvPicPr>
        <p:blipFill>
          <a:blip r:embed="rId1"/>
          <a:stretch/>
        </p:blipFill>
        <p:spPr>
          <a:xfrm>
            <a:off x="1111320" y="1689120"/>
            <a:ext cx="2724120" cy="199080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8" descr="untitled2"/>
          <p:cNvPicPr/>
          <p:nvPr/>
        </p:nvPicPr>
        <p:blipFill>
          <a:blip r:embed="rId2"/>
          <a:stretch/>
        </p:blipFill>
        <p:spPr>
          <a:xfrm>
            <a:off x="228600" y="3886200"/>
            <a:ext cx="1622520" cy="217332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9" descr="gro"/>
          <p:cNvPicPr/>
          <p:nvPr/>
        </p:nvPicPr>
        <p:blipFill>
          <a:blip r:embed="rId3"/>
          <a:stretch/>
        </p:blipFill>
        <p:spPr>
          <a:xfrm>
            <a:off x="1828800" y="3886200"/>
            <a:ext cx="289548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Major EGRET Discoveri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5760" y="1295280"/>
            <a:ext cx="403704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The finding of a new class of objects--high energy gamma-ray emitting blazars, or grazars 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The emission of high energy gamma-rays from a gamma ray burst for over an hour, with some gamma rays having energies over a GeV and two having energies over 10 GeV. 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The observation of an increased fraction of pulsar electromagnetic radiation going into gamma rays as the age of the pulsar increases to a million years 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The determination with high certainty that cosmic rays are galactic 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The detailed mapping of the galactic diffuse radiation and the measurement of the pion bump in the high energy gamma-ray spectrum 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The absence of microsecond bursts and its implication for certain unification theories 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The long trapping time of over ten hours for energetic solar particles following a flare 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A measurement of the diffuse, presumably extragalactic, high energy gamma ray spectrum</a:t>
            </a: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65b2ff"/>
                </a:solidFill>
                <a:uFillTx/>
                <a:latin typeface="Times New Roman"/>
                <a:hlinkClick r:id="rId1"/>
              </a:rPr>
              <a:t>http://lheawww.gsfc.nasa.gov/docs/gamcosray/EGRET/highlights.html</a:t>
            </a: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60" name="Picture 5" descr="untitled3"/>
          <p:cNvPicPr/>
          <p:nvPr/>
        </p:nvPicPr>
        <p:blipFill>
          <a:blip r:embed="rId2"/>
          <a:stretch/>
        </p:blipFill>
        <p:spPr>
          <a:xfrm>
            <a:off x="4645080" y="2768760"/>
            <a:ext cx="4037040" cy="215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6" descr="catalog_sky"/>
          <p:cNvPicPr/>
          <p:nvPr/>
        </p:nvPicPr>
        <p:blipFill>
          <a:blip r:embed="rId1"/>
          <a:stretch/>
        </p:blipFill>
        <p:spPr>
          <a:xfrm>
            <a:off x="426960" y="228600"/>
            <a:ext cx="8336160" cy="644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INTERGRAL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3704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International Gamma-Ray Astrophysics Laboratory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European Space Agency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Demark, France, Germany, Italy, Spain and Switzerland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+ Czech Republic and Poland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With help from Russia and US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Giant molecular cloud in the center of the galaxy that was just recently discovered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64" name="Picture 9" descr="POMOct2004"/>
          <p:cNvPicPr/>
          <p:nvPr/>
        </p:nvPicPr>
        <p:blipFill>
          <a:blip r:embed="rId1"/>
          <a:stretch/>
        </p:blipFill>
        <p:spPr>
          <a:xfrm>
            <a:off x="5181480" y="1143000"/>
            <a:ext cx="3473640" cy="53341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10" descr="integral"/>
          <p:cNvPicPr/>
          <p:nvPr/>
        </p:nvPicPr>
        <p:blipFill>
          <a:blip r:embed="rId2"/>
          <a:stretch/>
        </p:blipFill>
        <p:spPr>
          <a:xfrm>
            <a:off x="76320" y="4191120"/>
            <a:ext cx="1684080" cy="22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Gamma-Ray Burst over 40 Seconds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67" name="Picture 6" descr="untitled"/>
          <p:cNvPicPr/>
          <p:nvPr/>
        </p:nvPicPr>
        <p:blipFill>
          <a:blip r:embed="rId1"/>
          <a:stretch/>
        </p:blipFill>
        <p:spPr>
          <a:xfrm>
            <a:off x="1143000" y="1103400"/>
            <a:ext cx="6858000" cy="5608440"/>
          </a:xfrm>
          <a:prstGeom prst="rect">
            <a:avLst/>
          </a:prstGeom>
          <a:ln w="0">
            <a:noFill/>
          </a:ln>
        </p:spPr>
      </p:pic>
      <p:sp>
        <p:nvSpPr>
          <p:cNvPr id="268" name="Text Box 7"/>
          <p:cNvSpPr/>
          <p:nvPr/>
        </p:nvSpPr>
        <p:spPr>
          <a:xfrm>
            <a:off x="152280" y="6613560"/>
            <a:ext cx="5334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65b2ff"/>
                </a:solidFill>
                <a:uFillTx/>
                <a:latin typeface="Arial"/>
                <a:hlinkClick r:id="rId2"/>
              </a:rPr>
              <a:t>http://www.rssd.esa.int/Integral/integ_images.html</a:t>
            </a: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ecff"/>
                </a:solidFill>
                <a:uFillTx/>
                <a:latin typeface="Arial"/>
              </a:rPr>
              <a:t>A Cool Picture !!!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70" name="Picture 6" descr="untitled4"/>
          <p:cNvPicPr/>
          <p:nvPr/>
        </p:nvPicPr>
        <p:blipFill>
          <a:blip r:embed="rId1"/>
          <a:stretch/>
        </p:blipFill>
        <p:spPr>
          <a:xfrm>
            <a:off x="14400" y="1730520"/>
            <a:ext cx="9144000" cy="4228920"/>
          </a:xfrm>
          <a:prstGeom prst="rect">
            <a:avLst/>
          </a:prstGeom>
          <a:ln w="9360">
            <a:solidFill>
              <a:srgbClr val="eaeaea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748640" cy="9921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ccecff"/>
                </a:solidFill>
                <a:uFillTx/>
                <a:latin typeface="Arial"/>
              </a:rPr>
              <a:t>Sourc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76212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5b2ff"/>
                </a:solidFill>
                <a:uFillTx/>
                <a:latin typeface="Times New Roman"/>
                <a:ea typeface="SimSun"/>
                <a:hlinkClick r:id="rId1"/>
              </a:rPr>
              <a:t>http://imagers.gsfc.nasa.gov/ems/gamma.html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  <a:ea typeface="SimSun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5b2ff"/>
                </a:solidFill>
                <a:uFillTx/>
                <a:latin typeface="Times New Roman"/>
                <a:ea typeface="SimSun"/>
                <a:hlinkClick r:id="rId2"/>
              </a:rPr>
              <a:t>http://science.nasa.gov/newhome/headlines/ast09feb99_1.htm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  <a:ea typeface="SimSun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5b2ff"/>
                </a:solidFill>
                <a:uFillTx/>
                <a:latin typeface="Times New Roman"/>
                <a:ea typeface="SimSun"/>
                <a:hlinkClick r:id="rId3"/>
              </a:rPr>
              <a:t>http://www.wordiq.com/definition/Gamma_ray_burst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  <a:ea typeface="SimSun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5b2ff"/>
                </a:solidFill>
                <a:uFillTx/>
                <a:latin typeface="Times New Roman"/>
                <a:ea typeface="SimSun"/>
                <a:hlinkClick r:id="rId4"/>
              </a:rPr>
              <a:t>http://imagine.gsfc.nasa.gov/docs/science/how_l2/compton_scatter.html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  <a:ea typeface="SimSun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5b2ff"/>
                </a:solidFill>
                <a:uFillTx/>
                <a:latin typeface="Times New Roman"/>
                <a:ea typeface="SimSun"/>
                <a:hlinkClick r:id="rId5"/>
              </a:rPr>
              <a:t>http://imagine.gsfc.nasa.gov/docs/science/how_l2/gamma_detectors.html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  <a:ea typeface="SimSun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SimSun"/>
              </a:rPr>
              <a:t>http://imagine.gsfc.nasa.gov/docs/science/how_l1/gamma_detectors.html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  <a:ea typeface="SimSun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SimSun"/>
              </a:rPr>
              <a:t>http://www.astro.utu.fi/~cflynn/astroII/l7.html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  <a:ea typeface="SimSun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SimSun"/>
              </a:rPr>
              <a:t>http://learntech.uwe.ac.uk/radiography/RScience/interactions/comptonscatter.htm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  <a:ea typeface="SimSun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SimSun"/>
              </a:rPr>
              <a:t>http://imagine.gsfc.nasa.gov/docs/science/how_l2/gamma_scintillators.html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  <a:ea typeface="SimSun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73" name="Picture 4" descr=""/>
          <p:cNvPicPr/>
          <p:nvPr/>
        </p:nvPicPr>
        <p:blipFill>
          <a:blip r:embed="rId6"/>
          <a:stretch/>
        </p:blipFill>
        <p:spPr>
          <a:xfrm>
            <a:off x="3048120" y="4940280"/>
            <a:ext cx="2819160" cy="170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779400" y="384120"/>
            <a:ext cx="7748640" cy="9921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hat are Gamma Rays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25909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34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The most potent particles on the electromagnetic scale and the known universe.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24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 ‘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1 </a:t>
            </a:r>
            <a:r>
              <a:rPr b="0" lang="en-US" sz="1400" spc="-1" strike="noStrike" u="sng">
                <a:solidFill>
                  <a:srgbClr val="eaeaea"/>
                </a:solidFill>
                <a:uFillTx/>
                <a:latin typeface="Arial"/>
              </a:rPr>
              <a:t>TeV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 (1,000,000,000,000 eV, where an optical photon has an energy of a few eV’ </a:t>
            </a:r>
            <a:r>
              <a:rPr b="0" lang="en-US" sz="1000" spc="-1" strike="noStrike" u="sng">
                <a:solidFill>
                  <a:srgbClr val="65b2ff"/>
                </a:solidFill>
                <a:uFillTx/>
                <a:latin typeface="Arial"/>
                <a:hlinkClick r:id="rId1"/>
              </a:rPr>
              <a:t>http://imagine.gsfc.nasa.gov/docs/science/how_l2/gamma_detectors.html</a:t>
            </a: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34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Smallest wavelength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34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Quite rare.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34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Only created by radioactive atoms and nuclear reactions.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34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The hottest regions of the universe produce them.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34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Formed by Supernovae, Pulsars, Neutron Stars, Black holes, and Gamma Ray Bursters.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5" name="Picture 4" descr=""/>
          <p:cNvPicPr/>
          <p:nvPr/>
        </p:nvPicPr>
        <p:blipFill>
          <a:blip r:embed="rId2"/>
          <a:stretch/>
        </p:blipFill>
        <p:spPr>
          <a:xfrm>
            <a:off x="3352680" y="1371600"/>
            <a:ext cx="6019920" cy="3352680"/>
          </a:xfrm>
          <a:prstGeom prst="rect">
            <a:avLst/>
          </a:prstGeom>
          <a:ln w="0">
            <a:noFill/>
          </a:ln>
        </p:spPr>
      </p:pic>
      <p:sp>
        <p:nvSpPr>
          <p:cNvPr id="226" name="Rectangle 6"/>
          <p:cNvSpPr/>
          <p:nvPr/>
        </p:nvSpPr>
        <p:spPr>
          <a:xfrm>
            <a:off x="3352680" y="4800600"/>
            <a:ext cx="3461040" cy="17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eaeaea"/>
                </a:solidFill>
                <a:latin typeface="Times New Roman"/>
              </a:rPr>
              <a:t>‘</a:t>
            </a:r>
            <a:r>
              <a:rPr b="1" lang="en-US" sz="900" spc="-1" strike="noStrike">
                <a:solidFill>
                  <a:srgbClr val="eaeaea"/>
                </a:solidFill>
                <a:latin typeface="Times New Roman"/>
              </a:rPr>
              <a:t>electron volt</a:t>
            </a:r>
            <a:endParaRPr b="0" lang="en-US" sz="9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eaeaea"/>
                </a:solidFill>
                <a:latin typeface="Times New Roman"/>
              </a:rPr>
              <a:t>The change of potential energy experienced by an </a:t>
            </a:r>
            <a:r>
              <a:rPr b="0" lang="en-US" sz="900" spc="-1" strike="noStrike" u="sng">
                <a:solidFill>
                  <a:srgbClr val="eaeaea"/>
                </a:solidFill>
                <a:uFillTx/>
                <a:latin typeface="Times New Roman"/>
              </a:rPr>
              <a:t>electron</a:t>
            </a:r>
            <a:r>
              <a:rPr b="0" lang="en-US" sz="900" spc="-1" strike="noStrike">
                <a:solidFill>
                  <a:srgbClr val="eaeaea"/>
                </a:solidFill>
                <a:latin typeface="Times New Roman"/>
              </a:rPr>
              <a:t> moving from a place where the potential has a value of V to a place where it has a value of (V+1 volt). This is a convenient energy unit when dealing with the motions of electrons and </a:t>
            </a:r>
            <a:r>
              <a:rPr b="0" lang="en-US" sz="900" spc="-1" strike="noStrike" u="sng">
                <a:solidFill>
                  <a:srgbClr val="eaeaea"/>
                </a:solidFill>
                <a:uFillTx/>
                <a:latin typeface="Times New Roman"/>
              </a:rPr>
              <a:t>ions</a:t>
            </a:r>
            <a:r>
              <a:rPr b="0" lang="en-US" sz="900" spc="-1" strike="noStrike">
                <a:solidFill>
                  <a:srgbClr val="eaeaea"/>
                </a:solidFill>
                <a:latin typeface="Times New Roman"/>
              </a:rPr>
              <a:t> in electric fields; the unit is also the one used to describe the energy of X-rays and gamma rays. A </a:t>
            </a:r>
            <a:r>
              <a:rPr b="1" lang="en-US" sz="900" spc="-1" strike="noStrike">
                <a:solidFill>
                  <a:srgbClr val="eaeaea"/>
                </a:solidFill>
                <a:latin typeface="Times New Roman"/>
              </a:rPr>
              <a:t>keV</a:t>
            </a:r>
            <a:r>
              <a:rPr b="0" lang="en-US" sz="900" spc="-1" strike="noStrike">
                <a:solidFill>
                  <a:srgbClr val="eaeaea"/>
                </a:solidFill>
                <a:latin typeface="Times New Roman"/>
              </a:rPr>
              <a:t> (or </a:t>
            </a:r>
            <a:r>
              <a:rPr b="1" lang="en-US" sz="900" spc="-1" strike="noStrike">
                <a:solidFill>
                  <a:srgbClr val="eaeaea"/>
                </a:solidFill>
                <a:latin typeface="Times New Roman"/>
              </a:rPr>
              <a:t>kiloelectron volt</a:t>
            </a:r>
            <a:r>
              <a:rPr b="0" lang="en-US" sz="900" spc="-1" strike="noStrike">
                <a:solidFill>
                  <a:srgbClr val="eaeaea"/>
                </a:solidFill>
                <a:latin typeface="Times New Roman"/>
              </a:rPr>
              <a:t>) is equal to 1000 electron volts. An </a:t>
            </a:r>
            <a:r>
              <a:rPr b="1" lang="en-US" sz="900" spc="-1" strike="noStrike">
                <a:solidFill>
                  <a:srgbClr val="eaeaea"/>
                </a:solidFill>
                <a:latin typeface="Times New Roman"/>
              </a:rPr>
              <a:t>MeV</a:t>
            </a:r>
            <a:r>
              <a:rPr b="0" lang="en-US" sz="900" spc="-1" strike="noStrike">
                <a:solidFill>
                  <a:srgbClr val="eaeaea"/>
                </a:solidFill>
                <a:latin typeface="Times New Roman"/>
              </a:rPr>
              <a:t> is equal to one million electron volts. A </a:t>
            </a:r>
            <a:r>
              <a:rPr b="1" lang="en-US" sz="900" spc="-1" strike="noStrike">
                <a:solidFill>
                  <a:srgbClr val="eaeaea"/>
                </a:solidFill>
                <a:latin typeface="Times New Roman"/>
              </a:rPr>
              <a:t>GeV</a:t>
            </a:r>
            <a:r>
              <a:rPr b="0" lang="en-US" sz="900" spc="-1" strike="noStrike">
                <a:solidFill>
                  <a:srgbClr val="eaeaea"/>
                </a:solidFill>
                <a:latin typeface="Times New Roman"/>
              </a:rPr>
              <a:t> is equal to one billion (109) electron volts. A </a:t>
            </a:r>
            <a:r>
              <a:rPr b="1" lang="en-US" sz="900" spc="-1" strike="noStrike">
                <a:solidFill>
                  <a:srgbClr val="eaeaea"/>
                </a:solidFill>
                <a:latin typeface="Times New Roman"/>
              </a:rPr>
              <a:t>TeV</a:t>
            </a:r>
            <a:r>
              <a:rPr b="0" lang="en-US" sz="900" spc="-1" strike="noStrike">
                <a:solidFill>
                  <a:srgbClr val="eaeaea"/>
                </a:solidFill>
                <a:latin typeface="Times New Roman"/>
              </a:rPr>
              <a:t> is equal to a million million (1012) electron volts.’ </a:t>
            </a:r>
            <a:r>
              <a:rPr b="0" lang="en-US" sz="900" spc="-1" strike="noStrike" u="sng">
                <a:solidFill>
                  <a:srgbClr val="65b2ff"/>
                </a:solidFill>
                <a:uFillTx/>
                <a:latin typeface="Times New Roman"/>
                <a:hlinkClick r:id="rId3"/>
              </a:rPr>
              <a:t>http://imagine.gsfc.nasa.gov/docs/science/how_l2/gamma_detectors.html</a:t>
            </a: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7" name="Oval 7"/>
          <p:cNvSpPr/>
          <p:nvPr/>
        </p:nvSpPr>
        <p:spPr>
          <a:xfrm>
            <a:off x="4267080" y="1371600"/>
            <a:ext cx="457200" cy="1371600"/>
          </a:xfrm>
          <a:prstGeom prst="ellipse">
            <a:avLst/>
          </a:prstGeom>
          <a:noFill/>
          <a:ln w="5724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0160" y="407880"/>
            <a:ext cx="7508880" cy="982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ccecff"/>
                </a:solidFill>
                <a:uFillTx/>
                <a:latin typeface="Arial"/>
              </a:rPr>
              <a:t>Seeing in Gamm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457200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Explorer XI launched first satellite in 1961 was the first gamma ray receiver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It picked up fewer than 100 cosmic gamma-ray photons total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CGRO satellite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The moon gives off more Gamma Rays than the sun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Mirrors don’t work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30" name="Picture 4" descr=""/>
          <p:cNvPicPr/>
          <p:nvPr/>
        </p:nvPicPr>
        <p:blipFill>
          <a:blip r:embed="rId1"/>
          <a:stretch/>
        </p:blipFill>
        <p:spPr>
          <a:xfrm>
            <a:off x="5715000" y="1447920"/>
            <a:ext cx="3429000" cy="239400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5" descr=""/>
          <p:cNvPicPr/>
          <p:nvPr/>
        </p:nvPicPr>
        <p:blipFill>
          <a:blip r:embed="rId2"/>
          <a:stretch/>
        </p:blipFill>
        <p:spPr>
          <a:xfrm>
            <a:off x="5943600" y="3886200"/>
            <a:ext cx="2743200" cy="275580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6" descr=""/>
          <p:cNvPicPr/>
          <p:nvPr/>
        </p:nvPicPr>
        <p:blipFill>
          <a:blip r:embed="rId3"/>
          <a:stretch/>
        </p:blipFill>
        <p:spPr>
          <a:xfrm>
            <a:off x="152280" y="3352680"/>
            <a:ext cx="5488200" cy="3327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ccecff"/>
                </a:solidFill>
                <a:uFillTx/>
                <a:latin typeface="Arial"/>
              </a:rPr>
              <a:t>How Do We See Gamma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39495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1-30 MeV Is the ideal range that we wish to see.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Active galaxies, pulsars, and solar flares.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Compton Scattering and how it works.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35" name="Picture 4" descr=""/>
          <p:cNvPicPr/>
          <p:nvPr/>
        </p:nvPicPr>
        <p:blipFill>
          <a:blip r:embed="rId1"/>
          <a:stretch/>
        </p:blipFill>
        <p:spPr>
          <a:xfrm>
            <a:off x="4572000" y="1828800"/>
            <a:ext cx="4114800" cy="407844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5" descr=""/>
          <p:cNvPicPr/>
          <p:nvPr/>
        </p:nvPicPr>
        <p:blipFill>
          <a:blip r:embed="rId2"/>
          <a:stretch/>
        </p:blipFill>
        <p:spPr>
          <a:xfrm>
            <a:off x="1828800" y="3809880"/>
            <a:ext cx="1936800" cy="2671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ccecff"/>
                </a:solidFill>
                <a:uFillTx/>
                <a:latin typeface="Arial"/>
              </a:rPr>
              <a:t>How Do We See in Gamma? Continued…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8" name="Picture 4" descr=""/>
          <p:cNvPicPr/>
          <p:nvPr/>
        </p:nvPicPr>
        <p:blipFill>
          <a:blip r:embed="rId1"/>
          <a:stretch/>
        </p:blipFill>
        <p:spPr>
          <a:xfrm>
            <a:off x="380880" y="2362320"/>
            <a:ext cx="4038840" cy="2482560"/>
          </a:xfrm>
          <a:prstGeom prst="rect">
            <a:avLst/>
          </a:prstGeom>
          <a:ln w="0">
            <a:noFill/>
          </a:ln>
        </p:spPr>
      </p:pic>
      <p:sp>
        <p:nvSpPr>
          <p:cNvPr id="239" name="Rectangle 5"/>
          <p:cNvSpPr/>
          <p:nvPr/>
        </p:nvSpPr>
        <p:spPr>
          <a:xfrm>
            <a:off x="537120" y="1676520"/>
            <a:ext cx="150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I’m a visual person…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40" name="Picture 6" descr=""/>
          <p:cNvPicPr/>
          <p:nvPr/>
        </p:nvPicPr>
        <p:blipFill>
          <a:blip r:embed="rId2"/>
          <a:stretch/>
        </p:blipFill>
        <p:spPr>
          <a:xfrm>
            <a:off x="4419720" y="2133720"/>
            <a:ext cx="4419360" cy="3414600"/>
          </a:xfrm>
          <a:prstGeom prst="rect">
            <a:avLst/>
          </a:prstGeom>
          <a:ln w="0">
            <a:noFill/>
          </a:ln>
        </p:spPr>
      </p:pic>
      <p:sp>
        <p:nvSpPr>
          <p:cNvPr id="241" name="Rectangle 7"/>
          <p:cNvSpPr/>
          <p:nvPr/>
        </p:nvSpPr>
        <p:spPr>
          <a:xfrm>
            <a:off x="511920" y="5715000"/>
            <a:ext cx="60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65b2ff"/>
                </a:solidFill>
                <a:uFillTx/>
                <a:latin typeface="Times New Roman"/>
                <a:hlinkClick r:id="rId3"/>
              </a:rPr>
              <a:t>http://learntech.uwe.ac.uk/radiography/RScience/interactions/comptonscatter.htm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7680" y="502920"/>
            <a:ext cx="7620120" cy="9126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ccecff"/>
                </a:solidFill>
                <a:uFillTx/>
                <a:latin typeface="Arial"/>
              </a:rPr>
              <a:t>So How Does That Work Again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Crystal Scintillators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Crystals that emit low energy light (usually visible) when hit by high energy light such as gamma radiation.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Pair Production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The physical process whereby a gamma-ray photon, usually through an interaction with the </a:t>
            </a:r>
            <a:r>
              <a:rPr b="0" lang="en-US" sz="1600" spc="-1" strike="noStrike" u="sng">
                <a:solidFill>
                  <a:srgbClr val="eaeaea"/>
                </a:solidFill>
                <a:uFillTx/>
                <a:latin typeface="Arial"/>
              </a:rPr>
              <a:t>electromagnetic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 field of a nucleus, produces an electron and an anti-electron (</a:t>
            </a:r>
            <a:r>
              <a:rPr b="0" lang="en-US" sz="1600" spc="-1" strike="noStrike" u="sng">
                <a:solidFill>
                  <a:srgbClr val="eaeaea"/>
                </a:solidFill>
                <a:uFillTx/>
                <a:latin typeface="Arial"/>
              </a:rPr>
              <a:t>positron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). The original photon no longer exists, its energy having gone to the two resulting particles. The inverse process, pair annihilation, creates two gamma-ray photons from the mutual destruction of an electron/positron pair. </a:t>
            </a:r>
            <a:r>
              <a:rPr b="0" lang="en-US" sz="1600" spc="-1" strike="noStrike" u="sng">
                <a:solidFill>
                  <a:srgbClr val="65b2ff"/>
                </a:solidFill>
                <a:uFillTx/>
                <a:latin typeface="Arial"/>
                <a:hlinkClick r:id="rId1"/>
              </a:rPr>
              <a:t>http://imagine.gsfc.nasa.gov/docs/dict_jp.html#pair_production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CGRO uses compton scattering and pair production.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Launched in April 5th, 1991 on Atlantis shuttle. Had a visual range of 30 KeV to 30 GeV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rst And Transient Source Experiment (</a:t>
            </a:r>
            <a:r>
              <a:rPr b="0" lang="en-US" sz="1600" spc="-1" strike="noStrike" u="sng">
                <a:solidFill>
                  <a:srgbClr val="003399"/>
                </a:solidFill>
                <a:uFillTx/>
                <a:latin typeface="Arial"/>
              </a:rPr>
              <a:t>BAT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, the Oriented Scintillation Spectrometer Experiment (</a:t>
            </a:r>
            <a:r>
              <a:rPr b="0" lang="en-US" sz="1600" spc="-1" strike="noStrike" u="sng">
                <a:solidFill>
                  <a:srgbClr val="003399"/>
                </a:solidFill>
                <a:uFillTx/>
                <a:latin typeface="Arial"/>
              </a:rPr>
              <a:t>OS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, the Imaging Compton Telescope (</a:t>
            </a:r>
            <a:r>
              <a:rPr b="0" lang="en-US" sz="1600" spc="-1" strike="noStrike" u="sng">
                <a:solidFill>
                  <a:srgbClr val="003399"/>
                </a:solidFill>
                <a:uFillTx/>
                <a:latin typeface="Arial"/>
              </a:rPr>
              <a:t>COMPTE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, and the Energetic Gamma Ray Experiment Telescope (</a:t>
            </a:r>
            <a:r>
              <a:rPr b="0" lang="en-US" sz="1600" spc="-1" strike="noStrike" u="sng">
                <a:solidFill>
                  <a:srgbClr val="003399"/>
                </a:solidFill>
                <a:uFillTx/>
                <a:latin typeface="Arial"/>
              </a:rPr>
              <a:t>EGRE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. </a:t>
            </a:r>
            <a:r>
              <a:rPr b="0" lang="en-US" sz="1600" spc="-1" strike="noStrike" u="sng">
                <a:solidFill>
                  <a:srgbClr val="65b2ff"/>
                </a:solidFill>
                <a:uFillTx/>
                <a:latin typeface="Arial"/>
                <a:hlinkClick r:id="rId2"/>
              </a:rPr>
              <a:t>http://cossc.gsfc.nasa.gov/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Returned to Earth on June 4th 2000.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1"/>
                </a:solidFill>
                <a:latin typeface="Times New Roman"/>
              </a:rPr>
              <a:t>Gamma-ray Large Area Space Telescope is being sent up by Nasa in 2007.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ccecff"/>
                </a:solidFill>
                <a:uFillTx/>
                <a:latin typeface="Arial"/>
              </a:rPr>
              <a:t>Gamma Ray Burster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370980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25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eaeaea"/>
                </a:solidFill>
                <a:latin typeface="Times New Roman"/>
              </a:rPr>
              <a:t>Does what it says on the box.</a:t>
            </a:r>
            <a:endParaRPr b="0" lang="en-US" sz="17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5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 u="sng">
                <a:solidFill>
                  <a:srgbClr val="65b2ff"/>
                </a:solidFill>
                <a:uFillTx/>
                <a:latin typeface="Times New Roman"/>
                <a:hlinkClick r:id="rId1"/>
              </a:rPr>
              <a:t>http://imagers.gsfc.nasa.gov/ems/gamma.html</a:t>
            </a:r>
            <a:r>
              <a:rPr b="0" lang="en-US" sz="17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17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5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eaeaea"/>
                </a:solidFill>
                <a:latin typeface="Times New Roman"/>
              </a:rPr>
              <a:t>The most energetic things in the universe that we know of.</a:t>
            </a:r>
            <a:endParaRPr b="0" lang="en-US" sz="17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5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eaeaea"/>
                </a:solidFill>
                <a:latin typeface="Times New Roman"/>
              </a:rPr>
              <a:t>More energy in 10 seconds than our sun can produce in its entire liftime of 10,000,000,000 years!</a:t>
            </a:r>
            <a:endParaRPr b="0" lang="en-US" sz="17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46" name="Picture 5" descr=""/>
          <p:cNvPicPr/>
          <p:nvPr/>
        </p:nvPicPr>
        <p:blipFill>
          <a:blip r:embed="rId2"/>
          <a:stretch/>
        </p:blipFill>
        <p:spPr>
          <a:xfrm>
            <a:off x="4114800" y="1828800"/>
            <a:ext cx="4800600" cy="362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GLAS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Gamma-Ray Large Area Space Telescope Large Area Telesco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Funded Jointly by the US, Japan, France and Swede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Accuracy of 30 Arc second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Launch in 2006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49" name="Picture 6" descr="solar"/>
          <p:cNvPicPr/>
          <p:nvPr/>
        </p:nvPicPr>
        <p:blipFill>
          <a:blip r:embed="rId1"/>
          <a:stretch/>
        </p:blipFill>
        <p:spPr>
          <a:xfrm>
            <a:off x="4956120" y="3922560"/>
            <a:ext cx="3414600" cy="217332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9" descr="glast2close"/>
          <p:cNvPicPr/>
          <p:nvPr/>
        </p:nvPicPr>
        <p:blipFill>
          <a:blip r:embed="rId2"/>
          <a:stretch/>
        </p:blipFill>
        <p:spPr>
          <a:xfrm>
            <a:off x="5214960" y="1598760"/>
            <a:ext cx="2895480" cy="21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GRO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ompton Gamma Ray Observat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Four telescopes on it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1. BATS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Base and Transient Source Experiment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2. OSS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Oriented Scintilliation Spectrometer Experiment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3. COMPT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Imaging Compton Telesco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4. EGRE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Energetic Gamma Ray Experiment Telesco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8T02:27:39Z</dcterms:created>
  <dc:creator>Dina Russell</dc:creator>
  <dc:description/>
  <dc:language>en-US</dc:language>
  <cp:lastModifiedBy>RomaK</cp:lastModifiedBy>
  <dcterms:modified xsi:type="dcterms:W3CDTF">2015-09-03T12:26:54Z</dcterms:modified>
  <cp:revision>11</cp:revision>
  <dc:subject/>
  <dc:title>Project Gamma</dc:title>
</cp:coreProperties>
</file>