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1CD5-9DCB-4D85-B8CC-857B940DC6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Wylie Ballinger and Sam Russ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ject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Wylie Ballinger and Sam Russ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° Field of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1991 as an Experimental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entered in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0° Field of View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1991 as an Experimental Progra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-entered in 2004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EGRET Discov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jor EGRET Discover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G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Gamma-Ray Astrophysics 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 Space Ag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ark, France, Germany, Italy, Spain and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Czech Republic and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elp from Russia a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G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national Gamma-Ray Astrophysics Labor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uropean Space Agency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mark, France, Germany, Italy, Spain and Switzer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+ Czech Republic and Po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th help from Russia and 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Gamma-Ray Burst over 4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http://www.rssd.esa.int/Integral/integ_image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Gamma-Ray Burst over 40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http://www.rssd.esa.int/Integral/integ_image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ol Pictur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ool Picture !!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ence.nasa.gov/newhome/headlines/ast09feb99_1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diq.com/definition/Gamma_ray_bur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utu.fi/~cflynn/astroII/l7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science.nasa.gov/newhome/headlines/ast09feb99_1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wordiq.com/definition/Gamma_ray_burs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astro.utu.fi/~cflynn/astroII/l7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mma R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st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te r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created by radioactive atoms and nuclea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test regions of the universe produc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vo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are Gamma Ray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lectron vo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in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icked up fewer than 100 cosmic gamma-ray photon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gives off more Gamma Rays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don’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eing in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picked up fewer than 100 cosmic gamma-ray photons tota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satellit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on gives off more Gamma Rays than the su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rrors don’t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Gam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30 MeV Is the ideal range that we wish to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galaxies, pulsars, and solar fl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Scattering and how it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Gamma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-30 MeV Is the ideal range that we wish to se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tive galaxies, pulsars, and solar flar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Scattering and how it work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in Gamma? Continu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a visual pers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in Gamma? Continued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How Does That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Scintill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uses compton scattering and pair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ed to Earth on June 4th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 How Does That Work Agai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Bur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what it says on the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etic things in the universe that we know o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 Ray Burst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es what it says on the box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energetic things in the universe that we know of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Large Area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Jointly by the US, Japan, France and Sw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uracy of 30 Arc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in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LA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Large Area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unded Jointly by the US, Japan, France and Swed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curacy of 30 Arc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 in 2006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Gamma Ray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elescopes on 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BAT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and Transient Sourc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O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Scintilliation Spectrometer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COMPT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 Compto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Gamma Ray Observ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r telescopes on i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BAT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e and Transient Source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OS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iented Scintilliation Spectrometer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COMPT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aging Compton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EDE-B9F9-46D6-AF80-2AFB33AD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BA4-F033-4601-A608-1B5D1DC4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F77-3DCA-4960-9612-48032D14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C71-F004-42C0-A623-4471C654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E9AE-E112-4AB1-8E29-E565FB21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1A3-DCEE-4C4C-8CD6-0DFEF798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1A9C-861E-43AC-BBF2-277D4EC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1BA8-6B66-47F9-819F-22D73225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921E-6143-439A-86CE-5A99726E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0F82-8004-4CCD-9C7D-CC36F9CE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3923-04BC-4223-AE7F-A6C944E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42B-8879-4550-A979-218CACA0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E9F2-F1D7-4EA2-A88D-77FC66FC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3351-AFB8-4FC6-9714-74AE856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5455-5657-4311-B594-97C1A2FA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C432-9A07-4A12-8AE9-3A87A07F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707D-5300-4962-9687-D81BDC96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EFC-634F-498C-8F35-6ACF9D18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E0A-8B04-47E0-A464-220AC7C2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5B6-3DC3-4954-A50A-6F7ACCC3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E7E-475E-486E-B369-A5C1B421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22A-82E0-46B1-ACD8-0DED3BE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0A4-01DD-4656-9195-A71F10A2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75F-4D76-426D-B4CC-023A0B3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EAE9-7D93-4D20-9E9A-FF487D0E37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1D9-1EA7-49B5-A22F-B95FA99EF62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heawww.gsfc.nasa.gov/docs/gamcosray/EGRET/highlights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rssd.esa.int/Integral/integ_image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hyperlink" Target="http://science.nasa.gov/newhome/headlines/ast09feb99_1.htm" TargetMode="External"/><Relationship Id="rId3" Type="http://schemas.openxmlformats.org/officeDocument/2006/relationships/hyperlink" Target="http://www.wordiq.com/definition/Gamma_ray_burst" TargetMode="External"/><Relationship Id="rId4" Type="http://schemas.openxmlformats.org/officeDocument/2006/relationships/hyperlink" Target="http://imagine.gsfc.nasa.gov/docs/science/how_l2/compton_scatter.html" TargetMode="External"/><Relationship Id="rId5" Type="http://schemas.openxmlformats.org/officeDocument/2006/relationships/hyperlink" Target="http://imagine.gsfc.nasa.gov/docs/science/how_l2/gamma_detectors.html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how_l2/gamma_detectors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imagine.gsfc.nasa.gov/docs/science/how_l2/gamma_detector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learntech.uwe.ac.uk/radiography/RScience/interactions/comptonscatter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dict_jp.html#pair_production" TargetMode="External"/><Relationship Id="rId2" Type="http://schemas.openxmlformats.org/officeDocument/2006/relationships/hyperlink" Target="http://cossc.gsfc.nasa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Project Gam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124080" y="167652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y Wylie Ballinger and Sam Russe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089440" cy="94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379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 EGR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mpton Gamma Ray Observatory Energetic Gamma Ray Experiment Telesc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° Field of 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Launched in 1991 as an Experimental Pro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Re-entered in 20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scheme_small"/>
          <p:cNvPicPr/>
          <p:nvPr/>
        </p:nvPicPr>
        <p:blipFill>
          <a:blip r:embed="rId1"/>
          <a:stretch/>
        </p:blipFill>
        <p:spPr>
          <a:xfrm>
            <a:off x="1111320" y="1689120"/>
            <a:ext cx="2724120" cy="199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untitled2"/>
          <p:cNvPicPr/>
          <p:nvPr/>
        </p:nvPicPr>
        <p:blipFill>
          <a:blip r:embed="rId2"/>
          <a:stretch/>
        </p:blipFill>
        <p:spPr>
          <a:xfrm>
            <a:off x="228600" y="3886200"/>
            <a:ext cx="1622520" cy="217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gro"/>
          <p:cNvPicPr/>
          <p:nvPr/>
        </p:nvPicPr>
        <p:blipFill>
          <a:blip r:embed="rId3"/>
          <a:stretch/>
        </p:blipFill>
        <p:spPr>
          <a:xfrm>
            <a:off x="1828800" y="3886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EGRET Discov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4037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finding of a new class of objects--high energy gamma-ray emitting blazars, or graz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observation of an increased fraction of pulsar electromagnetic radiation going into gamma rays as the age of the pulsar increases to a million ye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ermination with high certainty that cosmic rays are galactic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ailed mapping of the galactic diffuse radiation and the measurement of the pion bump in the high energy gamma-ray spectrum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absence of microsecond bursts and its implication for certain unification theorie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long trapping time of over ten hours for energetic solar particles following a flar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 measurement of the diffuse, presumably extragalactic, high energy gamma ray spectrum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lheawww.gsfc.nasa.gov/docs/gamcosray/EGRET/highlight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5" descr="untitled3"/>
          <p:cNvPicPr/>
          <p:nvPr/>
        </p:nvPicPr>
        <p:blipFill>
          <a:blip r:embed="rId2"/>
          <a:stretch/>
        </p:blipFill>
        <p:spPr>
          <a:xfrm>
            <a:off x="4645080" y="2768760"/>
            <a:ext cx="40370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catalog_sky"/>
          <p:cNvPicPr/>
          <p:nvPr/>
        </p:nvPicPr>
        <p:blipFill>
          <a:blip r:embed="rId1"/>
          <a:stretch/>
        </p:blipFill>
        <p:spPr>
          <a:xfrm>
            <a:off x="426960" y="228600"/>
            <a:ext cx="83361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G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national Gamma-Ray Astrophysics Laborat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uropean Space Agen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mark, France, Germany, Italy, Spain and Switzer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+ Czech Republic and Po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ith help from Russia and 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iant molecular cloud in the center of the galaxy that was just recently discove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9" descr="POMOct2004"/>
          <p:cNvPicPr/>
          <p:nvPr/>
        </p:nvPicPr>
        <p:blipFill>
          <a:blip r:embed="rId1"/>
          <a:stretch/>
        </p:blipFill>
        <p:spPr>
          <a:xfrm>
            <a:off x="5181480" y="1143000"/>
            <a:ext cx="3473640" cy="533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integral"/>
          <p:cNvPicPr/>
          <p:nvPr/>
        </p:nvPicPr>
        <p:blipFill>
          <a:blip r:embed="rId2"/>
          <a:stretch/>
        </p:blipFill>
        <p:spPr>
          <a:xfrm>
            <a:off x="76320" y="4191120"/>
            <a:ext cx="16840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amma-Ray Burst over 40 Secon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6" descr="untitled"/>
          <p:cNvPicPr/>
          <p:nvPr/>
        </p:nvPicPr>
        <p:blipFill>
          <a:blip r:embed="rId1"/>
          <a:stretch/>
        </p:blipFill>
        <p:spPr>
          <a:xfrm>
            <a:off x="1143000" y="1103400"/>
            <a:ext cx="6858000" cy="56084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52280" y="661356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ssd.esa.int/Integral/integ_image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 Cool Picture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6" descr="untitled4"/>
          <p:cNvPicPr/>
          <p:nvPr/>
        </p:nvPicPr>
        <p:blipFill>
          <a:blip r:embed="rId1"/>
          <a:stretch/>
        </p:blipFill>
        <p:spPr>
          <a:xfrm>
            <a:off x="14400" y="1730520"/>
            <a:ext cx="9144000" cy="42289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1"/>
              </a:rPr>
              <a:t>http://imagers.gsfc.nasa.gov/ems/gamma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2"/>
              </a:rPr>
              <a:t>http://science.nasa.gov/newhome/headlines/ast09feb99_1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3"/>
              </a:rPr>
              <a:t>http://www.wordiq.com/definition/Gamma_ray_burs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4"/>
              </a:rPr>
              <a:t>http://imagine.gsfc.nasa.gov/docs/science/how_l2/compton_scatter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5"/>
              </a:rPr>
              <a:t>http://imagine.gsfc.nasa.gov/docs/science/how_l2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1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www.astro.utu.fi/~cflynn/astroII/l7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learntech.uwe.ac.uk/radiography/RScience/interactions/comptonscatter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2/gamma_scintilla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6"/>
          <a:stretch/>
        </p:blipFill>
        <p:spPr>
          <a:xfrm>
            <a:off x="3048120" y="4940280"/>
            <a:ext cx="281916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41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Gamma Ray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90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TeV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(1,000,000,000,000 eV, where an optical photon has an energy of a few eV’ </a:t>
            </a: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6019920" cy="3352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3352680" y="4800600"/>
            <a:ext cx="34610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electron volt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The change of potential energy experienced by an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electron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moving from a place where the potential has a value of V to a place where it has a value of (V+1 volt). This is a convenient energy unit when dealing with the motions of electrons and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ions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n electric fields; the unit is also the one used to describe the energy of X-rays and gamma ray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iloelectron volt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) is equal to 1000 electron volts. An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M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million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G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billion (109)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T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a million million (1012) electron volts.’ </a:t>
            </a:r>
            <a:r>
              <a:rPr b="0" lang="en-US" sz="9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4267080" y="1371600"/>
            <a:ext cx="457200" cy="1371600"/>
          </a:xfrm>
          <a:prstGeom prst="ellipse">
            <a:avLst/>
          </a:prstGeom>
          <a:noFill/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0160" y="407880"/>
            <a:ext cx="750888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eeing in G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plorer XI launched first satellite in 1961 was the first gamma ray receive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t picked up fewer than 100 cosmic gamma-ray photons tota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GRO satelli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moon gives off more Gamma Rays than the su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irrors don’t wor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54882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ow Do We See Gamm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49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-30 MeV Is the ideal range that we wish to se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ctive galaxies, pulsars, and solar flare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mpton Scattering and how it work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14800" cy="407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19368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How Do We See in Gamma? Continu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2482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537120" y="1676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419360" cy="34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11920" y="5715000"/>
            <a:ext cx="60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learntech.uwe.ac.uk/radiography/RScience/interactions/comptonscatter.htm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7680" y="502920"/>
            <a:ext cx="7620120" cy="912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 How Does That Work Aga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electromagnetic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field of a nucleus, produces an electron and an anti-electron (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positr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. The original photon no longer exists, its energy having gone to the two resulting particles. The inverse process, pair annihilation, creates two gamma-ray photons from the mutual destruction of an electron/positron pair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dict_jp.html#pair_producti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 And Transient Source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BAT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Oriented Scintillation Spectrometer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O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Imaging Compton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COMPT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the Energetic Gamma Ray Experiment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GR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cossc.gsfc.nasa.gov/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1"/>
                </a:solidFill>
                <a:latin typeface="Times New Roman"/>
              </a:rPr>
              <a:t>Gamma-ray Large Area Space Telescope is being sent up by Nasa in 200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amma Ray Bur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709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Does what it says on the box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imagers.gsfc.nasa.gov/ems/gamma.html</a:t>
            </a: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The most energetic things in the universe that we know of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More energy in 10 seconds than our sun can produce in its entire liftime of 10,000,000,000 years!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80060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mma-Ray Large Area Space Telescope Large Area Telesco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ded Jointly by the US, Japan, France and Swed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uracy of 30 Arc sec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in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solar"/>
          <p:cNvPicPr/>
          <p:nvPr/>
        </p:nvPicPr>
        <p:blipFill>
          <a:blip r:embed="rId1"/>
          <a:stretch/>
        </p:blipFill>
        <p:spPr>
          <a:xfrm>
            <a:off x="4956120" y="3922560"/>
            <a:ext cx="3414600" cy="217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glast2close"/>
          <p:cNvPicPr/>
          <p:nvPr/>
        </p:nvPicPr>
        <p:blipFill>
          <a:blip r:embed="rId2"/>
          <a:stretch/>
        </p:blipFill>
        <p:spPr>
          <a:xfrm>
            <a:off x="521496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ton Gamma Ray Observ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 telescopes on 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BAT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ase and Transient Source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OS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riented Scintilliation Spectrometer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COMPT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ing Compton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EGR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ergetic Gamma Ray Experiment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27:39Z</dcterms:created>
  <dc:creator>Dina Russell</dc:creator>
  <dc:description/>
  <dc:language>en-US</dc:language>
  <cp:lastModifiedBy>RomaK</cp:lastModifiedBy>
  <dcterms:modified xsi:type="dcterms:W3CDTF">2015-09-03T12:26:54Z</dcterms:modified>
  <cp:revision>11</cp:revision>
  <dc:subject/>
  <dc:title>Project Gamma</dc:title>
</cp:coreProperties>
</file>