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explode.wav" ContentType="audio/x-wav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D80C-52BE-4643-A50D-6786D496BA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FC8-DE27-456C-B80B-79C84E5F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8381-32BC-49DF-8219-CA5F050F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083-C56E-40B7-9393-535CCBC0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152-B1EE-434B-94E4-C2AA5E85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74E-846A-4153-B5A9-9163B61E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A07E-2821-44A1-AABE-2221EA40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E4D-021A-469E-8C3C-F1B4CF72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C65-5033-428A-A8B4-93CCB5DF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40F-5E95-4D49-8336-00AD8FB5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3D4-E7C9-4402-9EB9-5EC40DB9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C59-BC49-48B7-97C4-FCA6E67C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DCE-D356-4926-B27A-0CC0C4C6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WH 10/04                 AQA 13.3.1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A025-D0D0-4909-B0B0-CB80EDAAF52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ravity and Circular Motion Revision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QA syllabus A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ection 13.3.1-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4775040"/>
            <a:ext cx="190512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entripetal Forc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SE EQUATIONS 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</a:rPr>
              <a:t>-1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g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r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g so r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10 = 1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Newton’s Gravitation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vector 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Universal Gravitational 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about th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two gravitating m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distance between their centres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force per unit mass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F/m in Nkg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Radi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-GM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mass of the pl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Potent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V = -GM/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di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 field strength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l to the magnitude of the Potential grad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 = -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Field strength </a:t>
            </a:r>
            <a:br>
              <a:rPr sz="4400"/>
            </a:b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066680" y="228600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Field strength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ollows an 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ades linearly to zero at the centre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ircular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owards the centre of the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Potential 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1066680" y="220968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tential graph is less st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Orbi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orbital mechan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hould be calculat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co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N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 mass of Earth M = 6.00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/ T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/(28x24x60x6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6 x 10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6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= m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= -GMm/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-GM/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= 6.67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x 6.00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/(2.6x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= 5.92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3.90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e End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ith these equations we can reach the sta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10"/>
          <p:cNvSpPr/>
          <p:nvPr/>
        </p:nvSpPr>
        <p:spPr>
          <a:xfrm>
            <a:off x="2400480" y="274320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2400480" y="27432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314880" y="2743200"/>
            <a:ext cx="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Oval 7"/>
          <p:cNvSpPr/>
          <p:nvPr/>
        </p:nvSpPr>
        <p:spPr>
          <a:xfrm>
            <a:off x="3200400" y="2629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2400480" y="354348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4114800" y="354312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3200400" y="434340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2"/>
          <p:cNvSpPr/>
          <p:nvPr/>
        </p:nvSpPr>
        <p:spPr>
          <a:xfrm flipH="1">
            <a:off x="3428640" y="2857680"/>
            <a:ext cx="80028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3314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85800" y="20574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gular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419720" y="21337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6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228600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3"/>
          <p:cNvSpPr/>
          <p:nvPr/>
        </p:nvSpPr>
        <p:spPr>
          <a:xfrm flipH="1">
            <a:off x="2362320" y="4024440"/>
            <a:ext cx="38160" cy="1004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2"/>
          <p:cNvSpPr/>
          <p:nvPr/>
        </p:nvSpPr>
        <p:spPr>
          <a:xfrm>
            <a:off x="2400480" y="402444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8"/>
          <p:cNvSpPr/>
          <p:nvPr/>
        </p:nvSpPr>
        <p:spPr>
          <a:xfrm>
            <a:off x="2400480" y="316692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7"/>
          <p:cNvSpPr/>
          <p:nvPr/>
        </p:nvSpPr>
        <p:spPr>
          <a:xfrm>
            <a:off x="3200400" y="4653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400480" y="396720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4114800" y="385272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 flipH="1">
            <a:off x="3200400" y="316692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3429000" y="4767120"/>
            <a:ext cx="1028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"/>
          <p:cNvSpPr/>
          <p:nvPr/>
        </p:nvSpPr>
        <p:spPr>
          <a:xfrm flipV="1">
            <a:off x="3314880" y="39668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197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8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400068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3200400" y="322416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4114800" y="3110040"/>
            <a:ext cx="0" cy="799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3"/>
          <p:cNvSpPr/>
          <p:nvPr/>
        </p:nvSpPr>
        <p:spPr>
          <a:xfrm>
            <a:off x="3314880" y="4824360"/>
            <a:ext cx="11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2"/>
          <p:cNvSpPr/>
          <p:nvPr/>
        </p:nvSpPr>
        <p:spPr>
          <a:xfrm flipH="1">
            <a:off x="3200040" y="4024440"/>
            <a:ext cx="800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ngular spe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gular speed can be measured in ms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adians per second)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ev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evolutions per seco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nverting  to </a:t>
            </a: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ω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 = v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 revs per second 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ply by 2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ccel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8:19:37Z</dcterms:created>
  <dc:creator>Hughes</dc:creator>
  <dc:description/>
  <dc:language>en-US</dc:language>
  <cp:lastModifiedBy>RomaK</cp:lastModifiedBy>
  <dcterms:modified xsi:type="dcterms:W3CDTF">2015-09-03T12:27:31Z</dcterms:modified>
  <cp:revision>24</cp:revision>
  <dc:subject/>
  <dc:title>Gravity and Circular Motion Revision</dc:title>
</cp:coreProperties>
</file>