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explode.wav" ContentType="audio/x-wav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59DDF-DDD9-408A-966A-9B1531F82EB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and Circular Motion Revis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QA syllabus A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tion 13.3.1-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W.Hug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vity and Circular Motion Revisio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QA syllabus A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ction 13.3.1-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.W.Hugh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ipetal Force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ral force equ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= m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the centripetal force equ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= mv2/r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= m ω2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EQUATIONS MUST BE LEARNED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ntripetal Force Equ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eneral force equation 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 = ma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 the centripetal force equation 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 = mv2/r 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 = m ω2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SE EQUATIONS MUST BE LEARNED!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rovides the accelerating force to keep objects in contact with a humpback bridge. What is the minimum radius of a bridge that a wheel will stay in contact with the road at 10 ms-1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 = 10 ms-1, g = 10 ms-2, r =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= v2/r = g so r = v2/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= 102/10 = 10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p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vity provides the accelerating force to keep objects in contact with a humpback bridge. What is the minimum radius of a bridge that a wheel will stay in contact with the road at 10 ms-1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 = 10 ms-1, g = 10 ms-2, r = 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= v2/r = g so r = v2/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 = 102/10 = 10 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ton’s Gravitation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ton’s Gravitation equ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= -Gm1m2/r2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T BE LEARNED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sig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vector 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al Gravitational Cons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wton’s Gravitation Equ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wton’s Gravitation equation 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 = -Gm1m2/r2               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UST BE LEARNED!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gative sign 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vector sig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 i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niversal Gravitational Consta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about the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1 and m2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wo gravitating m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tance between their centres of gr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quation is an example of 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rse square l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re about the equ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1 and m2 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two gravitating mas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 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istance between their centres of grav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quation is an example of 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verse square la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ational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avitational field is an area of space subject to the force of gravity. Due to the inverse square law relationship, the strength of the field fades quickly with dist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eld strength is defined 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rce per unit mass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 = F/m in Nkg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vitational fiel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gravitational field is an area of space subject to the force of gravity. Due to the inverse square law relationship, the strength of the field fades quickly with distanc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field strength is defined 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force per unit mass 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 = F/m in Nkg-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l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 and other spherical objects exhibit radial fields, that is the field fades along the radius extending into space from the centre of the planet according to the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 = -GM/r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M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ss of the pla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dial Fiel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lanets and other spherical objects exhibit radial fields, that is the field fades along the radius extending into space from the centre of the planet according to the equ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 = -GM/r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re M i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ass of the plan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ational Pot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 is a measure of the energy in the field at a point compared to an infinite distance a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zero of potential is defin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i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 at a poin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done to move unit mass from infinity to that point. It has a negative val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quation for potential in a radial field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 = -GM/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vitational Potent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tential is a measure of the energy in the field at a point compared to an infinite distance a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zero of potential is defined 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fin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tential at a point 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done to move unit mass from infinity to that point. It has a negative valu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quation for potential in a radial field 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 = -GM/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tronger gravitational fields, the potential graph is steeper. The potential gradien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ΔV/Δ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field strength g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al to the magnitude of the Potential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 = -ΔV/Δ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tential Gradi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stronger gravitational fields, the potential graph is steeper. The potential gradient 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ΔV/Δ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d the field strength g 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qual to the magnitude of the Potential gradi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 = -ΔV/Δ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 of Field strengt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st di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ph of Field strength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gainst distanc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eld strength graph n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side the planet field str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s an inverse square l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ide the planet field streng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des linearly to zero at the centre of gr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eld strength is alw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eld strength graph not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utside the planet field streng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llows an inverse square la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side the planet field strength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ades linearly to zero at the centre of grav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eld strength is alway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siti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n object undergoes circular motion it must experience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ipetal fo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oduces an accel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wards the centre of the cir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ircular mo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n an object undergoes circular motion it must experience 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ntripetal for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produces an accele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wards the centre of the circ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 of Potential against di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ph of Potential against distanc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 Graph N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 is alw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 has zero value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i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d to Field strength grap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 graph is less st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tential Graph Not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tential is alway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gati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tential has zero value 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fin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mpared to Field strength graph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tential graph is less stee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orbits follow the simple rules of gravitation and circular motion. We can put the force equations equal to each 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= mv2/r = -Gm1m2/r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e can calculate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2 = -Gm1/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rbi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ircular orbits follow the simple rules of gravitation and circular motion. We can put the force equations equal to each othe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 = mv2/r = -Gm1m2/r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 we can calculate v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2 = -Gm1/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orbital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 T is the time for a complete orbit, a year. It is given by the formul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= 2π / 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should be calculated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re orbital mechan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iod T is the time for a complete orbit, a year. It is given by the formul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 = 2π / ω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d should be calculated 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cond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on orbits the Earth once every 28 days approximately. What is the approximate radius of its orbit? G = 6.67 x 10-11 Nm2kg-2,  mass of Earth M = 6.00 x 1024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ω = 2π / T = 2π/(28x24x60x60)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6 x 10-6 rads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= mω2r = -GMm/r2 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3 = -GM/ω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p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oon orbits the Earth once every 28 days approximately. What is the approximate radius of its orbit? G = 6.67 x 10-11 Nm2kg-2,  mass of Earth M = 6.00 x 1024 k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ω = 2π / T = 2π/(28x24x60x60) =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6 x 10-6 rads-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 = mω2r = -GMm/r2 s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3 = -GM/ω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xample continu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r3 = 6.67 x 10-11 x 6.00 x 1024/(2.6x10-6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= 5.92 x 10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r = 3.90 x 108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Example continu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r3 = 6.67 x 10-11 x 6.00 x 1024/(2.6x10-6)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= 5.92 x 102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r = 3.90 x 108 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these equations we can reach the star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nd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ith these equations we can reach the stars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ular Sp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ipetal Fo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gular Spe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ntripetal For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ular sp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ular speed can be measured in ms-1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s-1 (radians per second)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s-1 (revolutions per secon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ymbol for angular speed in radians per second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gular spe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gular speed can be measured in ms-1 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ds-1 (radians per second) 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vs-1 (revolutions per second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ymbol for angular speed in radians per second 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ω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ing  to ω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onvert v to 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ω = v/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onvert revs per second to 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by 2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verting  to ω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convert v to ω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ω = v/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convert revs per second to ω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ultiply by 2π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el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cceleration towards the centre of the circl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= v2/r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= ω2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cele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cceleration towards the centre of the circle 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= v2/r 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= ω2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3E1F-BA29-4C35-84D6-44717A808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D660-7ACD-4127-A471-7E1A6DFCA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0D1A-A295-4A9F-99DD-9198061E5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456B-E1B3-4E86-AEF3-14AE85A69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0ECC-96A3-4727-8724-440E9D4D0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6EC4-91D9-4C12-94DF-31AB1E0EA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ADD6-EABD-4667-9AD1-F3A6019E8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D64C-208E-4528-9F55-DB8E77617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3404-1AC0-4FEB-86D4-E2106E0E1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80C1-47D3-4F3C-91C6-88493A20C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7F30-D974-489D-9E9D-2699639F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3979-0D49-4C78-AAB1-6039036DD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BWH 10/04                 AQA 13.3.1-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2F262-7068-4014-A4A1-2C3817D2CCA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Gravity and Circular Motion Revision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AQA syllabus A 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Section 13.3.1-6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.W.Hugh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380880" y="4775040"/>
            <a:ext cx="1905120" cy="15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Centripetal Force Equ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general force equation 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F = ma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o the centripetal force equation 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F = mv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/r 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F = m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ω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SE EQUATIONS MUST BE LEARNED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Exam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Gravity provides the accelerating force to keep objects in contact with a humpback bridge. What is the minimum radius of a bridge that a wheel will stay in contact with the road at 10 ms</a:t>
            </a:r>
            <a:r>
              <a:rPr b="0" lang="en-GB" sz="2800" spc="-1" strike="noStrike" baseline="30000">
                <a:solidFill>
                  <a:srgbClr val="ffffff"/>
                </a:solidFill>
                <a:latin typeface="Times New Roman"/>
              </a:rPr>
              <a:t>-1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v = 10 ms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-1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, g = 10 ms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-2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, r =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a = v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/r = g so r = v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/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r = 10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/10 = 10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Newton’s Gravitation Equ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ewton’s Gravitation equation 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F = -Gm</a:t>
            </a:r>
            <a:r>
              <a:rPr b="1" lang="en-GB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m</a:t>
            </a:r>
            <a:r>
              <a:rPr b="1" lang="en-GB" sz="28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/r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2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MUST BE LEARNED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egative sign 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a vector sig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is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Universal Gravitational Const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More about the equ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imes New Roman"/>
              </a:rPr>
              <a:t>1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nd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 m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the two gravitating m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the distance between their centres of grav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equation is an example of 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Inverse square la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Gravitational fiel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 gravitational field is an area of space subject to the force of gravity. Due to the inverse square law relationship, the strength of the field fades quickly with dista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field strength is defined 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The force per unit mass 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g = F/m in Nkg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Radial Fiel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lanets and other spherical objects exhibit radial fields, that is the field fades along the radius extending into space from the centre of the planet according to the equ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g = -GM/r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here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i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the mass of the plan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Gravitational Potenti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tential is a measure of the energy in the field at a point compared to an infinite distance aw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zero of potential is defined 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Infin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tential at a point 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the work done to move unit mass from infinity to that point. It has a negative valu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The equation for potential in a radial field 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V = -GM/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Potential Gradi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 stronger gravitational fields, the potential graph is steeper. The potential gradient 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ΔV/Δ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the field strength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qual to the magnitude of the Potential gradi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 = -ΔV/Δ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Graph of Field strength </a:t>
            </a:r>
            <a:br>
              <a:rPr sz="4400"/>
            </a:b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against distance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13" name="Object 4"/>
          <p:cNvGraphicFramePr/>
          <p:nvPr/>
        </p:nvGraphicFramePr>
        <p:xfrm>
          <a:off x="1066680" y="2286000"/>
          <a:ext cx="7096320" cy="3714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286000"/>
                    <a:ext cx="7096320" cy="37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Field strength graph no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utside the planet field streng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follows an inverse square la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side the planet field strength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fades linearly to zero at the centre of grav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ield strength is alwa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posi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Circular mo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hen an object undergoes circular motion it must experience 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centripetal for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is produces an accele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towards the centre of the circ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Graph of Potential against distance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18" name="Object 3"/>
          <p:cNvGraphicFramePr/>
          <p:nvPr/>
        </p:nvGraphicFramePr>
        <p:xfrm>
          <a:off x="1066680" y="2209680"/>
          <a:ext cx="7096320" cy="3714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209680"/>
                    <a:ext cx="7096320" cy="37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Potential Graph No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otential is alwa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neg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otential has zero value 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infin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mpared to Field strength graph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Potential graph is less stee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Orbi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ircular orbits follow the simple rules of gravitation and circular motion. We can put the force equations equal to each ot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F = mv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/r = -Gm</a:t>
            </a:r>
            <a:r>
              <a:rPr b="1" lang="en-GB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m</a:t>
            </a:r>
            <a:r>
              <a:rPr b="1" lang="en-GB" sz="28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/r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So we can calculate 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= -Gm</a:t>
            </a:r>
            <a:r>
              <a:rPr b="1" lang="en-GB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/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More orbital mechan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eriod T is the time for a complete orbit, a year. It is given by the formul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T =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π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/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should be calculated 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co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Exam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Moon orbits the Earth once every 28 days approximately. What is the approximate radius of its orbit? G = 6.67 x 10</a:t>
            </a:r>
            <a:r>
              <a:rPr b="0" lang="en-GB" sz="2400" spc="-1" strike="noStrike" baseline="30000">
                <a:solidFill>
                  <a:srgbClr val="ffffff"/>
                </a:solidFill>
                <a:latin typeface="Times New Roman"/>
              </a:rPr>
              <a:t>-11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Nm</a:t>
            </a:r>
            <a:r>
              <a:rPr b="0" lang="en-GB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kg</a:t>
            </a:r>
            <a:r>
              <a:rPr b="0" lang="en-GB" sz="24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,  mass of Earth M = 6.00 x 10</a:t>
            </a:r>
            <a:r>
              <a:rPr b="0" lang="en-GB" sz="2400" spc="-1" strike="noStrike" baseline="30000">
                <a:solidFill>
                  <a:srgbClr val="ffffff"/>
                </a:solidFill>
                <a:latin typeface="Times New Roman"/>
              </a:rPr>
              <a:t>24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k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ω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 =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π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 / T =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π/(28x24x60x60) =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6 x 10</a:t>
            </a:r>
            <a:r>
              <a:rPr b="1" lang="en-GB" sz="24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-6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rads</a:t>
            </a:r>
            <a:r>
              <a:rPr b="1" lang="en-GB" sz="24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 = mω</a:t>
            </a:r>
            <a:r>
              <a:rPr b="1" lang="en-GB" sz="24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 = -GMm/r</a:t>
            </a:r>
            <a:r>
              <a:rPr b="1" lang="en-GB" sz="24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s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= -GM/ω</a:t>
            </a:r>
            <a:r>
              <a:rPr b="1" lang="en-GB" sz="24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Example continu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1" lang="en-GB" sz="28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 = 6.67 x 10</a:t>
            </a:r>
            <a:r>
              <a:rPr b="1" lang="en-GB" sz="2800" spc="-1" strike="noStrike" baseline="30000">
                <a:solidFill>
                  <a:srgbClr val="ffffff"/>
                </a:solidFill>
                <a:latin typeface="Times New Roman"/>
              </a:rPr>
              <a:t>-11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 x 6.00 x 10</a:t>
            </a:r>
            <a:r>
              <a:rPr b="1" lang="en-GB" sz="2800" spc="-1" strike="noStrike" baseline="30000">
                <a:solidFill>
                  <a:srgbClr val="ffffff"/>
                </a:solidFill>
                <a:latin typeface="Times New Roman"/>
              </a:rPr>
              <a:t>24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/(2.6x10</a:t>
            </a:r>
            <a:r>
              <a:rPr b="1" lang="en-GB" sz="28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GB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= 5.92 x 10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2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r = 3.90 x 10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8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00"/>
                </a:solidFill>
                <a:uFillTx/>
                <a:latin typeface="Times New Roman"/>
              </a:rPr>
              <a:t>The End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With these equations we can reach the star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6172200" y="0"/>
            <a:ext cx="297180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Oval 10"/>
          <p:cNvSpPr/>
          <p:nvPr/>
        </p:nvSpPr>
        <p:spPr>
          <a:xfrm>
            <a:off x="2400480" y="2743200"/>
            <a:ext cx="1714320" cy="1600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Line 9"/>
          <p:cNvSpPr/>
          <p:nvPr/>
        </p:nvSpPr>
        <p:spPr>
          <a:xfrm flipH="1">
            <a:off x="2400480" y="274320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Line 8"/>
          <p:cNvSpPr/>
          <p:nvPr/>
        </p:nvSpPr>
        <p:spPr>
          <a:xfrm>
            <a:off x="3314880" y="2743200"/>
            <a:ext cx="0" cy="800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Oval 7"/>
          <p:cNvSpPr/>
          <p:nvPr/>
        </p:nvSpPr>
        <p:spPr>
          <a:xfrm>
            <a:off x="3200400" y="26290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Line 5"/>
          <p:cNvSpPr/>
          <p:nvPr/>
        </p:nvSpPr>
        <p:spPr>
          <a:xfrm>
            <a:off x="2400480" y="3543480"/>
            <a:ext cx="0" cy="114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Line 4"/>
          <p:cNvSpPr/>
          <p:nvPr/>
        </p:nvSpPr>
        <p:spPr>
          <a:xfrm flipV="1">
            <a:off x="4114800" y="3543120"/>
            <a:ext cx="0" cy="114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Line 3"/>
          <p:cNvSpPr/>
          <p:nvPr/>
        </p:nvSpPr>
        <p:spPr>
          <a:xfrm>
            <a:off x="3200400" y="4343400"/>
            <a:ext cx="114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Line 2"/>
          <p:cNvSpPr/>
          <p:nvPr/>
        </p:nvSpPr>
        <p:spPr>
          <a:xfrm flipH="1">
            <a:off x="3428640" y="2857680"/>
            <a:ext cx="800280" cy="34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Rectangle 14"/>
          <p:cNvSpPr/>
          <p:nvPr/>
        </p:nvSpPr>
        <p:spPr>
          <a:xfrm>
            <a:off x="0" y="331488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685800" y="2057400"/>
            <a:ext cx="167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Angular Spe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419720" y="2133720"/>
            <a:ext cx="205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Centripetal For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Oval 6"/>
          <p:cNvSpPr/>
          <p:nvPr/>
        </p:nvSpPr>
        <p:spPr>
          <a:xfrm>
            <a:off x="2400480" y="3224160"/>
            <a:ext cx="1714320" cy="1600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Oval 5"/>
          <p:cNvSpPr/>
          <p:nvPr/>
        </p:nvSpPr>
        <p:spPr>
          <a:xfrm>
            <a:off x="2286000" y="390996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Line 4"/>
          <p:cNvSpPr/>
          <p:nvPr/>
        </p:nvSpPr>
        <p:spPr>
          <a:xfrm>
            <a:off x="2400480" y="4024440"/>
            <a:ext cx="0" cy="11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Line 3"/>
          <p:cNvSpPr/>
          <p:nvPr/>
        </p:nvSpPr>
        <p:spPr>
          <a:xfrm flipH="1">
            <a:off x="2362320" y="4024440"/>
            <a:ext cx="38160" cy="10047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Line 2"/>
          <p:cNvSpPr/>
          <p:nvPr/>
        </p:nvSpPr>
        <p:spPr>
          <a:xfrm>
            <a:off x="2400480" y="402444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0" y="203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0" y="20350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Oval 8"/>
          <p:cNvSpPr/>
          <p:nvPr/>
        </p:nvSpPr>
        <p:spPr>
          <a:xfrm>
            <a:off x="2400480" y="3166920"/>
            <a:ext cx="1714320" cy="1600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Oval 7"/>
          <p:cNvSpPr/>
          <p:nvPr/>
        </p:nvSpPr>
        <p:spPr>
          <a:xfrm>
            <a:off x="3200400" y="46530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Line 6"/>
          <p:cNvSpPr/>
          <p:nvPr/>
        </p:nvSpPr>
        <p:spPr>
          <a:xfrm>
            <a:off x="2400480" y="3967200"/>
            <a:ext cx="0" cy="114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Line 5"/>
          <p:cNvSpPr/>
          <p:nvPr/>
        </p:nvSpPr>
        <p:spPr>
          <a:xfrm flipV="1">
            <a:off x="4114800" y="3852720"/>
            <a:ext cx="0" cy="114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Line 4"/>
          <p:cNvSpPr/>
          <p:nvPr/>
        </p:nvSpPr>
        <p:spPr>
          <a:xfrm flipH="1">
            <a:off x="3200400" y="3166920"/>
            <a:ext cx="114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Line 3"/>
          <p:cNvSpPr/>
          <p:nvPr/>
        </p:nvSpPr>
        <p:spPr>
          <a:xfrm>
            <a:off x="3429000" y="4767120"/>
            <a:ext cx="10288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Line 2"/>
          <p:cNvSpPr/>
          <p:nvPr/>
        </p:nvSpPr>
        <p:spPr>
          <a:xfrm flipV="1">
            <a:off x="3314880" y="396684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Rectangle 9"/>
          <p:cNvSpPr/>
          <p:nvPr/>
        </p:nvSpPr>
        <p:spPr>
          <a:xfrm>
            <a:off x="0" y="197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Rectangle 10"/>
          <p:cNvSpPr/>
          <p:nvPr/>
        </p:nvSpPr>
        <p:spPr>
          <a:xfrm>
            <a:off x="0" y="19782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Oval 8"/>
          <p:cNvSpPr/>
          <p:nvPr/>
        </p:nvSpPr>
        <p:spPr>
          <a:xfrm>
            <a:off x="2400480" y="3224160"/>
            <a:ext cx="1714320" cy="1600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Oval 7"/>
          <p:cNvSpPr/>
          <p:nvPr/>
        </p:nvSpPr>
        <p:spPr>
          <a:xfrm>
            <a:off x="4000680" y="390996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Line 6"/>
          <p:cNvSpPr/>
          <p:nvPr/>
        </p:nvSpPr>
        <p:spPr>
          <a:xfrm>
            <a:off x="2400480" y="4024440"/>
            <a:ext cx="0" cy="114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Line 5"/>
          <p:cNvSpPr/>
          <p:nvPr/>
        </p:nvSpPr>
        <p:spPr>
          <a:xfrm flipH="1">
            <a:off x="3200400" y="3224160"/>
            <a:ext cx="114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Line 4"/>
          <p:cNvSpPr/>
          <p:nvPr/>
        </p:nvSpPr>
        <p:spPr>
          <a:xfrm flipV="1">
            <a:off x="4114800" y="3110040"/>
            <a:ext cx="0" cy="799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Line 3"/>
          <p:cNvSpPr/>
          <p:nvPr/>
        </p:nvSpPr>
        <p:spPr>
          <a:xfrm>
            <a:off x="3314880" y="4824360"/>
            <a:ext cx="114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Line 2"/>
          <p:cNvSpPr/>
          <p:nvPr/>
        </p:nvSpPr>
        <p:spPr>
          <a:xfrm flipH="1">
            <a:off x="3200040" y="4024440"/>
            <a:ext cx="8002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0" y="203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20350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Angular spe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ngular speed can be measured in ms</a:t>
            </a:r>
            <a:r>
              <a:rPr b="0" lang="en-GB" sz="2400" spc="-1" strike="noStrike" baseline="30000">
                <a:solidFill>
                  <a:srgbClr val="ffffff"/>
                </a:solidFill>
                <a:latin typeface="Times New Roman"/>
              </a:rPr>
              <a:t>-1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Rads</a:t>
            </a:r>
            <a:r>
              <a:rPr b="1" lang="en-GB" sz="2400" spc="-1" strike="noStrike" baseline="30000">
                <a:solidFill>
                  <a:srgbClr val="ffff00"/>
                </a:solidFill>
                <a:latin typeface="Times New Roman"/>
              </a:rPr>
              <a:t>-1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(radians per second) 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Revs</a:t>
            </a:r>
            <a:r>
              <a:rPr b="1" lang="en-GB" sz="2400" spc="-1" strike="noStrike" baseline="30000">
                <a:solidFill>
                  <a:srgbClr val="ffff00"/>
                </a:solidFill>
                <a:latin typeface="Times New Roman"/>
              </a:rPr>
              <a:t>-1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(revolutions per secon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symbol for angular speed in radians per second 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Converting  to </a:t>
            </a: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ω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convert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ω = v/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convert revs per second to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ultiply by 2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Acceler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acceleration towards the centre of the circle 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a = v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/r 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a =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ω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8:19:37Z</dcterms:created>
  <dc:creator>Hughes</dc:creator>
  <dc:description/>
  <dc:language>en-US</dc:language>
  <cp:lastModifiedBy>RomaK</cp:lastModifiedBy>
  <dcterms:modified xsi:type="dcterms:W3CDTF">2015-09-03T12:27:31Z</dcterms:modified>
  <cp:revision>24</cp:revision>
  <dc:subject/>
  <dc:title>Gravity and Circular Motion Revision</dc:title>
</cp:coreProperties>
</file>