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B1F1-EDFF-4312-9627-F5341D162C6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5E6-B9B5-4487-834A-B911EAA4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3B61-F85F-4327-952B-303E54E5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252F-1665-4CB7-8F3F-24EFF9C3A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6A84-FC47-46D2-A759-89CD4C4AC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CDB8-1B67-4333-A3B2-115AE2D9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305-4546-4513-98D4-8A321DCD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A5CB-61CB-4CC8-837E-8AACF449E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6EB3-8BA0-4807-A1D2-FA25F740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0662-5FD8-4606-9DE7-32A83FD3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8596-62A4-4A37-80FF-CD4AFC4E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6D7C-DB4E-45D8-9667-4BBB90214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A88-5438-4EC6-A135-553EBDDFC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D6B0-342F-467E-AAD6-AB98D43B6D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paration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u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bstances for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se – to separate and identify components of mix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veral different types - paper, thin layer, gas-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l use the principle of “partition” - affinity between two phases, to separate mixtures of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ationary phase &amp;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mpounds with greatest affinity for mobile phase travel fur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All chromatography needs</a:t>
            </a:r>
            <a:r>
              <a:rPr b="0" lang="en-GB" sz="3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8"/>
          <p:cNvGraphicFramePr/>
          <p:nvPr/>
        </p:nvGraphicFramePr>
        <p:xfrm>
          <a:off x="838080" y="2944800"/>
          <a:ext cx="7696440" cy="363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44800"/>
                    <a:ext cx="769644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upport material – stationary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olvent (or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carrier ga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 –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thin layer"/>
          <p:cNvPicPr/>
          <p:nvPr/>
        </p:nvPicPr>
        <p:blipFill>
          <a:blip r:embed="rId1"/>
          <a:stretch/>
        </p:blipFill>
        <p:spPr>
          <a:xfrm>
            <a:off x="457200" y="2133720"/>
            <a:ext cx="4343400" cy="3232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asure 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phases"/>
          <p:cNvPicPr/>
          <p:nvPr/>
        </p:nvPicPr>
        <p:blipFill>
          <a:blip r:embed="rId1"/>
          <a:stretch/>
        </p:blipFill>
        <p:spPr>
          <a:xfrm>
            <a:off x="609480" y="2057400"/>
            <a:ext cx="4191120" cy="351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rf value"/>
          <p:cNvPicPr/>
          <p:nvPr/>
        </p:nvPicPr>
        <p:blipFill>
          <a:blip r:embed="rId2"/>
          <a:stretch/>
        </p:blipFill>
        <p:spPr>
          <a:xfrm>
            <a:off x="4952880" y="2057400"/>
            <a:ext cx="37339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8" descr="glc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2690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4724280" y="1676520"/>
            <a:ext cx="4038840" cy="3787560"/>
            <a:chOff x="4724280" y="1676520"/>
            <a:chExt cx="4038840" cy="3787560"/>
          </a:xfrm>
        </p:grpSpPr>
        <p:sp>
          <p:nvSpPr>
            <p:cNvPr id="65" name="Text Box 8"/>
            <p:cNvSpPr/>
            <p:nvPr/>
          </p:nvSpPr>
          <p:spPr>
            <a:xfrm>
              <a:off x="4724280" y="1676520"/>
              <a:ext cx="37386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Sample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introduced by syrin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4724280" y="2514600"/>
              <a:ext cx="403884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Column 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separates componen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(Heated in ov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0"/>
            <p:cNvSpPr/>
            <p:nvPr/>
          </p:nvSpPr>
          <p:spPr>
            <a:xfrm>
              <a:off x="4724280" y="3505320"/>
              <a:ext cx="4038840" cy="79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Detecto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monitors compounds emerging from outle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1"/>
            <p:cNvSpPr/>
            <p:nvPr/>
          </p:nvSpPr>
          <p:spPr>
            <a:xfrm>
              <a:off x="4876920" y="4800600"/>
              <a:ext cx="365760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Recorde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plots signals as a chromatogra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6318360" y="2075040"/>
              <a:ext cx="14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6324480" y="3200400"/>
              <a:ext cx="180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6324480" y="4343400"/>
              <a:ext cx="18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mpounds that have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high affinity for mobile pha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emerge first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(most volati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hromatogram charts recorder response agains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ach component - separate p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Retention tim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– characteristic of the compound under given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Factors affecting retention ti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length of colu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packing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8000"/>
                </a:solidFill>
                <a:latin typeface="Courier New"/>
              </a:rPr>
              <a:t>typ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flow rat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temperature of colum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glc print"/>
          <p:cNvPicPr/>
          <p:nvPr/>
        </p:nvPicPr>
        <p:blipFill>
          <a:blip r:embed="rId1"/>
          <a:stretch/>
        </p:blipFill>
        <p:spPr>
          <a:xfrm>
            <a:off x="1066680" y="1143000"/>
            <a:ext cx="7391520" cy="2502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alibratio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– known compounds are added to the column and conditions kept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mount of substance – area under peak / peak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Relative proportion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can be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2:10Z</dcterms:created>
  <dc:creator>M Tyrrell</dc:creator>
  <dc:description/>
  <dc:language>en-US</dc:language>
  <cp:lastModifiedBy>RomaK</cp:lastModifiedBy>
  <cp:lastPrinted>2002-03-13T20:23:37Z</cp:lastPrinted>
  <dcterms:modified xsi:type="dcterms:W3CDTF">2015-09-01T16:21:39Z</dcterms:modified>
  <cp:revision>19</cp:revision>
  <dc:subject/>
  <dc:title>chromatography</dc:title>
</cp:coreProperties>
</file>